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16AF-C8F8-46D1-A502-304CC8067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3774-3A96-4A86-8F64-ACA4B53C0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197C-08EC-447D-A5DB-95F2DB23B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11FA-A61B-4F9D-B877-098F9EF35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9D46-73D7-4141-9AC8-E2118A9BF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CB42-F70E-4AD3-BDC2-D2ACC08CF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FF04-6A5A-4410-8148-513F3FFDD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669C-92FA-45FA-A297-D825DDCBA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7E17-00E3-43D7-810A-B84CB0A96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208C-28AE-471E-93FE-710D5701D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F619-51CC-4F19-8D3E-50F629EAC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BD6D-C20F-4222-AA8E-502B59A38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32BBB-7F5D-4451-9A30-4B26100BDE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.O. Revise for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nd the gradients of the lines betwe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1, 2) and (4, 8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6, -3) and (8, -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09960" y="3786120"/>
            <a:ext cx="677880" cy="179280"/>
          </a:xfrm>
          <a:custGeom>
            <a:avLst/>
            <a:gdLst/>
            <a:ahLst/>
            <a:rect l="l" t="t" r="r" b="b"/>
            <a:pathLst>
              <a:path w="1886" h="497">
                <a:moveTo>
                  <a:pt x="8607" y="10592"/>
                </a:moveTo>
                <a:cubicBezTo>
                  <a:pt x="8653" y="10572"/>
                  <a:pt x="8695" y="10576"/>
                  <a:pt x="8706" y="10542"/>
                </a:cubicBezTo>
                <a:cubicBezTo>
                  <a:pt x="8696" y="10511"/>
                  <a:pt x="8652" y="10503"/>
                  <a:pt x="8607" y="10517"/>
                </a:cubicBezTo>
                <a:cubicBezTo>
                  <a:pt x="8537" y="10538"/>
                  <a:pt x="8432" y="10586"/>
                  <a:pt x="8384" y="10641"/>
                </a:cubicBezTo>
                <a:cubicBezTo>
                  <a:pt x="8351" y="10679"/>
                  <a:pt x="8339" y="10759"/>
                  <a:pt x="8384" y="10790"/>
                </a:cubicBezTo>
                <a:cubicBezTo>
                  <a:pt x="8462" y="10844"/>
                  <a:pt x="8550" y="10830"/>
                  <a:pt x="8632" y="10864"/>
                </a:cubicBezTo>
                <a:cubicBezTo>
                  <a:pt x="8684" y="10886"/>
                  <a:pt x="8695" y="10892"/>
                  <a:pt x="8706" y="10939"/>
                </a:cubicBezTo>
                <a:cubicBezTo>
                  <a:pt x="8692" y="10999"/>
                  <a:pt x="8667" y="10988"/>
                  <a:pt x="8607" y="10988"/>
                </a:cubicBezTo>
                <a:cubicBezTo>
                  <a:pt x="8557" y="10988"/>
                  <a:pt x="8489" y="10958"/>
                  <a:pt x="8508" y="10889"/>
                </a:cubicBezTo>
                <a:cubicBezTo>
                  <a:pt x="8526" y="10821"/>
                  <a:pt x="8610" y="10741"/>
                  <a:pt x="8657" y="10691"/>
                </a:cubicBezTo>
                <a:cubicBezTo>
                  <a:pt x="8673" y="10674"/>
                  <a:pt x="8690" y="10658"/>
                  <a:pt x="8706" y="10641"/>
                </a:cubicBezTo>
              </a:path>
              <a:path w="1886" h="497">
                <a:moveTo>
                  <a:pt x="8954" y="10790"/>
                </a:moveTo>
                <a:cubicBezTo>
                  <a:pt x="8998" y="10781"/>
                  <a:pt x="9032" y="10765"/>
                  <a:pt x="9079" y="10765"/>
                </a:cubicBezTo>
                <a:cubicBezTo>
                  <a:pt x="9120" y="10765"/>
                  <a:pt x="9128" y="10765"/>
                  <a:pt x="9153" y="10765"/>
                </a:cubicBezTo>
              </a:path>
              <a:path w="1886" h="497">
                <a:moveTo>
                  <a:pt x="9351" y="10666"/>
                </a:moveTo>
                <a:cubicBezTo>
                  <a:pt x="9351" y="10611"/>
                  <a:pt x="9338" y="10545"/>
                  <a:pt x="9401" y="10517"/>
                </a:cubicBezTo>
                <a:cubicBezTo>
                  <a:pt x="9442" y="10499"/>
                  <a:pt x="9496" y="10516"/>
                  <a:pt x="9525" y="10542"/>
                </a:cubicBezTo>
                <a:cubicBezTo>
                  <a:pt x="9579" y="10590"/>
                  <a:pt x="9545" y="10660"/>
                  <a:pt x="9525" y="10716"/>
                </a:cubicBezTo>
                <a:cubicBezTo>
                  <a:pt x="9498" y="10793"/>
                  <a:pt x="9455" y="10859"/>
                  <a:pt x="9451" y="10939"/>
                </a:cubicBezTo>
                <a:cubicBezTo>
                  <a:pt x="9447" y="11017"/>
                  <a:pt x="9503" y="11033"/>
                  <a:pt x="9575" y="11013"/>
                </a:cubicBezTo>
                <a:cubicBezTo>
                  <a:pt x="9639" y="10995"/>
                  <a:pt x="9694" y="10946"/>
                  <a:pt x="9748" y="10914"/>
                </a:cubicBezTo>
                <a:cubicBezTo>
                  <a:pt x="9765" y="10906"/>
                  <a:pt x="9781" y="10897"/>
                  <a:pt x="9798" y="10889"/>
                </a:cubicBezTo>
              </a:path>
              <a:path w="1886" h="497">
                <a:moveTo>
                  <a:pt x="10220" y="10616"/>
                </a:moveTo>
                <a:cubicBezTo>
                  <a:pt x="10228" y="10616"/>
                  <a:pt x="10236" y="10616"/>
                  <a:pt x="10244" y="10616"/>
                </a:cubicBezTo>
                <a:cubicBezTo>
                  <a:pt x="10200" y="10627"/>
                  <a:pt x="10169" y="10654"/>
                  <a:pt x="10120" y="10666"/>
                </a:cubicBezTo>
                <a:cubicBezTo>
                  <a:pt x="10112" y="10666"/>
                  <a:pt x="10104" y="10666"/>
                  <a:pt x="10096" y="10666"/>
                </a:cubicBezTo>
              </a:path>
              <a:path w="1886" h="497">
                <a:moveTo>
                  <a:pt x="10170" y="10716"/>
                </a:moveTo>
                <a:cubicBezTo>
                  <a:pt x="10225" y="10716"/>
                  <a:pt x="10231" y="10701"/>
                  <a:pt x="10244" y="10740"/>
                </a:cubicBezTo>
                <a:cubicBezTo>
                  <a:pt x="10220" y="10777"/>
                  <a:pt x="10177" y="10765"/>
                  <a:pt x="10120" y="107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21040" y="3705120"/>
            <a:ext cx="90720" cy="250920"/>
          </a:xfrm>
          <a:custGeom>
            <a:avLst/>
            <a:gdLst/>
            <a:ahLst/>
            <a:rect l="l" t="t" r="r" b="b"/>
            <a:pathLst>
              <a:path w="249" h="695">
                <a:moveTo>
                  <a:pt x="10790" y="10368"/>
                </a:moveTo>
                <a:cubicBezTo>
                  <a:pt x="10803" y="10331"/>
                  <a:pt x="10815" y="10347"/>
                  <a:pt x="10815" y="10294"/>
                </a:cubicBezTo>
                <a:cubicBezTo>
                  <a:pt x="10774" y="10349"/>
                  <a:pt x="10748" y="10401"/>
                  <a:pt x="10716" y="10468"/>
                </a:cubicBezTo>
                <a:cubicBezTo>
                  <a:pt x="10656" y="10593"/>
                  <a:pt x="10621" y="10702"/>
                  <a:pt x="10616" y="10840"/>
                </a:cubicBezTo>
                <a:cubicBezTo>
                  <a:pt x="10614" y="10914"/>
                  <a:pt x="10635" y="11019"/>
                  <a:pt x="10740" y="10988"/>
                </a:cubicBezTo>
                <a:cubicBezTo>
                  <a:pt x="10791" y="10973"/>
                  <a:pt x="10853" y="10865"/>
                  <a:pt x="10864" y="10815"/>
                </a:cubicBezTo>
                <a:cubicBezTo>
                  <a:pt x="10864" y="10798"/>
                  <a:pt x="10864" y="10782"/>
                  <a:pt x="10864" y="10765"/>
                </a:cubicBezTo>
                <a:cubicBezTo>
                  <a:pt x="10777" y="10727"/>
                  <a:pt x="10733" y="10759"/>
                  <a:pt x="10641" y="107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2760" y="3411360"/>
            <a:ext cx="4170240" cy="1473480"/>
          </a:xfrm>
          <a:custGeom>
            <a:avLst/>
            <a:gdLst/>
            <a:ahLst/>
            <a:rect l="l" t="t" r="r" b="b"/>
            <a:pathLst>
              <a:path w="11585" h="4094">
                <a:moveTo>
                  <a:pt x="3299" y="10046"/>
                </a:moveTo>
                <a:cubicBezTo>
                  <a:pt x="3299" y="10038"/>
                  <a:pt x="3299" y="10029"/>
                  <a:pt x="3299" y="10021"/>
                </a:cubicBezTo>
                <a:cubicBezTo>
                  <a:pt x="3303" y="10034"/>
                  <a:pt x="3332" y="10048"/>
                  <a:pt x="3324" y="10096"/>
                </a:cubicBezTo>
                <a:cubicBezTo>
                  <a:pt x="3312" y="10168"/>
                  <a:pt x="3301" y="10212"/>
                  <a:pt x="3299" y="10294"/>
                </a:cubicBezTo>
                <a:cubicBezTo>
                  <a:pt x="3296" y="10389"/>
                  <a:pt x="3283" y="10476"/>
                  <a:pt x="3274" y="10567"/>
                </a:cubicBezTo>
                <a:cubicBezTo>
                  <a:pt x="3264" y="10676"/>
                  <a:pt x="3235" y="10782"/>
                  <a:pt x="3225" y="10889"/>
                </a:cubicBezTo>
                <a:cubicBezTo>
                  <a:pt x="3214" y="11013"/>
                  <a:pt x="3212" y="11138"/>
                  <a:pt x="3200" y="11261"/>
                </a:cubicBezTo>
                <a:cubicBezTo>
                  <a:pt x="3188" y="11385"/>
                  <a:pt x="3160" y="11509"/>
                  <a:pt x="3150" y="11633"/>
                </a:cubicBezTo>
                <a:cubicBezTo>
                  <a:pt x="3139" y="11763"/>
                  <a:pt x="3142" y="11900"/>
                  <a:pt x="3125" y="12030"/>
                </a:cubicBezTo>
                <a:cubicBezTo>
                  <a:pt x="3106" y="12173"/>
                  <a:pt x="3101" y="12306"/>
                  <a:pt x="3101" y="12452"/>
                </a:cubicBezTo>
                <a:cubicBezTo>
                  <a:pt x="3101" y="12702"/>
                  <a:pt x="3109" y="12948"/>
                  <a:pt x="3125" y="13196"/>
                </a:cubicBezTo>
                <a:cubicBezTo>
                  <a:pt x="3133" y="13322"/>
                  <a:pt x="3150" y="13441"/>
                  <a:pt x="3150" y="13568"/>
                </a:cubicBezTo>
              </a:path>
              <a:path w="11585" h="4094">
                <a:moveTo>
                  <a:pt x="6772" y="12551"/>
                </a:moveTo>
                <a:cubicBezTo>
                  <a:pt x="6735" y="12542"/>
                  <a:pt x="6711" y="12534"/>
                  <a:pt x="6672" y="12526"/>
                </a:cubicBezTo>
                <a:cubicBezTo>
                  <a:pt x="6612" y="12513"/>
                  <a:pt x="6564" y="12513"/>
                  <a:pt x="6499" y="12502"/>
                </a:cubicBezTo>
                <a:cubicBezTo>
                  <a:pt x="6427" y="12490"/>
                  <a:pt x="6350" y="12458"/>
                  <a:pt x="6276" y="12452"/>
                </a:cubicBezTo>
                <a:cubicBezTo>
                  <a:pt x="6167" y="12443"/>
                  <a:pt x="6061" y="12441"/>
                  <a:pt x="5953" y="12427"/>
                </a:cubicBezTo>
                <a:cubicBezTo>
                  <a:pt x="5837" y="12412"/>
                  <a:pt x="5722" y="12415"/>
                  <a:pt x="5606" y="12402"/>
                </a:cubicBezTo>
                <a:cubicBezTo>
                  <a:pt x="5481" y="12388"/>
                  <a:pt x="5361" y="12378"/>
                  <a:pt x="5234" y="12378"/>
                </a:cubicBezTo>
                <a:cubicBezTo>
                  <a:pt x="5085" y="12378"/>
                  <a:pt x="4962" y="12368"/>
                  <a:pt x="4812" y="12378"/>
                </a:cubicBezTo>
                <a:cubicBezTo>
                  <a:pt x="4605" y="12392"/>
                  <a:pt x="4399" y="12401"/>
                  <a:pt x="4192" y="12427"/>
                </a:cubicBezTo>
                <a:cubicBezTo>
                  <a:pt x="3960" y="12457"/>
                  <a:pt x="3731" y="12452"/>
                  <a:pt x="3497" y="12452"/>
                </a:cubicBezTo>
                <a:cubicBezTo>
                  <a:pt x="3335" y="12452"/>
                  <a:pt x="3155" y="12471"/>
                  <a:pt x="3001" y="12402"/>
                </a:cubicBezTo>
                <a:cubicBezTo>
                  <a:pt x="2909" y="12361"/>
                  <a:pt x="2809" y="12322"/>
                  <a:pt x="2704" y="12303"/>
                </a:cubicBezTo>
                <a:cubicBezTo>
                  <a:pt x="2595" y="12283"/>
                  <a:pt x="2466" y="12263"/>
                  <a:pt x="2356" y="12254"/>
                </a:cubicBezTo>
                <a:cubicBezTo>
                  <a:pt x="2223" y="12243"/>
                  <a:pt x="2091" y="12251"/>
                  <a:pt x="1960" y="12229"/>
                </a:cubicBezTo>
                <a:cubicBezTo>
                  <a:pt x="1848" y="12210"/>
                  <a:pt x="1751" y="12206"/>
                  <a:pt x="1637" y="12204"/>
                </a:cubicBezTo>
                <a:cubicBezTo>
                  <a:pt x="1533" y="12202"/>
                  <a:pt x="1404" y="12214"/>
                  <a:pt x="1339" y="12229"/>
                </a:cubicBezTo>
              </a:path>
              <a:path w="11585" h="4094">
                <a:moveTo>
                  <a:pt x="3299" y="10046"/>
                </a:moveTo>
                <a:cubicBezTo>
                  <a:pt x="3227" y="10046"/>
                  <a:pt x="3190" y="10064"/>
                  <a:pt x="3125" y="10096"/>
                </a:cubicBezTo>
                <a:cubicBezTo>
                  <a:pt x="3040" y="10138"/>
                  <a:pt x="3005" y="10174"/>
                  <a:pt x="2952" y="10244"/>
                </a:cubicBezTo>
                <a:cubicBezTo>
                  <a:pt x="2944" y="10252"/>
                  <a:pt x="2935" y="10261"/>
                  <a:pt x="2927" y="10269"/>
                </a:cubicBezTo>
                <a:cubicBezTo>
                  <a:pt x="2994" y="10242"/>
                  <a:pt x="3029" y="10197"/>
                  <a:pt x="3076" y="10145"/>
                </a:cubicBezTo>
                <a:cubicBezTo>
                  <a:pt x="3131" y="10085"/>
                  <a:pt x="3192" y="10029"/>
                  <a:pt x="3249" y="9971"/>
                </a:cubicBezTo>
                <a:cubicBezTo>
                  <a:pt x="3304" y="10026"/>
                  <a:pt x="3321" y="10070"/>
                  <a:pt x="3349" y="10145"/>
                </a:cubicBezTo>
              </a:path>
              <a:path w="11585" h="4094">
                <a:moveTo>
                  <a:pt x="6846" y="12601"/>
                </a:moveTo>
                <a:cubicBezTo>
                  <a:pt x="6811" y="12589"/>
                  <a:pt x="6821" y="12594"/>
                  <a:pt x="6821" y="12551"/>
                </a:cubicBezTo>
                <a:cubicBezTo>
                  <a:pt x="6865" y="12551"/>
                  <a:pt x="6802" y="12576"/>
                  <a:pt x="6772" y="12601"/>
                </a:cubicBezTo>
                <a:cubicBezTo>
                  <a:pt x="6712" y="12650"/>
                  <a:pt x="6655" y="12698"/>
                  <a:pt x="6598" y="12750"/>
                </a:cubicBezTo>
                <a:cubicBezTo>
                  <a:pt x="6568" y="12778"/>
                  <a:pt x="6557" y="12788"/>
                  <a:pt x="6548" y="12824"/>
                </a:cubicBezTo>
                <a:cubicBezTo>
                  <a:pt x="6597" y="12812"/>
                  <a:pt x="6647" y="12775"/>
                  <a:pt x="6697" y="12750"/>
                </a:cubicBezTo>
                <a:cubicBezTo>
                  <a:pt x="6749" y="12724"/>
                  <a:pt x="6812" y="12701"/>
                  <a:pt x="6846" y="12650"/>
                </a:cubicBezTo>
                <a:cubicBezTo>
                  <a:pt x="6891" y="12581"/>
                  <a:pt x="6866" y="12536"/>
                  <a:pt x="6821" y="12477"/>
                </a:cubicBezTo>
                <a:cubicBezTo>
                  <a:pt x="6782" y="12425"/>
                  <a:pt x="6734" y="12393"/>
                  <a:pt x="6672" y="12378"/>
                </a:cubicBezTo>
                <a:cubicBezTo>
                  <a:pt x="6664" y="12378"/>
                  <a:pt x="6656" y="12378"/>
                  <a:pt x="6648" y="12378"/>
                </a:cubicBezTo>
              </a:path>
              <a:path w="11585" h="4094">
                <a:moveTo>
                  <a:pt x="2257" y="9624"/>
                </a:moveTo>
                <a:cubicBezTo>
                  <a:pt x="2249" y="9616"/>
                  <a:pt x="2240" y="9607"/>
                  <a:pt x="2232" y="9599"/>
                </a:cubicBezTo>
                <a:cubicBezTo>
                  <a:pt x="2232" y="9648"/>
                  <a:pt x="2215" y="9716"/>
                  <a:pt x="2257" y="9748"/>
                </a:cubicBezTo>
                <a:cubicBezTo>
                  <a:pt x="2336" y="9808"/>
                  <a:pt x="2340" y="9741"/>
                  <a:pt x="2406" y="9723"/>
                </a:cubicBezTo>
                <a:cubicBezTo>
                  <a:pt x="2448" y="9712"/>
                  <a:pt x="2538" y="9726"/>
                  <a:pt x="2555" y="9773"/>
                </a:cubicBezTo>
                <a:cubicBezTo>
                  <a:pt x="2581" y="9846"/>
                  <a:pt x="2539" y="9869"/>
                  <a:pt x="2480" y="9872"/>
                </a:cubicBezTo>
                <a:cubicBezTo>
                  <a:pt x="2398" y="9877"/>
                  <a:pt x="2314" y="9872"/>
                  <a:pt x="2232" y="9872"/>
                </a:cubicBezTo>
              </a:path>
              <a:path w="11585" h="4094">
                <a:moveTo>
                  <a:pt x="2431" y="13122"/>
                </a:moveTo>
                <a:cubicBezTo>
                  <a:pt x="2405" y="13103"/>
                  <a:pt x="2343" y="13084"/>
                  <a:pt x="2332" y="13047"/>
                </a:cubicBezTo>
                <a:cubicBezTo>
                  <a:pt x="2321" y="13008"/>
                  <a:pt x="2334" y="12936"/>
                  <a:pt x="2381" y="12923"/>
                </a:cubicBezTo>
                <a:cubicBezTo>
                  <a:pt x="2490" y="12892"/>
                  <a:pt x="2521" y="12956"/>
                  <a:pt x="2530" y="13047"/>
                </a:cubicBezTo>
                <a:cubicBezTo>
                  <a:pt x="2537" y="13118"/>
                  <a:pt x="2538" y="13197"/>
                  <a:pt x="2456" y="13221"/>
                </a:cubicBezTo>
                <a:cubicBezTo>
                  <a:pt x="2384" y="13242"/>
                  <a:pt x="2364" y="13191"/>
                  <a:pt x="2332" y="13146"/>
                </a:cubicBezTo>
              </a:path>
              <a:path w="11585" h="4094">
                <a:moveTo>
                  <a:pt x="6573" y="13271"/>
                </a:moveTo>
                <a:cubicBezTo>
                  <a:pt x="6518" y="13302"/>
                  <a:pt x="6468" y="13329"/>
                  <a:pt x="6548" y="13295"/>
                </a:cubicBezTo>
                <a:cubicBezTo>
                  <a:pt x="6613" y="13268"/>
                  <a:pt x="6691" y="13260"/>
                  <a:pt x="6747" y="13320"/>
                </a:cubicBezTo>
                <a:cubicBezTo>
                  <a:pt x="6793" y="13370"/>
                  <a:pt x="6812" y="13443"/>
                  <a:pt x="6772" y="13494"/>
                </a:cubicBezTo>
                <a:cubicBezTo>
                  <a:pt x="6726" y="13552"/>
                  <a:pt x="6664" y="13543"/>
                  <a:pt x="6598" y="13543"/>
                </a:cubicBezTo>
              </a:path>
              <a:path w="11585" h="4094">
                <a:moveTo>
                  <a:pt x="6896" y="13097"/>
                </a:moveTo>
                <a:cubicBezTo>
                  <a:pt x="6879" y="13080"/>
                  <a:pt x="6829" y="13186"/>
                  <a:pt x="6821" y="13246"/>
                </a:cubicBezTo>
                <a:cubicBezTo>
                  <a:pt x="6810" y="13325"/>
                  <a:pt x="6802" y="13441"/>
                  <a:pt x="6896" y="13469"/>
                </a:cubicBezTo>
                <a:cubicBezTo>
                  <a:pt x="6955" y="13469"/>
                  <a:pt x="6981" y="13466"/>
                  <a:pt x="7020" y="13444"/>
                </a:cubicBezTo>
              </a:path>
              <a:path w="11585" h="4094">
                <a:moveTo>
                  <a:pt x="5804" y="10195"/>
                </a:moveTo>
                <a:cubicBezTo>
                  <a:pt x="5804" y="10170"/>
                  <a:pt x="5804" y="10145"/>
                  <a:pt x="5804" y="10120"/>
                </a:cubicBezTo>
                <a:cubicBezTo>
                  <a:pt x="5816" y="10124"/>
                  <a:pt x="5859" y="10171"/>
                  <a:pt x="5829" y="10195"/>
                </a:cubicBezTo>
                <a:cubicBezTo>
                  <a:pt x="5804" y="10195"/>
                  <a:pt x="5796" y="10195"/>
                  <a:pt x="5779" y="10195"/>
                </a:cubicBezTo>
              </a:path>
              <a:path w="11585" h="4094">
                <a:moveTo>
                  <a:pt x="6201" y="9674"/>
                </a:moveTo>
                <a:cubicBezTo>
                  <a:pt x="6201" y="9649"/>
                  <a:pt x="6201" y="9641"/>
                  <a:pt x="6226" y="9649"/>
                </a:cubicBezTo>
                <a:cubicBezTo>
                  <a:pt x="6226" y="9700"/>
                  <a:pt x="6225" y="9707"/>
                  <a:pt x="6201" y="9748"/>
                </a:cubicBezTo>
                <a:cubicBezTo>
                  <a:pt x="6184" y="9778"/>
                  <a:pt x="6155" y="9859"/>
                  <a:pt x="6176" y="9897"/>
                </a:cubicBezTo>
                <a:cubicBezTo>
                  <a:pt x="6198" y="9937"/>
                  <a:pt x="6262" y="9922"/>
                  <a:pt x="6300" y="9922"/>
                </a:cubicBezTo>
                <a:cubicBezTo>
                  <a:pt x="6360" y="9922"/>
                  <a:pt x="6374" y="9903"/>
                  <a:pt x="6424" y="9897"/>
                </a:cubicBezTo>
                <a:cubicBezTo>
                  <a:pt x="6468" y="9892"/>
                  <a:pt x="6486" y="9912"/>
                  <a:pt x="6524" y="9922"/>
                </a:cubicBezTo>
              </a:path>
              <a:path w="11585" h="4094">
                <a:moveTo>
                  <a:pt x="6350" y="9823"/>
                </a:moveTo>
                <a:cubicBezTo>
                  <a:pt x="6311" y="9849"/>
                  <a:pt x="6325" y="9910"/>
                  <a:pt x="6325" y="9971"/>
                </a:cubicBezTo>
                <a:cubicBezTo>
                  <a:pt x="6325" y="9988"/>
                  <a:pt x="6325" y="10004"/>
                  <a:pt x="6325" y="10021"/>
                </a:cubicBezTo>
              </a:path>
              <a:path w="11585" h="4094">
                <a:moveTo>
                  <a:pt x="6648" y="9947"/>
                </a:moveTo>
                <a:cubicBezTo>
                  <a:pt x="6656" y="9947"/>
                  <a:pt x="6664" y="9947"/>
                  <a:pt x="6672" y="9947"/>
                </a:cubicBezTo>
                <a:cubicBezTo>
                  <a:pt x="6672" y="10006"/>
                  <a:pt x="6676" y="10047"/>
                  <a:pt x="6648" y="10096"/>
                </a:cubicBezTo>
              </a:path>
              <a:path w="11585" h="4094">
                <a:moveTo>
                  <a:pt x="7144" y="9723"/>
                </a:moveTo>
                <a:cubicBezTo>
                  <a:pt x="7184" y="9710"/>
                  <a:pt x="7154" y="9712"/>
                  <a:pt x="7193" y="9699"/>
                </a:cubicBezTo>
                <a:cubicBezTo>
                  <a:pt x="7179" y="9656"/>
                  <a:pt x="7146" y="9644"/>
                  <a:pt x="7094" y="9674"/>
                </a:cubicBezTo>
                <a:cubicBezTo>
                  <a:pt x="7062" y="9693"/>
                  <a:pt x="6984" y="9699"/>
                  <a:pt x="6970" y="9748"/>
                </a:cubicBezTo>
                <a:cubicBezTo>
                  <a:pt x="6949" y="9820"/>
                  <a:pt x="6981" y="9821"/>
                  <a:pt x="7020" y="9847"/>
                </a:cubicBezTo>
                <a:cubicBezTo>
                  <a:pt x="7069" y="9880"/>
                  <a:pt x="7119" y="9877"/>
                  <a:pt x="7169" y="9922"/>
                </a:cubicBezTo>
                <a:cubicBezTo>
                  <a:pt x="7198" y="9949"/>
                  <a:pt x="7209" y="9961"/>
                  <a:pt x="7218" y="9996"/>
                </a:cubicBezTo>
                <a:cubicBezTo>
                  <a:pt x="7176" y="10027"/>
                  <a:pt x="7161" y="10033"/>
                  <a:pt x="7119" y="9996"/>
                </a:cubicBezTo>
                <a:cubicBezTo>
                  <a:pt x="7105" y="9984"/>
                  <a:pt x="7071" y="9918"/>
                  <a:pt x="7094" y="9897"/>
                </a:cubicBezTo>
                <a:cubicBezTo>
                  <a:pt x="7143" y="9853"/>
                  <a:pt x="7189" y="9816"/>
                  <a:pt x="7243" y="9773"/>
                </a:cubicBezTo>
              </a:path>
              <a:path w="11585" h="4094">
                <a:moveTo>
                  <a:pt x="7268" y="9674"/>
                </a:moveTo>
                <a:cubicBezTo>
                  <a:pt x="7277" y="9614"/>
                  <a:pt x="7289" y="9573"/>
                  <a:pt x="7367" y="9599"/>
                </a:cubicBezTo>
                <a:cubicBezTo>
                  <a:pt x="7484" y="9638"/>
                  <a:pt x="7548" y="9728"/>
                  <a:pt x="7565" y="9847"/>
                </a:cubicBezTo>
                <a:cubicBezTo>
                  <a:pt x="7581" y="9961"/>
                  <a:pt x="7544" y="10055"/>
                  <a:pt x="7466" y="10120"/>
                </a:cubicBezTo>
              </a:path>
              <a:path w="11585" h="4094">
                <a:moveTo>
                  <a:pt x="6077" y="9475"/>
                </a:moveTo>
                <a:cubicBezTo>
                  <a:pt x="6023" y="9530"/>
                  <a:pt x="6004" y="9575"/>
                  <a:pt x="5978" y="9649"/>
                </a:cubicBezTo>
                <a:cubicBezTo>
                  <a:pt x="5936" y="9767"/>
                  <a:pt x="5949" y="9829"/>
                  <a:pt x="6028" y="9922"/>
                </a:cubicBezTo>
                <a:cubicBezTo>
                  <a:pt x="6036" y="9930"/>
                  <a:pt x="6044" y="9939"/>
                  <a:pt x="6052" y="9947"/>
                </a:cubicBezTo>
              </a:path>
              <a:path w="11585" h="4094">
                <a:moveTo>
                  <a:pt x="4142" y="11832"/>
                </a:moveTo>
                <a:cubicBezTo>
                  <a:pt x="4142" y="11807"/>
                  <a:pt x="4142" y="11799"/>
                  <a:pt x="4142" y="11782"/>
                </a:cubicBezTo>
                <a:cubicBezTo>
                  <a:pt x="4195" y="11747"/>
                  <a:pt x="4157" y="11785"/>
                  <a:pt x="4192" y="11733"/>
                </a:cubicBezTo>
                <a:cubicBezTo>
                  <a:pt x="4205" y="11718"/>
                  <a:pt x="4246" y="11692"/>
                  <a:pt x="4266" y="11658"/>
                </a:cubicBezTo>
                <a:cubicBezTo>
                  <a:pt x="4266" y="11650"/>
                  <a:pt x="4266" y="11641"/>
                  <a:pt x="4266" y="11633"/>
                </a:cubicBezTo>
                <a:cubicBezTo>
                  <a:pt x="4267" y="11631"/>
                  <a:pt x="4283" y="11600"/>
                  <a:pt x="4291" y="11584"/>
                </a:cubicBezTo>
                <a:cubicBezTo>
                  <a:pt x="4327" y="11559"/>
                  <a:pt x="4340" y="11553"/>
                  <a:pt x="4366" y="11509"/>
                </a:cubicBezTo>
                <a:cubicBezTo>
                  <a:pt x="4390" y="11468"/>
                  <a:pt x="4399" y="11429"/>
                  <a:pt x="4415" y="11385"/>
                </a:cubicBezTo>
                <a:cubicBezTo>
                  <a:pt x="4416" y="11383"/>
                  <a:pt x="4432" y="11352"/>
                  <a:pt x="4440" y="11336"/>
                </a:cubicBezTo>
                <a:cubicBezTo>
                  <a:pt x="4456" y="11318"/>
                  <a:pt x="4471" y="11294"/>
                  <a:pt x="4490" y="11261"/>
                </a:cubicBezTo>
                <a:cubicBezTo>
                  <a:pt x="4521" y="11246"/>
                  <a:pt x="4507" y="11253"/>
                  <a:pt x="4539" y="11237"/>
                </a:cubicBezTo>
                <a:cubicBezTo>
                  <a:pt x="4549" y="11213"/>
                  <a:pt x="4554" y="11186"/>
                  <a:pt x="4564" y="11162"/>
                </a:cubicBezTo>
                <a:cubicBezTo>
                  <a:pt x="4580" y="11146"/>
                  <a:pt x="4614" y="11122"/>
                  <a:pt x="4638" y="11088"/>
                </a:cubicBezTo>
                <a:cubicBezTo>
                  <a:pt x="4668" y="11046"/>
                  <a:pt x="4676" y="11039"/>
                  <a:pt x="4713" y="11013"/>
                </a:cubicBezTo>
                <a:cubicBezTo>
                  <a:pt x="4723" y="11002"/>
                  <a:pt x="4748" y="10951"/>
                  <a:pt x="4762" y="10939"/>
                </a:cubicBezTo>
                <a:cubicBezTo>
                  <a:pt x="4785" y="10916"/>
                  <a:pt x="4789" y="10908"/>
                  <a:pt x="4812" y="10914"/>
                </a:cubicBezTo>
                <a:cubicBezTo>
                  <a:pt x="4833" y="10880"/>
                  <a:pt x="4854" y="10850"/>
                  <a:pt x="4887" y="10815"/>
                </a:cubicBezTo>
                <a:cubicBezTo>
                  <a:pt x="4918" y="10782"/>
                  <a:pt x="4930" y="10741"/>
                  <a:pt x="4961" y="10716"/>
                </a:cubicBezTo>
                <a:cubicBezTo>
                  <a:pt x="4969" y="10716"/>
                  <a:pt x="4978" y="10716"/>
                  <a:pt x="4986" y="10716"/>
                </a:cubicBezTo>
                <a:cubicBezTo>
                  <a:pt x="5010" y="10682"/>
                  <a:pt x="5033" y="10675"/>
                  <a:pt x="5060" y="10641"/>
                </a:cubicBezTo>
                <a:cubicBezTo>
                  <a:pt x="5096" y="10597"/>
                  <a:pt x="5095" y="10562"/>
                  <a:pt x="5135" y="10517"/>
                </a:cubicBezTo>
                <a:cubicBezTo>
                  <a:pt x="5174" y="10474"/>
                  <a:pt x="5207" y="10436"/>
                  <a:pt x="5234" y="10393"/>
                </a:cubicBezTo>
                <a:cubicBezTo>
                  <a:pt x="5259" y="10377"/>
                  <a:pt x="5279" y="10377"/>
                  <a:pt x="5308" y="10344"/>
                </a:cubicBezTo>
                <a:cubicBezTo>
                  <a:pt x="5338" y="10311"/>
                  <a:pt x="5342" y="10279"/>
                  <a:pt x="5358" y="10244"/>
                </a:cubicBezTo>
                <a:cubicBezTo>
                  <a:pt x="5377" y="10228"/>
                  <a:pt x="5402" y="10212"/>
                  <a:pt x="5432" y="10195"/>
                </a:cubicBezTo>
                <a:cubicBezTo>
                  <a:pt x="5458" y="10159"/>
                  <a:pt x="5471" y="10146"/>
                  <a:pt x="5507" y="10120"/>
                </a:cubicBezTo>
                <a:cubicBezTo>
                  <a:pt x="5522" y="10089"/>
                  <a:pt x="5515" y="10103"/>
                  <a:pt x="5531" y="10071"/>
                </a:cubicBezTo>
                <a:cubicBezTo>
                  <a:pt x="5563" y="10055"/>
                  <a:pt x="5549" y="10062"/>
                  <a:pt x="5581" y="10046"/>
                </a:cubicBezTo>
                <a:cubicBezTo>
                  <a:pt x="5607" y="10009"/>
                  <a:pt x="5607" y="9991"/>
                  <a:pt x="5655" y="9971"/>
                </a:cubicBezTo>
                <a:cubicBezTo>
                  <a:pt x="5663" y="9971"/>
                  <a:pt x="5672" y="9971"/>
                  <a:pt x="5680" y="9971"/>
                </a:cubicBezTo>
                <a:cubicBezTo>
                  <a:pt x="5692" y="9977"/>
                  <a:pt x="5668" y="9950"/>
                  <a:pt x="5705" y="9996"/>
                </a:cubicBezTo>
                <a:cubicBezTo>
                  <a:pt x="5705" y="10021"/>
                  <a:pt x="5705" y="10029"/>
                  <a:pt x="5730" y="10021"/>
                </a:cubicBezTo>
              </a:path>
              <a:path w="11585" h="4094">
                <a:moveTo>
                  <a:pt x="5804" y="10071"/>
                </a:moveTo>
                <a:cubicBezTo>
                  <a:pt x="5804" y="10096"/>
                  <a:pt x="5804" y="10104"/>
                  <a:pt x="5804" y="10120"/>
                </a:cubicBezTo>
              </a:path>
              <a:path w="11585" h="4094">
                <a:moveTo>
                  <a:pt x="5804" y="10195"/>
                </a:moveTo>
                <a:cubicBezTo>
                  <a:pt x="5804" y="10270"/>
                  <a:pt x="5829" y="10262"/>
                  <a:pt x="5854" y="10319"/>
                </a:cubicBezTo>
                <a:cubicBezTo>
                  <a:pt x="5854" y="10327"/>
                  <a:pt x="5854" y="10336"/>
                  <a:pt x="5854" y="10344"/>
                </a:cubicBezTo>
              </a:path>
              <a:path w="11585" h="4094">
                <a:moveTo>
                  <a:pt x="5829" y="10443"/>
                </a:moveTo>
                <a:cubicBezTo>
                  <a:pt x="5806" y="10495"/>
                  <a:pt x="5804" y="10513"/>
                  <a:pt x="5804" y="10567"/>
                </a:cubicBezTo>
                <a:cubicBezTo>
                  <a:pt x="5804" y="10592"/>
                  <a:pt x="5804" y="10600"/>
                  <a:pt x="5804" y="10616"/>
                </a:cubicBezTo>
              </a:path>
              <a:path w="11585" h="4094">
                <a:moveTo>
                  <a:pt x="5804" y="10666"/>
                </a:moveTo>
                <a:cubicBezTo>
                  <a:pt x="5775" y="10704"/>
                  <a:pt x="5779" y="10717"/>
                  <a:pt x="5779" y="10765"/>
                </a:cubicBezTo>
                <a:cubicBezTo>
                  <a:pt x="5779" y="10773"/>
                  <a:pt x="5779" y="10782"/>
                  <a:pt x="5779" y="10790"/>
                </a:cubicBezTo>
              </a:path>
              <a:path w="11585" h="4094">
                <a:moveTo>
                  <a:pt x="5779" y="10864"/>
                </a:moveTo>
                <a:cubicBezTo>
                  <a:pt x="5752" y="10902"/>
                  <a:pt x="5755" y="10916"/>
                  <a:pt x="5755" y="10964"/>
                </a:cubicBezTo>
                <a:cubicBezTo>
                  <a:pt x="5755" y="10972"/>
                  <a:pt x="5755" y="10980"/>
                  <a:pt x="5755" y="10988"/>
                </a:cubicBezTo>
              </a:path>
              <a:path w="11585" h="4094">
                <a:moveTo>
                  <a:pt x="5730" y="11038"/>
                </a:moveTo>
                <a:cubicBezTo>
                  <a:pt x="5730" y="11079"/>
                  <a:pt x="5730" y="11121"/>
                  <a:pt x="5730" y="11162"/>
                </a:cubicBezTo>
                <a:cubicBezTo>
                  <a:pt x="5695" y="11174"/>
                  <a:pt x="5705" y="11169"/>
                  <a:pt x="5705" y="11212"/>
                </a:cubicBezTo>
              </a:path>
              <a:path w="11585" h="4094">
                <a:moveTo>
                  <a:pt x="5705" y="11286"/>
                </a:moveTo>
                <a:cubicBezTo>
                  <a:pt x="5686" y="11350"/>
                  <a:pt x="5680" y="11374"/>
                  <a:pt x="5680" y="11435"/>
                </a:cubicBezTo>
                <a:cubicBezTo>
                  <a:pt x="5680" y="11443"/>
                  <a:pt x="5680" y="11452"/>
                  <a:pt x="5680" y="11460"/>
                </a:cubicBezTo>
              </a:path>
              <a:path w="11585" h="4094">
                <a:moveTo>
                  <a:pt x="5680" y="11559"/>
                </a:moveTo>
                <a:cubicBezTo>
                  <a:pt x="5680" y="11627"/>
                  <a:pt x="5687" y="11653"/>
                  <a:pt x="5705" y="11708"/>
                </a:cubicBezTo>
                <a:cubicBezTo>
                  <a:pt x="5705" y="11733"/>
                  <a:pt x="5705" y="11741"/>
                  <a:pt x="5705" y="11757"/>
                </a:cubicBezTo>
              </a:path>
              <a:path w="11585" h="4094">
                <a:moveTo>
                  <a:pt x="5655" y="11832"/>
                </a:moveTo>
                <a:cubicBezTo>
                  <a:pt x="5647" y="11832"/>
                  <a:pt x="5639" y="11832"/>
                  <a:pt x="5631" y="11832"/>
                </a:cubicBezTo>
              </a:path>
              <a:path w="11585" h="4094">
                <a:moveTo>
                  <a:pt x="5482" y="11782"/>
                </a:moveTo>
                <a:cubicBezTo>
                  <a:pt x="5421" y="11782"/>
                  <a:pt x="5408" y="11801"/>
                  <a:pt x="5358" y="11807"/>
                </a:cubicBezTo>
                <a:cubicBezTo>
                  <a:pt x="5350" y="11807"/>
                  <a:pt x="5341" y="11807"/>
                  <a:pt x="5333" y="11807"/>
                </a:cubicBezTo>
              </a:path>
              <a:path w="11585" h="4094">
                <a:moveTo>
                  <a:pt x="5209" y="11757"/>
                </a:moveTo>
                <a:cubicBezTo>
                  <a:pt x="5184" y="11757"/>
                  <a:pt x="5176" y="11757"/>
                  <a:pt x="5159" y="11757"/>
                </a:cubicBezTo>
                <a:cubicBezTo>
                  <a:pt x="5148" y="11793"/>
                  <a:pt x="5123" y="11779"/>
                  <a:pt x="5085" y="11807"/>
                </a:cubicBezTo>
              </a:path>
              <a:path w="11585" h="4094">
                <a:moveTo>
                  <a:pt x="4961" y="11782"/>
                </a:moveTo>
                <a:cubicBezTo>
                  <a:pt x="4920" y="11782"/>
                  <a:pt x="4878" y="11782"/>
                  <a:pt x="4837" y="11782"/>
                </a:cubicBezTo>
              </a:path>
              <a:path w="11585" h="4094">
                <a:moveTo>
                  <a:pt x="4688" y="11757"/>
                </a:moveTo>
                <a:cubicBezTo>
                  <a:pt x="4643" y="11757"/>
                  <a:pt x="4630" y="11753"/>
                  <a:pt x="4614" y="11782"/>
                </a:cubicBezTo>
              </a:path>
              <a:path w="11585" h="4094">
                <a:moveTo>
                  <a:pt x="4415" y="11733"/>
                </a:moveTo>
                <a:cubicBezTo>
                  <a:pt x="4371" y="11733"/>
                  <a:pt x="4358" y="11730"/>
                  <a:pt x="4341" y="11757"/>
                </a:cubicBezTo>
              </a:path>
              <a:path w="11585" h="4094">
                <a:moveTo>
                  <a:pt x="4911" y="11485"/>
                </a:moveTo>
                <a:cubicBezTo>
                  <a:pt x="4877" y="11476"/>
                  <a:pt x="4826" y="11441"/>
                  <a:pt x="4887" y="11410"/>
                </a:cubicBezTo>
                <a:cubicBezTo>
                  <a:pt x="4922" y="11392"/>
                  <a:pt x="4974" y="11372"/>
                  <a:pt x="5011" y="11361"/>
                </a:cubicBezTo>
                <a:cubicBezTo>
                  <a:pt x="5054" y="11348"/>
                  <a:pt x="5082" y="11369"/>
                  <a:pt x="5085" y="11410"/>
                </a:cubicBezTo>
                <a:cubicBezTo>
                  <a:pt x="5088" y="11456"/>
                  <a:pt x="5078" y="11522"/>
                  <a:pt x="5060" y="11559"/>
                </a:cubicBezTo>
                <a:cubicBezTo>
                  <a:pt x="5037" y="11582"/>
                  <a:pt x="5029" y="11586"/>
                  <a:pt x="5035" y="11609"/>
                </a:cubicBezTo>
                <a:cubicBezTo>
                  <a:pt x="5069" y="11633"/>
                  <a:pt x="5096" y="11648"/>
                  <a:pt x="5135" y="11658"/>
                </a:cubicBezTo>
                <a:cubicBezTo>
                  <a:pt x="5122" y="11698"/>
                  <a:pt x="5087" y="11705"/>
                  <a:pt x="5035" y="11708"/>
                </a:cubicBezTo>
                <a:cubicBezTo>
                  <a:pt x="5019" y="11708"/>
                  <a:pt x="5002" y="11708"/>
                  <a:pt x="4986" y="11708"/>
                </a:cubicBezTo>
              </a:path>
              <a:path w="11585" h="4094">
                <a:moveTo>
                  <a:pt x="6350" y="10616"/>
                </a:moveTo>
                <a:cubicBezTo>
                  <a:pt x="6379" y="10579"/>
                  <a:pt x="6375" y="10565"/>
                  <a:pt x="6375" y="10517"/>
                </a:cubicBezTo>
                <a:cubicBezTo>
                  <a:pt x="6322" y="10530"/>
                  <a:pt x="6334" y="10554"/>
                  <a:pt x="6300" y="10592"/>
                </a:cubicBezTo>
                <a:cubicBezTo>
                  <a:pt x="6254" y="10644"/>
                  <a:pt x="6214" y="10721"/>
                  <a:pt x="6201" y="10790"/>
                </a:cubicBezTo>
                <a:cubicBezTo>
                  <a:pt x="6189" y="10851"/>
                  <a:pt x="6194" y="10936"/>
                  <a:pt x="6226" y="10988"/>
                </a:cubicBezTo>
                <a:cubicBezTo>
                  <a:pt x="6250" y="11026"/>
                  <a:pt x="6305" y="11061"/>
                  <a:pt x="6350" y="11038"/>
                </a:cubicBezTo>
                <a:cubicBezTo>
                  <a:pt x="6394" y="11016"/>
                  <a:pt x="6420" y="10958"/>
                  <a:pt x="6424" y="10914"/>
                </a:cubicBezTo>
                <a:cubicBezTo>
                  <a:pt x="6424" y="10906"/>
                  <a:pt x="6424" y="10897"/>
                  <a:pt x="6424" y="10889"/>
                </a:cubicBezTo>
                <a:cubicBezTo>
                  <a:pt x="6391" y="10889"/>
                  <a:pt x="6358" y="10889"/>
                  <a:pt x="6325" y="10889"/>
                </a:cubicBezTo>
              </a:path>
              <a:path w="11585" h="4094">
                <a:moveTo>
                  <a:pt x="8136" y="12353"/>
                </a:moveTo>
                <a:cubicBezTo>
                  <a:pt x="8136" y="12328"/>
                  <a:pt x="8136" y="12320"/>
                  <a:pt x="8136" y="12303"/>
                </a:cubicBezTo>
                <a:cubicBezTo>
                  <a:pt x="8136" y="12244"/>
                  <a:pt x="8114" y="12365"/>
                  <a:pt x="8111" y="12378"/>
                </a:cubicBezTo>
                <a:cubicBezTo>
                  <a:pt x="8098" y="12429"/>
                  <a:pt x="8111" y="12497"/>
                  <a:pt x="8111" y="12551"/>
                </a:cubicBezTo>
                <a:cubicBezTo>
                  <a:pt x="8142" y="12531"/>
                  <a:pt x="8137" y="12477"/>
                  <a:pt x="8161" y="12427"/>
                </a:cubicBezTo>
                <a:cubicBezTo>
                  <a:pt x="8195" y="12355"/>
                  <a:pt x="8177" y="12311"/>
                  <a:pt x="8235" y="12254"/>
                </a:cubicBezTo>
                <a:cubicBezTo>
                  <a:pt x="8273" y="12266"/>
                  <a:pt x="8299" y="12324"/>
                  <a:pt x="8310" y="12378"/>
                </a:cubicBezTo>
                <a:cubicBezTo>
                  <a:pt x="8323" y="12442"/>
                  <a:pt x="8298" y="12427"/>
                  <a:pt x="8334" y="12477"/>
                </a:cubicBezTo>
                <a:cubicBezTo>
                  <a:pt x="8374" y="12437"/>
                  <a:pt x="8398" y="12394"/>
                  <a:pt x="8434" y="12353"/>
                </a:cubicBezTo>
                <a:cubicBezTo>
                  <a:pt x="8442" y="12345"/>
                  <a:pt x="8450" y="12336"/>
                  <a:pt x="8458" y="12328"/>
                </a:cubicBezTo>
                <a:cubicBezTo>
                  <a:pt x="8519" y="12358"/>
                  <a:pt x="8529" y="12434"/>
                  <a:pt x="8558" y="12502"/>
                </a:cubicBezTo>
                <a:cubicBezTo>
                  <a:pt x="8580" y="12555"/>
                  <a:pt x="8587" y="12597"/>
                  <a:pt x="8607" y="12650"/>
                </a:cubicBezTo>
              </a:path>
              <a:path w="11585" h="4094">
                <a:moveTo>
                  <a:pt x="9178" y="12328"/>
                </a:moveTo>
                <a:cubicBezTo>
                  <a:pt x="9131" y="12328"/>
                  <a:pt x="9099" y="12350"/>
                  <a:pt x="9054" y="12353"/>
                </a:cubicBezTo>
                <a:cubicBezTo>
                  <a:pt x="9013" y="12356"/>
                  <a:pt x="8971" y="12353"/>
                  <a:pt x="8930" y="12353"/>
                </a:cubicBezTo>
              </a:path>
              <a:path w="11585" h="4094">
                <a:moveTo>
                  <a:pt x="9203" y="12427"/>
                </a:moveTo>
                <a:cubicBezTo>
                  <a:pt x="9225" y="12450"/>
                  <a:pt x="9233" y="12455"/>
                  <a:pt x="9227" y="12477"/>
                </a:cubicBezTo>
                <a:cubicBezTo>
                  <a:pt x="9178" y="12477"/>
                  <a:pt x="9128" y="12477"/>
                  <a:pt x="9079" y="12477"/>
                </a:cubicBezTo>
              </a:path>
              <a:path w="11585" h="4094">
                <a:moveTo>
                  <a:pt x="10170" y="11832"/>
                </a:moveTo>
                <a:cubicBezTo>
                  <a:pt x="10213" y="11800"/>
                  <a:pt x="10220" y="11813"/>
                  <a:pt x="10220" y="11757"/>
                </a:cubicBezTo>
                <a:cubicBezTo>
                  <a:pt x="10163" y="11771"/>
                  <a:pt x="10171" y="11802"/>
                  <a:pt x="10145" y="11857"/>
                </a:cubicBezTo>
                <a:cubicBezTo>
                  <a:pt x="10094" y="11963"/>
                  <a:pt x="10031" y="12081"/>
                  <a:pt x="10046" y="12204"/>
                </a:cubicBezTo>
                <a:cubicBezTo>
                  <a:pt x="10057" y="12294"/>
                  <a:pt x="10098" y="12400"/>
                  <a:pt x="10195" y="12427"/>
                </a:cubicBezTo>
                <a:cubicBezTo>
                  <a:pt x="10262" y="12446"/>
                  <a:pt x="10348" y="12410"/>
                  <a:pt x="10344" y="12328"/>
                </a:cubicBezTo>
                <a:cubicBezTo>
                  <a:pt x="10341" y="12264"/>
                  <a:pt x="10283" y="12171"/>
                  <a:pt x="10220" y="12154"/>
                </a:cubicBezTo>
                <a:cubicBezTo>
                  <a:pt x="10166" y="12139"/>
                  <a:pt x="10116" y="12181"/>
                  <a:pt x="10071" y="12204"/>
                </a:cubicBezTo>
              </a:path>
              <a:path w="11585" h="4094">
                <a:moveTo>
                  <a:pt x="10592" y="12725"/>
                </a:moveTo>
                <a:cubicBezTo>
                  <a:pt x="10633" y="12725"/>
                  <a:pt x="10558" y="12725"/>
                  <a:pt x="10517" y="12725"/>
                </a:cubicBezTo>
                <a:cubicBezTo>
                  <a:pt x="10344" y="12725"/>
                  <a:pt x="10023" y="12659"/>
                  <a:pt x="9872" y="12750"/>
                </a:cubicBezTo>
                <a:cubicBezTo>
                  <a:pt x="9850" y="12772"/>
                  <a:pt x="9845" y="12780"/>
                  <a:pt x="9823" y="12774"/>
                </a:cubicBezTo>
              </a:path>
              <a:path w="11585" h="4094">
                <a:moveTo>
                  <a:pt x="10096" y="13022"/>
                </a:moveTo>
                <a:cubicBezTo>
                  <a:pt x="10107" y="12988"/>
                  <a:pt x="10152" y="12971"/>
                  <a:pt x="10195" y="12948"/>
                </a:cubicBezTo>
                <a:cubicBezTo>
                  <a:pt x="10267" y="12909"/>
                  <a:pt x="10316" y="12875"/>
                  <a:pt x="10393" y="12923"/>
                </a:cubicBezTo>
                <a:cubicBezTo>
                  <a:pt x="10448" y="12957"/>
                  <a:pt x="10466" y="13049"/>
                  <a:pt x="10418" y="13097"/>
                </a:cubicBezTo>
                <a:cubicBezTo>
                  <a:pt x="10375" y="13140"/>
                  <a:pt x="10299" y="13185"/>
                  <a:pt x="10269" y="13246"/>
                </a:cubicBezTo>
                <a:cubicBezTo>
                  <a:pt x="10269" y="13271"/>
                  <a:pt x="10269" y="13279"/>
                  <a:pt x="10269" y="13295"/>
                </a:cubicBezTo>
                <a:cubicBezTo>
                  <a:pt x="10339" y="13321"/>
                  <a:pt x="10399" y="13335"/>
                  <a:pt x="10468" y="13370"/>
                </a:cubicBezTo>
                <a:cubicBezTo>
                  <a:pt x="10512" y="13392"/>
                  <a:pt x="10533" y="13410"/>
                  <a:pt x="10567" y="13444"/>
                </a:cubicBezTo>
                <a:cubicBezTo>
                  <a:pt x="10539" y="13500"/>
                  <a:pt x="10466" y="13530"/>
                  <a:pt x="10393" y="13519"/>
                </a:cubicBezTo>
                <a:cubicBezTo>
                  <a:pt x="10310" y="13506"/>
                  <a:pt x="10228" y="13488"/>
                  <a:pt x="10145" y="13469"/>
                </a:cubicBezTo>
              </a:path>
              <a:path w="11585" h="4094">
                <a:moveTo>
                  <a:pt x="11633" y="12725"/>
                </a:moveTo>
                <a:cubicBezTo>
                  <a:pt x="11641" y="12725"/>
                  <a:pt x="11650" y="12725"/>
                  <a:pt x="11658" y="12725"/>
                </a:cubicBezTo>
                <a:cubicBezTo>
                  <a:pt x="11641" y="12775"/>
                  <a:pt x="11610" y="12734"/>
                  <a:pt x="11559" y="12750"/>
                </a:cubicBezTo>
                <a:cubicBezTo>
                  <a:pt x="11504" y="12767"/>
                  <a:pt x="11453" y="12767"/>
                  <a:pt x="11410" y="12799"/>
                </a:cubicBezTo>
              </a:path>
              <a:path w="11585" h="4094">
                <a:moveTo>
                  <a:pt x="11534" y="12874"/>
                </a:moveTo>
                <a:cubicBezTo>
                  <a:pt x="11592" y="12893"/>
                  <a:pt x="11617" y="12883"/>
                  <a:pt x="11609" y="12923"/>
                </a:cubicBezTo>
                <a:cubicBezTo>
                  <a:pt x="11585" y="12959"/>
                  <a:pt x="11542" y="12948"/>
                  <a:pt x="11485" y="12948"/>
                </a:cubicBezTo>
                <a:cubicBezTo>
                  <a:pt x="11460" y="12948"/>
                  <a:pt x="11452" y="12948"/>
                  <a:pt x="11435" y="12948"/>
                </a:cubicBezTo>
              </a:path>
              <a:path w="11585" h="4094">
                <a:moveTo>
                  <a:pt x="12055" y="12576"/>
                </a:moveTo>
                <a:cubicBezTo>
                  <a:pt x="12088" y="12543"/>
                  <a:pt x="12093" y="12547"/>
                  <a:pt x="12154" y="12526"/>
                </a:cubicBezTo>
                <a:cubicBezTo>
                  <a:pt x="12210" y="12507"/>
                  <a:pt x="12299" y="12473"/>
                  <a:pt x="12353" y="12526"/>
                </a:cubicBezTo>
                <a:cubicBezTo>
                  <a:pt x="12445" y="12617"/>
                  <a:pt x="12314" y="12767"/>
                  <a:pt x="12278" y="12849"/>
                </a:cubicBezTo>
                <a:cubicBezTo>
                  <a:pt x="12232" y="12954"/>
                  <a:pt x="12101" y="13099"/>
                  <a:pt x="12105" y="13221"/>
                </a:cubicBezTo>
                <a:cubicBezTo>
                  <a:pt x="12109" y="13351"/>
                  <a:pt x="12362" y="13363"/>
                  <a:pt x="12452" y="13370"/>
                </a:cubicBezTo>
                <a:cubicBezTo>
                  <a:pt x="12607" y="13382"/>
                  <a:pt x="12768" y="13370"/>
                  <a:pt x="12923" y="133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483160" y="4384800"/>
            <a:ext cx="2990880" cy="1258920"/>
          </a:xfrm>
          <a:custGeom>
            <a:avLst/>
            <a:gdLst/>
            <a:ahLst/>
            <a:rect l="l" t="t" r="r" b="b"/>
            <a:pathLst>
              <a:path w="8311" h="3499">
                <a:moveTo>
                  <a:pt x="15751" y="12502"/>
                </a:moveTo>
                <a:cubicBezTo>
                  <a:pt x="15751" y="12510"/>
                  <a:pt x="15751" y="12518"/>
                  <a:pt x="15751" y="12526"/>
                </a:cubicBezTo>
                <a:cubicBezTo>
                  <a:pt x="15834" y="12526"/>
                  <a:pt x="15916" y="12526"/>
                  <a:pt x="15999" y="12526"/>
                </a:cubicBezTo>
              </a:path>
              <a:path w="8311" h="3499">
                <a:moveTo>
                  <a:pt x="16495" y="12229"/>
                </a:moveTo>
                <a:cubicBezTo>
                  <a:pt x="16495" y="12212"/>
                  <a:pt x="16495" y="12196"/>
                  <a:pt x="16495" y="12179"/>
                </a:cubicBezTo>
                <a:cubicBezTo>
                  <a:pt x="16537" y="12193"/>
                  <a:pt x="16543" y="12249"/>
                  <a:pt x="16545" y="12303"/>
                </a:cubicBezTo>
                <a:cubicBezTo>
                  <a:pt x="16547" y="12352"/>
                  <a:pt x="16545" y="12403"/>
                  <a:pt x="16545" y="12452"/>
                </a:cubicBezTo>
              </a:path>
              <a:path w="8311" h="3499">
                <a:moveTo>
                  <a:pt x="16818" y="12576"/>
                </a:moveTo>
                <a:cubicBezTo>
                  <a:pt x="16803" y="12620"/>
                  <a:pt x="16747" y="12601"/>
                  <a:pt x="16694" y="12601"/>
                </a:cubicBezTo>
                <a:cubicBezTo>
                  <a:pt x="16586" y="12601"/>
                  <a:pt x="16479" y="12601"/>
                  <a:pt x="16371" y="12601"/>
                </a:cubicBezTo>
              </a:path>
              <a:path w="8311" h="3499">
                <a:moveTo>
                  <a:pt x="16545" y="12750"/>
                </a:moveTo>
                <a:cubicBezTo>
                  <a:pt x="16482" y="12718"/>
                  <a:pt x="16615" y="12725"/>
                  <a:pt x="16644" y="12725"/>
                </a:cubicBezTo>
                <a:cubicBezTo>
                  <a:pt x="16720" y="12725"/>
                  <a:pt x="16736" y="12718"/>
                  <a:pt x="16743" y="12799"/>
                </a:cubicBezTo>
                <a:cubicBezTo>
                  <a:pt x="16748" y="12863"/>
                  <a:pt x="16737" y="12900"/>
                  <a:pt x="16694" y="12948"/>
                </a:cubicBezTo>
                <a:cubicBezTo>
                  <a:pt x="16667" y="12978"/>
                  <a:pt x="16654" y="12985"/>
                  <a:pt x="16644" y="13022"/>
                </a:cubicBezTo>
                <a:cubicBezTo>
                  <a:pt x="16697" y="13022"/>
                  <a:pt x="16714" y="13001"/>
                  <a:pt x="16768" y="12998"/>
                </a:cubicBezTo>
                <a:cubicBezTo>
                  <a:pt x="16825" y="12995"/>
                  <a:pt x="16884" y="12998"/>
                  <a:pt x="16942" y="12998"/>
                </a:cubicBezTo>
              </a:path>
              <a:path w="8311" h="3499">
                <a:moveTo>
                  <a:pt x="17587" y="12551"/>
                </a:moveTo>
                <a:cubicBezTo>
                  <a:pt x="17595" y="12551"/>
                  <a:pt x="17603" y="12551"/>
                  <a:pt x="17611" y="12551"/>
                </a:cubicBezTo>
                <a:cubicBezTo>
                  <a:pt x="17599" y="12513"/>
                  <a:pt x="17582" y="12526"/>
                  <a:pt x="17537" y="12526"/>
                </a:cubicBezTo>
                <a:cubicBezTo>
                  <a:pt x="17498" y="12526"/>
                  <a:pt x="17483" y="12551"/>
                  <a:pt x="17438" y="12551"/>
                </a:cubicBezTo>
              </a:path>
              <a:path w="8311" h="3499">
                <a:moveTo>
                  <a:pt x="17686" y="12700"/>
                </a:moveTo>
                <a:cubicBezTo>
                  <a:pt x="17655" y="12723"/>
                  <a:pt x="17625" y="12746"/>
                  <a:pt x="17587" y="12750"/>
                </a:cubicBezTo>
                <a:cubicBezTo>
                  <a:pt x="17579" y="12750"/>
                  <a:pt x="17570" y="12750"/>
                  <a:pt x="17562" y="12750"/>
                </a:cubicBezTo>
              </a:path>
              <a:path w="8311" h="3499">
                <a:moveTo>
                  <a:pt x="18355" y="12626"/>
                </a:moveTo>
                <a:cubicBezTo>
                  <a:pt x="18347" y="12626"/>
                  <a:pt x="18339" y="12626"/>
                  <a:pt x="18331" y="12626"/>
                </a:cubicBezTo>
                <a:cubicBezTo>
                  <a:pt x="18381" y="12626"/>
                  <a:pt x="18389" y="12615"/>
                  <a:pt x="18430" y="12601"/>
                </a:cubicBezTo>
                <a:cubicBezTo>
                  <a:pt x="18449" y="12595"/>
                  <a:pt x="18484" y="12601"/>
                  <a:pt x="18504" y="12601"/>
                </a:cubicBezTo>
              </a:path>
              <a:path w="8311" h="3499">
                <a:moveTo>
                  <a:pt x="18852" y="12278"/>
                </a:moveTo>
                <a:cubicBezTo>
                  <a:pt x="18871" y="12221"/>
                  <a:pt x="18861" y="12196"/>
                  <a:pt x="18901" y="12204"/>
                </a:cubicBezTo>
                <a:cubicBezTo>
                  <a:pt x="18901" y="12271"/>
                  <a:pt x="18887" y="12317"/>
                  <a:pt x="18876" y="12378"/>
                </a:cubicBezTo>
                <a:cubicBezTo>
                  <a:pt x="18868" y="12423"/>
                  <a:pt x="18876" y="12480"/>
                  <a:pt x="18876" y="12526"/>
                </a:cubicBezTo>
              </a:path>
              <a:path w="8311" h="3499">
                <a:moveTo>
                  <a:pt x="19174" y="12626"/>
                </a:moveTo>
                <a:cubicBezTo>
                  <a:pt x="19159" y="12669"/>
                  <a:pt x="19102" y="12650"/>
                  <a:pt x="19050" y="12650"/>
                </a:cubicBezTo>
                <a:cubicBezTo>
                  <a:pt x="18959" y="12650"/>
                  <a:pt x="18868" y="12650"/>
                  <a:pt x="18777" y="12650"/>
                </a:cubicBezTo>
              </a:path>
              <a:path w="8311" h="3499">
                <a:moveTo>
                  <a:pt x="18951" y="12824"/>
                </a:moveTo>
                <a:cubicBezTo>
                  <a:pt x="18964" y="12862"/>
                  <a:pt x="18980" y="12849"/>
                  <a:pt x="19025" y="12849"/>
                </a:cubicBezTo>
                <a:cubicBezTo>
                  <a:pt x="19058" y="12849"/>
                  <a:pt x="19091" y="12849"/>
                  <a:pt x="19124" y="12849"/>
                </a:cubicBezTo>
                <a:cubicBezTo>
                  <a:pt x="19124" y="12927"/>
                  <a:pt x="19096" y="12895"/>
                  <a:pt x="19050" y="12948"/>
                </a:cubicBezTo>
                <a:cubicBezTo>
                  <a:pt x="19027" y="12975"/>
                  <a:pt x="18980" y="13038"/>
                  <a:pt x="18976" y="13072"/>
                </a:cubicBezTo>
                <a:cubicBezTo>
                  <a:pt x="18976" y="13080"/>
                  <a:pt x="18976" y="13089"/>
                  <a:pt x="18976" y="13097"/>
                </a:cubicBezTo>
                <a:cubicBezTo>
                  <a:pt x="19043" y="13097"/>
                  <a:pt x="19088" y="13082"/>
                  <a:pt x="19149" y="13072"/>
                </a:cubicBezTo>
                <a:cubicBezTo>
                  <a:pt x="19209" y="13062"/>
                  <a:pt x="19264" y="13054"/>
                  <a:pt x="19323" y="13047"/>
                </a:cubicBezTo>
              </a:path>
              <a:path w="8311" h="3499">
                <a:moveTo>
                  <a:pt x="23540" y="13866"/>
                </a:moveTo>
                <a:cubicBezTo>
                  <a:pt x="23490" y="13851"/>
                  <a:pt x="23442" y="13830"/>
                  <a:pt x="23391" y="13816"/>
                </a:cubicBezTo>
                <a:cubicBezTo>
                  <a:pt x="23333" y="13800"/>
                  <a:pt x="23276" y="13783"/>
                  <a:pt x="23217" y="13767"/>
                </a:cubicBezTo>
                <a:cubicBezTo>
                  <a:pt x="23133" y="13744"/>
                  <a:pt x="23031" y="13731"/>
                  <a:pt x="22944" y="13717"/>
                </a:cubicBezTo>
                <a:cubicBezTo>
                  <a:pt x="22835" y="13700"/>
                  <a:pt x="22729" y="13692"/>
                  <a:pt x="22622" y="13667"/>
                </a:cubicBezTo>
                <a:cubicBezTo>
                  <a:pt x="22504" y="13640"/>
                  <a:pt x="22392" y="13612"/>
                  <a:pt x="22275" y="13593"/>
                </a:cubicBezTo>
                <a:cubicBezTo>
                  <a:pt x="22165" y="13576"/>
                  <a:pt x="22036" y="13550"/>
                  <a:pt x="21927" y="13543"/>
                </a:cubicBezTo>
                <a:cubicBezTo>
                  <a:pt x="21747" y="13531"/>
                  <a:pt x="21558" y="13528"/>
                  <a:pt x="21382" y="13519"/>
                </a:cubicBezTo>
                <a:cubicBezTo>
                  <a:pt x="21278" y="13513"/>
                  <a:pt x="21183" y="13517"/>
                  <a:pt x="21084" y="13543"/>
                </a:cubicBezTo>
                <a:cubicBezTo>
                  <a:pt x="21009" y="13563"/>
                  <a:pt x="20935" y="13599"/>
                  <a:pt x="20861" y="13618"/>
                </a:cubicBezTo>
                <a:cubicBezTo>
                  <a:pt x="20763" y="13643"/>
                  <a:pt x="20661" y="13644"/>
                  <a:pt x="20563" y="13667"/>
                </a:cubicBezTo>
                <a:cubicBezTo>
                  <a:pt x="20487" y="13685"/>
                  <a:pt x="20418" y="13734"/>
                  <a:pt x="20340" y="13742"/>
                </a:cubicBezTo>
                <a:cubicBezTo>
                  <a:pt x="20212" y="13756"/>
                  <a:pt x="20068" y="13759"/>
                  <a:pt x="19943" y="13767"/>
                </a:cubicBezTo>
                <a:cubicBezTo>
                  <a:pt x="19825" y="13774"/>
                  <a:pt x="19712" y="13785"/>
                  <a:pt x="19596" y="13791"/>
                </a:cubicBezTo>
                <a:cubicBezTo>
                  <a:pt x="19474" y="13798"/>
                  <a:pt x="19368" y="13828"/>
                  <a:pt x="19248" y="13841"/>
                </a:cubicBezTo>
                <a:cubicBezTo>
                  <a:pt x="19051" y="13863"/>
                  <a:pt x="18852" y="13902"/>
                  <a:pt x="18653" y="13915"/>
                </a:cubicBezTo>
                <a:cubicBezTo>
                  <a:pt x="18452" y="13928"/>
                  <a:pt x="18254" y="13901"/>
                  <a:pt x="18058" y="13891"/>
                </a:cubicBezTo>
                <a:cubicBezTo>
                  <a:pt x="17899" y="13883"/>
                  <a:pt x="17744" y="13870"/>
                  <a:pt x="17587" y="13841"/>
                </a:cubicBezTo>
                <a:cubicBezTo>
                  <a:pt x="17431" y="13812"/>
                  <a:pt x="17273" y="13789"/>
                  <a:pt x="17115" y="13767"/>
                </a:cubicBezTo>
                <a:cubicBezTo>
                  <a:pt x="16958" y="13745"/>
                  <a:pt x="16801" y="13737"/>
                  <a:pt x="16644" y="13717"/>
                </a:cubicBezTo>
                <a:cubicBezTo>
                  <a:pt x="16521" y="13702"/>
                  <a:pt x="16396" y="13677"/>
                  <a:pt x="16272" y="13667"/>
                </a:cubicBezTo>
                <a:cubicBezTo>
                  <a:pt x="16230" y="13667"/>
                  <a:pt x="16222" y="13667"/>
                  <a:pt x="16197" y="13667"/>
                </a:cubicBezTo>
              </a:path>
              <a:path w="8311" h="3499">
                <a:moveTo>
                  <a:pt x="15627" y="14238"/>
                </a:moveTo>
                <a:cubicBezTo>
                  <a:pt x="15554" y="14238"/>
                  <a:pt x="15496" y="14252"/>
                  <a:pt x="15429" y="14263"/>
                </a:cubicBezTo>
                <a:cubicBezTo>
                  <a:pt x="15367" y="14273"/>
                  <a:pt x="15293" y="14263"/>
                  <a:pt x="15230" y="14263"/>
                </a:cubicBezTo>
              </a:path>
              <a:path w="8311" h="3499">
                <a:moveTo>
                  <a:pt x="15900" y="14114"/>
                </a:moveTo>
                <a:cubicBezTo>
                  <a:pt x="15900" y="14062"/>
                  <a:pt x="15895" y="14061"/>
                  <a:pt x="15925" y="14039"/>
                </a:cubicBezTo>
                <a:cubicBezTo>
                  <a:pt x="15975" y="14002"/>
                  <a:pt x="16035" y="14015"/>
                  <a:pt x="16098" y="14015"/>
                </a:cubicBezTo>
                <a:cubicBezTo>
                  <a:pt x="16174" y="14015"/>
                  <a:pt x="16191" y="14043"/>
                  <a:pt x="16197" y="14114"/>
                </a:cubicBezTo>
                <a:cubicBezTo>
                  <a:pt x="16204" y="14199"/>
                  <a:pt x="16138" y="14191"/>
                  <a:pt x="16098" y="14238"/>
                </a:cubicBezTo>
                <a:cubicBezTo>
                  <a:pt x="16072" y="14268"/>
                  <a:pt x="16033" y="14327"/>
                  <a:pt x="16024" y="14362"/>
                </a:cubicBezTo>
                <a:cubicBezTo>
                  <a:pt x="16074" y="14372"/>
                  <a:pt x="16127" y="14396"/>
                  <a:pt x="16173" y="14412"/>
                </a:cubicBezTo>
                <a:cubicBezTo>
                  <a:pt x="16220" y="14428"/>
                  <a:pt x="16267" y="14462"/>
                  <a:pt x="16272" y="14511"/>
                </a:cubicBezTo>
                <a:cubicBezTo>
                  <a:pt x="16278" y="14564"/>
                  <a:pt x="16235" y="14560"/>
                  <a:pt x="16197" y="14560"/>
                </a:cubicBezTo>
                <a:cubicBezTo>
                  <a:pt x="16148" y="14560"/>
                  <a:pt x="16098" y="14560"/>
                  <a:pt x="16049" y="14560"/>
                </a:cubicBezTo>
              </a:path>
              <a:path w="8311" h="3499">
                <a:moveTo>
                  <a:pt x="16545" y="14337"/>
                </a:moveTo>
                <a:cubicBezTo>
                  <a:pt x="16652" y="14337"/>
                  <a:pt x="16760" y="14337"/>
                  <a:pt x="16867" y="14337"/>
                </a:cubicBezTo>
              </a:path>
              <a:path w="8311" h="3499">
                <a:moveTo>
                  <a:pt x="17264" y="14412"/>
                </a:moveTo>
                <a:cubicBezTo>
                  <a:pt x="17256" y="14412"/>
                  <a:pt x="17247" y="14412"/>
                  <a:pt x="17239" y="14412"/>
                </a:cubicBezTo>
                <a:cubicBezTo>
                  <a:pt x="17289" y="14399"/>
                  <a:pt x="17303" y="14387"/>
                  <a:pt x="17363" y="14387"/>
                </a:cubicBezTo>
                <a:cubicBezTo>
                  <a:pt x="17416" y="14387"/>
                  <a:pt x="17443" y="14388"/>
                  <a:pt x="17487" y="14362"/>
                </a:cubicBezTo>
              </a:path>
              <a:path w="8311" h="3499">
                <a:moveTo>
                  <a:pt x="17735" y="14213"/>
                </a:moveTo>
                <a:cubicBezTo>
                  <a:pt x="17783" y="14157"/>
                  <a:pt x="17773" y="14139"/>
                  <a:pt x="17835" y="14139"/>
                </a:cubicBezTo>
                <a:cubicBezTo>
                  <a:pt x="17835" y="14201"/>
                  <a:pt x="17837" y="14237"/>
                  <a:pt x="17810" y="14288"/>
                </a:cubicBezTo>
                <a:cubicBezTo>
                  <a:pt x="17784" y="14337"/>
                  <a:pt x="17765" y="14407"/>
                  <a:pt x="17760" y="14461"/>
                </a:cubicBezTo>
                <a:cubicBezTo>
                  <a:pt x="17755" y="14516"/>
                  <a:pt x="17778" y="14521"/>
                  <a:pt x="17835" y="14536"/>
                </a:cubicBezTo>
                <a:cubicBezTo>
                  <a:pt x="17912" y="14556"/>
                  <a:pt x="18005" y="14542"/>
                  <a:pt x="18083" y="14560"/>
                </a:cubicBezTo>
                <a:cubicBezTo>
                  <a:pt x="18127" y="14570"/>
                  <a:pt x="18185" y="14560"/>
                  <a:pt x="18231" y="14560"/>
                </a:cubicBezTo>
              </a:path>
              <a:path w="8311" h="3499">
                <a:moveTo>
                  <a:pt x="18107" y="14511"/>
                </a:moveTo>
                <a:cubicBezTo>
                  <a:pt x="18018" y="14524"/>
                  <a:pt x="18013" y="14541"/>
                  <a:pt x="18008" y="14635"/>
                </a:cubicBezTo>
                <a:cubicBezTo>
                  <a:pt x="18006" y="14684"/>
                  <a:pt x="18008" y="14735"/>
                  <a:pt x="18008" y="14784"/>
                </a:cubicBezTo>
              </a:path>
              <a:path w="8311" h="3499">
                <a:moveTo>
                  <a:pt x="18976" y="14560"/>
                </a:moveTo>
                <a:cubicBezTo>
                  <a:pt x="18984" y="14568"/>
                  <a:pt x="18992" y="14577"/>
                  <a:pt x="19000" y="14585"/>
                </a:cubicBezTo>
                <a:cubicBezTo>
                  <a:pt x="18974" y="14565"/>
                  <a:pt x="18932" y="14546"/>
                  <a:pt x="18901" y="14536"/>
                </a:cubicBezTo>
                <a:cubicBezTo>
                  <a:pt x="18876" y="14536"/>
                  <a:pt x="18868" y="14536"/>
                  <a:pt x="18852" y="14536"/>
                </a:cubicBezTo>
              </a:path>
              <a:path w="8311" h="3499">
                <a:moveTo>
                  <a:pt x="19100" y="14784"/>
                </a:moveTo>
                <a:cubicBezTo>
                  <a:pt x="19036" y="14784"/>
                  <a:pt x="18976" y="14797"/>
                  <a:pt x="18926" y="14759"/>
                </a:cubicBezTo>
              </a:path>
              <a:path w="8311" h="3499">
                <a:moveTo>
                  <a:pt x="19695" y="14412"/>
                </a:moveTo>
                <a:cubicBezTo>
                  <a:pt x="19737" y="14425"/>
                  <a:pt x="19720" y="14460"/>
                  <a:pt x="19720" y="14511"/>
                </a:cubicBezTo>
                <a:cubicBezTo>
                  <a:pt x="19720" y="14643"/>
                  <a:pt x="19720" y="14776"/>
                  <a:pt x="19720" y="14908"/>
                </a:cubicBezTo>
              </a:path>
              <a:path w="8311" h="3499">
                <a:moveTo>
                  <a:pt x="16272" y="14858"/>
                </a:moveTo>
                <a:cubicBezTo>
                  <a:pt x="16294" y="14836"/>
                  <a:pt x="16299" y="14827"/>
                  <a:pt x="16321" y="14833"/>
                </a:cubicBezTo>
                <a:cubicBezTo>
                  <a:pt x="16246" y="14833"/>
                  <a:pt x="16243" y="14856"/>
                  <a:pt x="16197" y="14908"/>
                </a:cubicBezTo>
                <a:cubicBezTo>
                  <a:pt x="16108" y="15010"/>
                  <a:pt x="16058" y="15069"/>
                  <a:pt x="16049" y="15205"/>
                </a:cubicBezTo>
                <a:cubicBezTo>
                  <a:pt x="16044" y="15282"/>
                  <a:pt x="16071" y="15396"/>
                  <a:pt x="16173" y="15379"/>
                </a:cubicBezTo>
                <a:cubicBezTo>
                  <a:pt x="16233" y="15369"/>
                  <a:pt x="16291" y="15290"/>
                  <a:pt x="16272" y="15230"/>
                </a:cubicBezTo>
                <a:cubicBezTo>
                  <a:pt x="16252" y="15166"/>
                  <a:pt x="16145" y="15180"/>
                  <a:pt x="16098" y="15180"/>
                </a:cubicBezTo>
                <a:cubicBezTo>
                  <a:pt x="16090" y="15180"/>
                  <a:pt x="16081" y="15180"/>
                  <a:pt x="16073" y="15180"/>
                </a:cubicBezTo>
              </a:path>
              <a:path w="8311" h="3499">
                <a:moveTo>
                  <a:pt x="16619" y="15180"/>
                </a:moveTo>
                <a:cubicBezTo>
                  <a:pt x="16603" y="15172"/>
                  <a:pt x="16586" y="15164"/>
                  <a:pt x="16570" y="15156"/>
                </a:cubicBezTo>
                <a:cubicBezTo>
                  <a:pt x="16644" y="15156"/>
                  <a:pt x="16697" y="15170"/>
                  <a:pt x="16768" y="15180"/>
                </a:cubicBezTo>
                <a:cubicBezTo>
                  <a:pt x="16785" y="15180"/>
                  <a:pt x="16801" y="15180"/>
                  <a:pt x="16818" y="15180"/>
                </a:cubicBezTo>
              </a:path>
              <a:path w="8311" h="3499">
                <a:moveTo>
                  <a:pt x="17462" y="15106"/>
                </a:moveTo>
                <a:cubicBezTo>
                  <a:pt x="17501" y="15088"/>
                  <a:pt x="17601" y="15062"/>
                  <a:pt x="17611" y="15032"/>
                </a:cubicBezTo>
                <a:cubicBezTo>
                  <a:pt x="17534" y="15041"/>
                  <a:pt x="17462" y="15074"/>
                  <a:pt x="17388" y="15106"/>
                </a:cubicBezTo>
                <a:cubicBezTo>
                  <a:pt x="17342" y="15126"/>
                  <a:pt x="17323" y="15147"/>
                  <a:pt x="17289" y="15180"/>
                </a:cubicBezTo>
                <a:cubicBezTo>
                  <a:pt x="17289" y="15255"/>
                  <a:pt x="17324" y="15219"/>
                  <a:pt x="17388" y="15255"/>
                </a:cubicBezTo>
                <a:cubicBezTo>
                  <a:pt x="17453" y="15292"/>
                  <a:pt x="17578" y="15355"/>
                  <a:pt x="17611" y="15429"/>
                </a:cubicBezTo>
                <a:cubicBezTo>
                  <a:pt x="17611" y="15445"/>
                  <a:pt x="17611" y="15462"/>
                  <a:pt x="17611" y="15478"/>
                </a:cubicBezTo>
                <a:cubicBezTo>
                  <a:pt x="17559" y="15518"/>
                  <a:pt x="17524" y="15506"/>
                  <a:pt x="17462" y="15478"/>
                </a:cubicBezTo>
                <a:cubicBezTo>
                  <a:pt x="17407" y="15453"/>
                  <a:pt x="17342" y="15372"/>
                  <a:pt x="17363" y="15304"/>
                </a:cubicBezTo>
                <a:cubicBezTo>
                  <a:pt x="17385" y="15234"/>
                  <a:pt x="17486" y="15223"/>
                  <a:pt x="17537" y="15205"/>
                </a:cubicBezTo>
              </a:path>
              <a:path w="8311" h="3499">
                <a:moveTo>
                  <a:pt x="18678" y="15304"/>
                </a:moveTo>
                <a:cubicBezTo>
                  <a:pt x="18686" y="15304"/>
                  <a:pt x="18695" y="15304"/>
                  <a:pt x="18703" y="15304"/>
                </a:cubicBezTo>
                <a:cubicBezTo>
                  <a:pt x="18690" y="15268"/>
                  <a:pt x="18672" y="15280"/>
                  <a:pt x="18628" y="15280"/>
                </a:cubicBezTo>
                <a:cubicBezTo>
                  <a:pt x="18587" y="15280"/>
                  <a:pt x="18579" y="15280"/>
                  <a:pt x="18554" y="15280"/>
                </a:cubicBezTo>
              </a:path>
              <a:path w="8311" h="3499">
                <a:moveTo>
                  <a:pt x="18628" y="15379"/>
                </a:moveTo>
                <a:cubicBezTo>
                  <a:pt x="18636" y="15387"/>
                  <a:pt x="18645" y="15396"/>
                  <a:pt x="18653" y="15404"/>
                </a:cubicBezTo>
                <a:cubicBezTo>
                  <a:pt x="18606" y="15439"/>
                  <a:pt x="18566" y="15429"/>
                  <a:pt x="18504" y="15429"/>
                </a:cubicBezTo>
                <a:cubicBezTo>
                  <a:pt x="18488" y="15429"/>
                  <a:pt x="18471" y="15429"/>
                  <a:pt x="18455" y="15429"/>
                </a:cubicBezTo>
              </a:path>
              <a:path w="8311" h="3499">
                <a:moveTo>
                  <a:pt x="19248" y="15429"/>
                </a:moveTo>
                <a:cubicBezTo>
                  <a:pt x="19210" y="15383"/>
                  <a:pt x="19209" y="15366"/>
                  <a:pt x="19174" y="15354"/>
                </a:cubicBezTo>
                <a:cubicBezTo>
                  <a:pt x="19218" y="15327"/>
                  <a:pt x="19294" y="15313"/>
                  <a:pt x="19348" y="15304"/>
                </a:cubicBezTo>
                <a:cubicBezTo>
                  <a:pt x="19399" y="15304"/>
                  <a:pt x="19418" y="15305"/>
                  <a:pt x="19447" y="15329"/>
                </a:cubicBezTo>
              </a:path>
              <a:path w="8311" h="3499">
                <a:moveTo>
                  <a:pt x="19869" y="15404"/>
                </a:moveTo>
                <a:cubicBezTo>
                  <a:pt x="19869" y="15342"/>
                  <a:pt x="19858" y="15306"/>
                  <a:pt x="19893" y="15280"/>
                </a:cubicBezTo>
                <a:cubicBezTo>
                  <a:pt x="19923" y="15258"/>
                  <a:pt x="19976" y="15234"/>
                  <a:pt x="20017" y="15255"/>
                </a:cubicBezTo>
                <a:cubicBezTo>
                  <a:pt x="20087" y="15290"/>
                  <a:pt x="20072" y="15376"/>
                  <a:pt x="20042" y="15429"/>
                </a:cubicBezTo>
                <a:cubicBezTo>
                  <a:pt x="20011" y="15485"/>
                  <a:pt x="19941" y="15544"/>
                  <a:pt x="19918" y="15602"/>
                </a:cubicBezTo>
                <a:cubicBezTo>
                  <a:pt x="19890" y="15671"/>
                  <a:pt x="19972" y="15675"/>
                  <a:pt x="20017" y="15677"/>
                </a:cubicBezTo>
                <a:cubicBezTo>
                  <a:pt x="20149" y="15683"/>
                  <a:pt x="20282" y="15677"/>
                  <a:pt x="20414" y="156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09840" y="5133960"/>
            <a:ext cx="463320" cy="268200"/>
          </a:xfrm>
          <a:custGeom>
            <a:avLst/>
            <a:gdLst/>
            <a:ahLst/>
            <a:rect l="l" t="t" r="r" b="b"/>
            <a:pathLst>
              <a:path w="1291" h="745">
                <a:moveTo>
                  <a:pt x="4242" y="14387"/>
                </a:moveTo>
                <a:cubicBezTo>
                  <a:pt x="4266" y="14343"/>
                  <a:pt x="4305" y="14307"/>
                  <a:pt x="4316" y="14263"/>
                </a:cubicBezTo>
                <a:cubicBezTo>
                  <a:pt x="4286" y="14313"/>
                  <a:pt x="4232" y="14428"/>
                  <a:pt x="4217" y="14486"/>
                </a:cubicBezTo>
                <a:cubicBezTo>
                  <a:pt x="4201" y="14546"/>
                  <a:pt x="4174" y="14669"/>
                  <a:pt x="4192" y="14734"/>
                </a:cubicBezTo>
                <a:cubicBezTo>
                  <a:pt x="4213" y="14810"/>
                  <a:pt x="4276" y="14784"/>
                  <a:pt x="4341" y="14784"/>
                </a:cubicBezTo>
                <a:cubicBezTo>
                  <a:pt x="4417" y="14784"/>
                  <a:pt x="4469" y="14792"/>
                  <a:pt x="4539" y="14808"/>
                </a:cubicBezTo>
                <a:cubicBezTo>
                  <a:pt x="4569" y="14815"/>
                  <a:pt x="4584" y="14825"/>
                  <a:pt x="4614" y="14833"/>
                </a:cubicBezTo>
              </a:path>
              <a:path w="1291" h="745">
                <a:moveTo>
                  <a:pt x="4514" y="14709"/>
                </a:moveTo>
                <a:cubicBezTo>
                  <a:pt x="4498" y="14693"/>
                  <a:pt x="4481" y="14676"/>
                  <a:pt x="4465" y="14660"/>
                </a:cubicBezTo>
                <a:cubicBezTo>
                  <a:pt x="4465" y="14776"/>
                  <a:pt x="4465" y="14891"/>
                  <a:pt x="4465" y="15007"/>
                </a:cubicBezTo>
              </a:path>
              <a:path w="1291" h="745">
                <a:moveTo>
                  <a:pt x="4837" y="14709"/>
                </a:moveTo>
                <a:cubicBezTo>
                  <a:pt x="4837" y="14734"/>
                  <a:pt x="4837" y="14742"/>
                  <a:pt x="4837" y="14759"/>
                </a:cubicBezTo>
                <a:cubicBezTo>
                  <a:pt x="4896" y="14759"/>
                  <a:pt x="4889" y="14722"/>
                  <a:pt x="4936" y="14709"/>
                </a:cubicBezTo>
                <a:cubicBezTo>
                  <a:pt x="4976" y="14697"/>
                  <a:pt x="5043" y="14709"/>
                  <a:pt x="5085" y="14709"/>
                </a:cubicBezTo>
              </a:path>
              <a:path w="1291" h="745">
                <a:moveTo>
                  <a:pt x="5358" y="14362"/>
                </a:moveTo>
                <a:cubicBezTo>
                  <a:pt x="5397" y="14303"/>
                  <a:pt x="5401" y="14291"/>
                  <a:pt x="5432" y="14263"/>
                </a:cubicBezTo>
                <a:cubicBezTo>
                  <a:pt x="5501" y="14349"/>
                  <a:pt x="5482" y="14425"/>
                  <a:pt x="5482" y="14536"/>
                </a:cubicBezTo>
                <a:cubicBezTo>
                  <a:pt x="5482" y="14638"/>
                  <a:pt x="5463" y="14732"/>
                  <a:pt x="5457" y="148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125800" y="5276880"/>
            <a:ext cx="88920" cy="81000"/>
          </a:xfrm>
          <a:custGeom>
            <a:avLst/>
            <a:gdLst/>
            <a:ahLst/>
            <a:rect l="l" t="t" r="r" b="b"/>
            <a:pathLst>
              <a:path w="249" h="224">
                <a:moveTo>
                  <a:pt x="6003" y="14660"/>
                </a:moveTo>
                <a:cubicBezTo>
                  <a:pt x="6047" y="14660"/>
                  <a:pt x="6060" y="14657"/>
                  <a:pt x="6077" y="14684"/>
                </a:cubicBezTo>
                <a:cubicBezTo>
                  <a:pt x="6013" y="14693"/>
                  <a:pt x="5975" y="14709"/>
                  <a:pt x="5904" y="14709"/>
                </a:cubicBezTo>
              </a:path>
              <a:path w="249" h="224">
                <a:moveTo>
                  <a:pt x="6077" y="14808"/>
                </a:moveTo>
                <a:cubicBezTo>
                  <a:pt x="6119" y="14808"/>
                  <a:pt x="6127" y="14808"/>
                  <a:pt x="6152" y="14808"/>
                </a:cubicBezTo>
                <a:cubicBezTo>
                  <a:pt x="6134" y="14844"/>
                  <a:pt x="6078" y="14874"/>
                  <a:pt x="6028" y="14883"/>
                </a:cubicBezTo>
                <a:cubicBezTo>
                  <a:pt x="6011" y="14883"/>
                  <a:pt x="5995" y="14883"/>
                  <a:pt x="5978" y="148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7920" y="5180040"/>
            <a:ext cx="125280" cy="214200"/>
          </a:xfrm>
          <a:custGeom>
            <a:avLst/>
            <a:gdLst/>
            <a:ahLst/>
            <a:rect l="l" t="t" r="r" b="b"/>
            <a:pathLst>
              <a:path w="348" h="596">
                <a:moveTo>
                  <a:pt x="6548" y="14461"/>
                </a:moveTo>
                <a:cubicBezTo>
                  <a:pt x="6540" y="14461"/>
                  <a:pt x="6532" y="14461"/>
                  <a:pt x="6524" y="14461"/>
                </a:cubicBezTo>
                <a:cubicBezTo>
                  <a:pt x="6538" y="14403"/>
                  <a:pt x="6562" y="14391"/>
                  <a:pt x="6623" y="14387"/>
                </a:cubicBezTo>
                <a:cubicBezTo>
                  <a:pt x="6699" y="14382"/>
                  <a:pt x="6772" y="14368"/>
                  <a:pt x="6821" y="14436"/>
                </a:cubicBezTo>
                <a:cubicBezTo>
                  <a:pt x="6863" y="14494"/>
                  <a:pt x="6794" y="14573"/>
                  <a:pt x="6772" y="14610"/>
                </a:cubicBezTo>
                <a:cubicBezTo>
                  <a:pt x="6745" y="14654"/>
                  <a:pt x="6727" y="14757"/>
                  <a:pt x="6747" y="14808"/>
                </a:cubicBezTo>
                <a:cubicBezTo>
                  <a:pt x="6766" y="14856"/>
                  <a:pt x="6848" y="14857"/>
                  <a:pt x="6871" y="14908"/>
                </a:cubicBezTo>
                <a:cubicBezTo>
                  <a:pt x="6892" y="14955"/>
                  <a:pt x="6834" y="14977"/>
                  <a:pt x="6796" y="14982"/>
                </a:cubicBezTo>
                <a:cubicBezTo>
                  <a:pt x="6713" y="14982"/>
                  <a:pt x="6679" y="14980"/>
                  <a:pt x="6623" y="149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47840" y="4224240"/>
            <a:ext cx="411120" cy="249480"/>
          </a:xfrm>
          <a:custGeom>
            <a:avLst/>
            <a:gdLst/>
            <a:ahLst/>
            <a:rect l="l" t="t" r="r" b="b"/>
            <a:pathLst>
              <a:path w="1142" h="695">
                <a:moveTo>
                  <a:pt x="4142" y="11832"/>
                </a:moveTo>
                <a:cubicBezTo>
                  <a:pt x="4129" y="11792"/>
                  <a:pt x="4131" y="11822"/>
                  <a:pt x="4118" y="11782"/>
                </a:cubicBezTo>
                <a:cubicBezTo>
                  <a:pt x="4128" y="11795"/>
                  <a:pt x="4174" y="11878"/>
                  <a:pt x="4142" y="11832"/>
                </a:cubicBezTo>
                <a:cubicBezTo>
                  <a:pt x="4119" y="11798"/>
                  <a:pt x="4103" y="11772"/>
                  <a:pt x="4093" y="11733"/>
                </a:cubicBezTo>
              </a:path>
              <a:path w="1142" h="695">
                <a:moveTo>
                  <a:pt x="3994" y="12129"/>
                </a:moveTo>
                <a:cubicBezTo>
                  <a:pt x="3994" y="12105"/>
                  <a:pt x="3994" y="12096"/>
                  <a:pt x="3994" y="12080"/>
                </a:cubicBezTo>
                <a:cubicBezTo>
                  <a:pt x="3994" y="12152"/>
                  <a:pt x="4005" y="12207"/>
                  <a:pt x="4018" y="12278"/>
                </a:cubicBezTo>
                <a:cubicBezTo>
                  <a:pt x="4018" y="12311"/>
                  <a:pt x="4018" y="12328"/>
                  <a:pt x="4018" y="12353"/>
                </a:cubicBezTo>
              </a:path>
              <a:path w="1142" h="695">
                <a:moveTo>
                  <a:pt x="4242" y="12179"/>
                </a:moveTo>
                <a:cubicBezTo>
                  <a:pt x="4250" y="12179"/>
                  <a:pt x="4258" y="12179"/>
                  <a:pt x="4266" y="12179"/>
                </a:cubicBezTo>
                <a:cubicBezTo>
                  <a:pt x="4266" y="12249"/>
                  <a:pt x="4252" y="12267"/>
                  <a:pt x="4217" y="12328"/>
                </a:cubicBezTo>
              </a:path>
              <a:path w="1142" h="695">
                <a:moveTo>
                  <a:pt x="4440" y="12005"/>
                </a:moveTo>
                <a:cubicBezTo>
                  <a:pt x="4484" y="11996"/>
                  <a:pt x="4518" y="11981"/>
                  <a:pt x="4564" y="11981"/>
                </a:cubicBezTo>
                <a:cubicBezTo>
                  <a:pt x="4617" y="11981"/>
                  <a:pt x="4614" y="12013"/>
                  <a:pt x="4614" y="12055"/>
                </a:cubicBezTo>
                <a:cubicBezTo>
                  <a:pt x="4614" y="12101"/>
                  <a:pt x="4594" y="12113"/>
                  <a:pt x="4589" y="12154"/>
                </a:cubicBezTo>
                <a:cubicBezTo>
                  <a:pt x="4584" y="12196"/>
                  <a:pt x="4628" y="12225"/>
                  <a:pt x="4663" y="12229"/>
                </a:cubicBezTo>
                <a:cubicBezTo>
                  <a:pt x="4694" y="12232"/>
                  <a:pt x="4709" y="12211"/>
                  <a:pt x="4738" y="12204"/>
                </a:cubicBezTo>
              </a:path>
              <a:path w="1142" h="695">
                <a:moveTo>
                  <a:pt x="4713" y="12005"/>
                </a:moveTo>
                <a:cubicBezTo>
                  <a:pt x="4762" y="12005"/>
                  <a:pt x="4830" y="11988"/>
                  <a:pt x="4862" y="12030"/>
                </a:cubicBezTo>
                <a:cubicBezTo>
                  <a:pt x="4892" y="12069"/>
                  <a:pt x="4905" y="12182"/>
                  <a:pt x="4887" y="12229"/>
                </a:cubicBezTo>
                <a:cubicBezTo>
                  <a:pt x="4857" y="12259"/>
                  <a:pt x="4846" y="12273"/>
                  <a:pt x="4837" y="12303"/>
                </a:cubicBezTo>
              </a:path>
              <a:path w="1142" h="695">
                <a:moveTo>
                  <a:pt x="3870" y="12055"/>
                </a:moveTo>
                <a:cubicBezTo>
                  <a:pt x="3801" y="12004"/>
                  <a:pt x="3815" y="12048"/>
                  <a:pt x="3795" y="12105"/>
                </a:cubicBezTo>
                <a:cubicBezTo>
                  <a:pt x="3759" y="12206"/>
                  <a:pt x="3735" y="12248"/>
                  <a:pt x="3770" y="12353"/>
                </a:cubicBezTo>
                <a:cubicBezTo>
                  <a:pt x="3778" y="12378"/>
                  <a:pt x="3787" y="12402"/>
                  <a:pt x="3795" y="124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10160" y="3490920"/>
            <a:ext cx="901800" cy="304920"/>
          </a:xfrm>
          <a:custGeom>
            <a:avLst/>
            <a:gdLst/>
            <a:ahLst/>
            <a:rect l="l" t="t" r="r" b="b"/>
            <a:pathLst>
              <a:path w="2507" h="844">
                <a:moveTo>
                  <a:pt x="15726" y="10071"/>
                </a:moveTo>
                <a:cubicBezTo>
                  <a:pt x="15713" y="10111"/>
                  <a:pt x="15678" y="10096"/>
                  <a:pt x="15627" y="10096"/>
                </a:cubicBezTo>
                <a:cubicBezTo>
                  <a:pt x="15529" y="10096"/>
                  <a:pt x="15445" y="10100"/>
                  <a:pt x="15354" y="10120"/>
                </a:cubicBezTo>
                <a:cubicBezTo>
                  <a:pt x="15329" y="10120"/>
                  <a:pt x="15321" y="10120"/>
                  <a:pt x="15304" y="10120"/>
                </a:cubicBezTo>
              </a:path>
              <a:path w="2507" h="844">
                <a:moveTo>
                  <a:pt x="16073" y="9773"/>
                </a:moveTo>
                <a:cubicBezTo>
                  <a:pt x="16113" y="9713"/>
                  <a:pt x="16098" y="9735"/>
                  <a:pt x="16148" y="9699"/>
                </a:cubicBezTo>
                <a:cubicBezTo>
                  <a:pt x="16138" y="9766"/>
                  <a:pt x="16102" y="9829"/>
                  <a:pt x="16073" y="9897"/>
                </a:cubicBezTo>
                <a:cubicBezTo>
                  <a:pt x="16042" y="9971"/>
                  <a:pt x="16003" y="10041"/>
                  <a:pt x="15999" y="10120"/>
                </a:cubicBezTo>
                <a:cubicBezTo>
                  <a:pt x="15995" y="10194"/>
                  <a:pt x="16031" y="10216"/>
                  <a:pt x="16098" y="10220"/>
                </a:cubicBezTo>
                <a:cubicBezTo>
                  <a:pt x="16170" y="10224"/>
                  <a:pt x="16228" y="10257"/>
                  <a:pt x="16297" y="10269"/>
                </a:cubicBezTo>
                <a:cubicBezTo>
                  <a:pt x="16335" y="10275"/>
                  <a:pt x="16413" y="10275"/>
                  <a:pt x="16446" y="10294"/>
                </a:cubicBezTo>
                <a:cubicBezTo>
                  <a:pt x="16468" y="10317"/>
                  <a:pt x="16473" y="10325"/>
                  <a:pt x="16495" y="10319"/>
                </a:cubicBezTo>
              </a:path>
              <a:path w="2507" h="844">
                <a:moveTo>
                  <a:pt x="16297" y="10096"/>
                </a:moveTo>
                <a:cubicBezTo>
                  <a:pt x="16280" y="10161"/>
                  <a:pt x="16272" y="10216"/>
                  <a:pt x="16272" y="10294"/>
                </a:cubicBezTo>
                <a:cubicBezTo>
                  <a:pt x="16272" y="10382"/>
                  <a:pt x="16260" y="10469"/>
                  <a:pt x="16297" y="10542"/>
                </a:cubicBezTo>
              </a:path>
              <a:path w="2507" h="844">
                <a:moveTo>
                  <a:pt x="16892" y="10319"/>
                </a:moveTo>
                <a:cubicBezTo>
                  <a:pt x="16892" y="10311"/>
                  <a:pt x="16892" y="10302"/>
                  <a:pt x="16892" y="10294"/>
                </a:cubicBezTo>
                <a:cubicBezTo>
                  <a:pt x="16975" y="10294"/>
                  <a:pt x="17038" y="10287"/>
                  <a:pt x="17115" y="10269"/>
                </a:cubicBezTo>
                <a:cubicBezTo>
                  <a:pt x="17123" y="10269"/>
                  <a:pt x="17132" y="10269"/>
                  <a:pt x="17140" y="10269"/>
                </a:cubicBezTo>
              </a:path>
              <a:path w="2507" h="844">
                <a:moveTo>
                  <a:pt x="17785" y="10294"/>
                </a:moveTo>
                <a:cubicBezTo>
                  <a:pt x="17785" y="10269"/>
                  <a:pt x="17785" y="10261"/>
                  <a:pt x="17810" y="10269"/>
                </a:cubicBezTo>
                <a:cubicBezTo>
                  <a:pt x="17713" y="10269"/>
                  <a:pt x="17562" y="10238"/>
                  <a:pt x="17487" y="102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81880" y="3562200"/>
            <a:ext cx="160200" cy="304920"/>
          </a:xfrm>
          <a:custGeom>
            <a:avLst/>
            <a:gdLst/>
            <a:ahLst/>
            <a:rect l="l" t="t" r="r" b="b"/>
            <a:pathLst>
              <a:path w="448" h="844">
                <a:moveTo>
                  <a:pt x="18331" y="10021"/>
                </a:moveTo>
                <a:cubicBezTo>
                  <a:pt x="18290" y="10001"/>
                  <a:pt x="18274" y="10003"/>
                  <a:pt x="18281" y="9971"/>
                </a:cubicBezTo>
                <a:cubicBezTo>
                  <a:pt x="18337" y="9927"/>
                  <a:pt x="18383" y="9901"/>
                  <a:pt x="18455" y="9897"/>
                </a:cubicBezTo>
                <a:cubicBezTo>
                  <a:pt x="18514" y="9894"/>
                  <a:pt x="18586" y="9935"/>
                  <a:pt x="18604" y="9996"/>
                </a:cubicBezTo>
                <a:cubicBezTo>
                  <a:pt x="18623" y="10061"/>
                  <a:pt x="18597" y="10124"/>
                  <a:pt x="18554" y="10170"/>
                </a:cubicBezTo>
                <a:cubicBezTo>
                  <a:pt x="18498" y="10229"/>
                  <a:pt x="18442" y="10246"/>
                  <a:pt x="18430" y="10319"/>
                </a:cubicBezTo>
                <a:cubicBezTo>
                  <a:pt x="18420" y="10378"/>
                  <a:pt x="18508" y="10466"/>
                  <a:pt x="18554" y="10492"/>
                </a:cubicBezTo>
                <a:cubicBezTo>
                  <a:pt x="18606" y="10521"/>
                  <a:pt x="18705" y="10572"/>
                  <a:pt x="18728" y="10641"/>
                </a:cubicBezTo>
                <a:cubicBezTo>
                  <a:pt x="18753" y="10716"/>
                  <a:pt x="18713" y="10735"/>
                  <a:pt x="18653" y="10740"/>
                </a:cubicBezTo>
                <a:cubicBezTo>
                  <a:pt x="18574" y="10746"/>
                  <a:pt x="18544" y="10688"/>
                  <a:pt x="18479" y="10666"/>
                </a:cubicBezTo>
                <a:cubicBezTo>
                  <a:pt x="18436" y="10651"/>
                  <a:pt x="18445" y="10687"/>
                  <a:pt x="18430" y="106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956280" y="3679920"/>
            <a:ext cx="98640" cy="106200"/>
          </a:xfrm>
          <a:custGeom>
            <a:avLst/>
            <a:gdLst/>
            <a:ahLst/>
            <a:rect l="l" t="t" r="r" b="b"/>
            <a:pathLst>
              <a:path w="274" h="298">
                <a:moveTo>
                  <a:pt x="19496" y="10220"/>
                </a:moveTo>
                <a:cubicBezTo>
                  <a:pt x="19537" y="10220"/>
                  <a:pt x="19554" y="10211"/>
                  <a:pt x="19546" y="10244"/>
                </a:cubicBezTo>
                <a:cubicBezTo>
                  <a:pt x="19472" y="10244"/>
                  <a:pt x="19397" y="10244"/>
                  <a:pt x="19323" y="10244"/>
                </a:cubicBezTo>
              </a:path>
              <a:path w="274" h="298">
                <a:moveTo>
                  <a:pt x="19571" y="10443"/>
                </a:moveTo>
                <a:cubicBezTo>
                  <a:pt x="19579" y="10451"/>
                  <a:pt x="19588" y="10460"/>
                  <a:pt x="19596" y="10468"/>
                </a:cubicBezTo>
                <a:cubicBezTo>
                  <a:pt x="19566" y="10490"/>
                  <a:pt x="19534" y="10514"/>
                  <a:pt x="19496" y="10517"/>
                </a:cubicBezTo>
                <a:cubicBezTo>
                  <a:pt x="19464" y="10519"/>
                  <a:pt x="19430" y="10517"/>
                  <a:pt x="19397" y="105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67760" y="3697200"/>
            <a:ext cx="160200" cy="17640"/>
          </a:xfrm>
          <a:custGeom>
            <a:avLst/>
            <a:gdLst/>
            <a:ahLst/>
            <a:rect l="l" t="t" r="r" b="b"/>
            <a:pathLst>
              <a:path w="447" h="51">
                <a:moveTo>
                  <a:pt x="20910" y="10319"/>
                </a:moveTo>
                <a:cubicBezTo>
                  <a:pt x="20776" y="10319"/>
                  <a:pt x="20631" y="10330"/>
                  <a:pt x="20513" y="10294"/>
                </a:cubicBezTo>
                <a:cubicBezTo>
                  <a:pt x="20485" y="10294"/>
                  <a:pt x="20475" y="10291"/>
                  <a:pt x="20464" y="102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678800" y="3633840"/>
            <a:ext cx="19080" cy="171360"/>
          </a:xfrm>
          <a:custGeom>
            <a:avLst/>
            <a:gdLst/>
            <a:ahLst/>
            <a:rect l="l" t="t" r="r" b="b"/>
            <a:pathLst>
              <a:path w="51" h="472">
                <a:moveTo>
                  <a:pt x="21332" y="10120"/>
                </a:moveTo>
                <a:cubicBezTo>
                  <a:pt x="21372" y="10107"/>
                  <a:pt x="21342" y="10109"/>
                  <a:pt x="21382" y="10096"/>
                </a:cubicBezTo>
                <a:cubicBezTo>
                  <a:pt x="21382" y="10151"/>
                  <a:pt x="21369" y="10217"/>
                  <a:pt x="21357" y="10269"/>
                </a:cubicBezTo>
                <a:cubicBezTo>
                  <a:pt x="21338" y="10351"/>
                  <a:pt x="21332" y="10406"/>
                  <a:pt x="21332" y="10492"/>
                </a:cubicBezTo>
                <a:cubicBezTo>
                  <a:pt x="21332" y="10534"/>
                  <a:pt x="21332" y="10542"/>
                  <a:pt x="21332" y="105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24360" y="3963960"/>
            <a:ext cx="133560" cy="196920"/>
          </a:xfrm>
          <a:custGeom>
            <a:avLst/>
            <a:gdLst/>
            <a:ahLst/>
            <a:rect l="l" t="t" r="r" b="b"/>
            <a:pathLst>
              <a:path w="373" h="547">
                <a:moveTo>
                  <a:pt x="16197" y="11088"/>
                </a:moveTo>
                <a:cubicBezTo>
                  <a:pt x="16220" y="11065"/>
                  <a:pt x="16228" y="11061"/>
                  <a:pt x="16222" y="11038"/>
                </a:cubicBezTo>
                <a:cubicBezTo>
                  <a:pt x="16175" y="11022"/>
                  <a:pt x="16200" y="11013"/>
                  <a:pt x="16123" y="11013"/>
                </a:cubicBezTo>
                <a:cubicBezTo>
                  <a:pt x="16056" y="11013"/>
                  <a:pt x="16002" y="11049"/>
                  <a:pt x="15949" y="11088"/>
                </a:cubicBezTo>
                <a:cubicBezTo>
                  <a:pt x="15923" y="11107"/>
                  <a:pt x="15879" y="11149"/>
                  <a:pt x="15900" y="11187"/>
                </a:cubicBezTo>
                <a:cubicBezTo>
                  <a:pt x="15929" y="11240"/>
                  <a:pt x="15999" y="11261"/>
                  <a:pt x="16049" y="11286"/>
                </a:cubicBezTo>
                <a:cubicBezTo>
                  <a:pt x="16113" y="11318"/>
                  <a:pt x="16173" y="11336"/>
                  <a:pt x="16197" y="11410"/>
                </a:cubicBezTo>
                <a:cubicBezTo>
                  <a:pt x="16212" y="11457"/>
                  <a:pt x="16201" y="11519"/>
                  <a:pt x="16173" y="11534"/>
                </a:cubicBezTo>
                <a:cubicBezTo>
                  <a:pt x="16121" y="11562"/>
                  <a:pt x="16061" y="11574"/>
                  <a:pt x="16024" y="11509"/>
                </a:cubicBezTo>
                <a:cubicBezTo>
                  <a:pt x="15986" y="11442"/>
                  <a:pt x="16067" y="11378"/>
                  <a:pt x="16098" y="11336"/>
                </a:cubicBezTo>
                <a:cubicBezTo>
                  <a:pt x="16164" y="11246"/>
                  <a:pt x="16172" y="11212"/>
                  <a:pt x="16272" y="111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81840" y="4081320"/>
            <a:ext cx="133200" cy="27000"/>
          </a:xfrm>
          <a:custGeom>
            <a:avLst/>
            <a:gdLst/>
            <a:ahLst/>
            <a:rect l="l" t="t" r="r" b="b"/>
            <a:pathLst>
              <a:path w="373" h="75">
                <a:moveTo>
                  <a:pt x="16892" y="11410"/>
                </a:moveTo>
                <a:cubicBezTo>
                  <a:pt x="16892" y="11402"/>
                  <a:pt x="16892" y="11393"/>
                  <a:pt x="16892" y="11385"/>
                </a:cubicBezTo>
                <a:cubicBezTo>
                  <a:pt x="16945" y="11385"/>
                  <a:pt x="16962" y="11365"/>
                  <a:pt x="17016" y="11361"/>
                </a:cubicBezTo>
                <a:cubicBezTo>
                  <a:pt x="17077" y="11356"/>
                  <a:pt x="17124" y="11336"/>
                  <a:pt x="17190" y="11336"/>
                </a:cubicBezTo>
                <a:cubicBezTo>
                  <a:pt x="17231" y="11336"/>
                  <a:pt x="17239" y="11336"/>
                  <a:pt x="17264" y="113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500880" y="3973680"/>
            <a:ext cx="90360" cy="206280"/>
          </a:xfrm>
          <a:custGeom>
            <a:avLst/>
            <a:gdLst/>
            <a:ahLst/>
            <a:rect l="l" t="t" r="r" b="b"/>
            <a:pathLst>
              <a:path w="249" h="572">
                <a:moveTo>
                  <a:pt x="18256" y="11137"/>
                </a:moveTo>
                <a:cubicBezTo>
                  <a:pt x="18294" y="11099"/>
                  <a:pt x="18306" y="11091"/>
                  <a:pt x="18306" y="11038"/>
                </a:cubicBezTo>
                <a:cubicBezTo>
                  <a:pt x="18253" y="11051"/>
                  <a:pt x="18216" y="11116"/>
                  <a:pt x="18182" y="11162"/>
                </a:cubicBezTo>
                <a:cubicBezTo>
                  <a:pt x="18102" y="11271"/>
                  <a:pt x="18064" y="11350"/>
                  <a:pt x="18058" y="11485"/>
                </a:cubicBezTo>
                <a:cubicBezTo>
                  <a:pt x="18054" y="11566"/>
                  <a:pt x="18080" y="11604"/>
                  <a:pt x="18157" y="11609"/>
                </a:cubicBezTo>
                <a:cubicBezTo>
                  <a:pt x="18225" y="11613"/>
                  <a:pt x="18251" y="11576"/>
                  <a:pt x="18256" y="11509"/>
                </a:cubicBezTo>
                <a:cubicBezTo>
                  <a:pt x="18262" y="11427"/>
                  <a:pt x="18223" y="11435"/>
                  <a:pt x="18157" y="114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010280" y="4071960"/>
            <a:ext cx="71640" cy="63360"/>
          </a:xfrm>
          <a:custGeom>
            <a:avLst/>
            <a:gdLst/>
            <a:ahLst/>
            <a:rect l="l" t="t" r="r" b="b"/>
            <a:pathLst>
              <a:path w="199" h="175">
                <a:moveTo>
                  <a:pt x="19596" y="11336"/>
                </a:moveTo>
                <a:cubicBezTo>
                  <a:pt x="19596" y="11311"/>
                  <a:pt x="19596" y="11303"/>
                  <a:pt x="19621" y="11311"/>
                </a:cubicBezTo>
                <a:cubicBezTo>
                  <a:pt x="19563" y="11311"/>
                  <a:pt x="19517" y="11301"/>
                  <a:pt x="19472" y="11336"/>
                </a:cubicBezTo>
              </a:path>
              <a:path w="199" h="175">
                <a:moveTo>
                  <a:pt x="19621" y="11385"/>
                </a:moveTo>
                <a:cubicBezTo>
                  <a:pt x="19680" y="11425"/>
                  <a:pt x="19670" y="11418"/>
                  <a:pt x="19670" y="11485"/>
                </a:cubicBezTo>
                <a:cubicBezTo>
                  <a:pt x="19612" y="11485"/>
                  <a:pt x="19554" y="11485"/>
                  <a:pt x="19496" y="114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375680" y="3983040"/>
            <a:ext cx="223560" cy="177840"/>
          </a:xfrm>
          <a:custGeom>
            <a:avLst/>
            <a:gdLst/>
            <a:ahLst/>
            <a:rect l="l" t="t" r="r" b="b"/>
            <a:pathLst>
              <a:path w="621" h="497">
                <a:moveTo>
                  <a:pt x="20563" y="11187"/>
                </a:moveTo>
                <a:cubicBezTo>
                  <a:pt x="20522" y="11160"/>
                  <a:pt x="20494" y="11150"/>
                  <a:pt x="20489" y="11112"/>
                </a:cubicBezTo>
                <a:cubicBezTo>
                  <a:pt x="20481" y="11049"/>
                  <a:pt x="20548" y="11063"/>
                  <a:pt x="20588" y="11063"/>
                </a:cubicBezTo>
                <a:cubicBezTo>
                  <a:pt x="20641" y="11063"/>
                  <a:pt x="20700" y="11104"/>
                  <a:pt x="20712" y="11162"/>
                </a:cubicBezTo>
                <a:cubicBezTo>
                  <a:pt x="20733" y="11265"/>
                  <a:pt x="20662" y="11312"/>
                  <a:pt x="20613" y="11385"/>
                </a:cubicBezTo>
                <a:cubicBezTo>
                  <a:pt x="20585" y="11428"/>
                  <a:pt x="20549" y="11489"/>
                  <a:pt x="20538" y="11534"/>
                </a:cubicBezTo>
                <a:cubicBezTo>
                  <a:pt x="20607" y="11575"/>
                  <a:pt x="20658" y="11559"/>
                  <a:pt x="20737" y="11534"/>
                </a:cubicBezTo>
                <a:cubicBezTo>
                  <a:pt x="20837" y="11503"/>
                  <a:pt x="20929" y="11509"/>
                  <a:pt x="21034" y="11509"/>
                </a:cubicBezTo>
                <a:cubicBezTo>
                  <a:pt x="21076" y="11509"/>
                  <a:pt x="21084" y="11509"/>
                  <a:pt x="21109" y="115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10160" y="5724360"/>
            <a:ext cx="527040" cy="463680"/>
          </a:xfrm>
          <a:custGeom>
            <a:avLst/>
            <a:gdLst/>
            <a:ahLst/>
            <a:rect l="l" t="t" r="r" b="b"/>
            <a:pathLst>
              <a:path w="1465" h="1291">
                <a:moveTo>
                  <a:pt x="15850" y="15949"/>
                </a:moveTo>
                <a:cubicBezTo>
                  <a:pt x="15850" y="15933"/>
                  <a:pt x="15850" y="15916"/>
                  <a:pt x="15850" y="15900"/>
                </a:cubicBezTo>
                <a:cubicBezTo>
                  <a:pt x="15850" y="16024"/>
                  <a:pt x="15850" y="16148"/>
                  <a:pt x="15850" y="16272"/>
                </a:cubicBezTo>
              </a:path>
              <a:path w="1465" h="1291">
                <a:moveTo>
                  <a:pt x="16644" y="16594"/>
                </a:moveTo>
                <a:cubicBezTo>
                  <a:pt x="16677" y="16594"/>
                  <a:pt x="16710" y="16594"/>
                  <a:pt x="16743" y="16594"/>
                </a:cubicBezTo>
                <a:cubicBezTo>
                  <a:pt x="16801" y="16594"/>
                  <a:pt x="16677" y="16594"/>
                  <a:pt x="16619" y="16594"/>
                </a:cubicBezTo>
                <a:cubicBezTo>
                  <a:pt x="16437" y="16594"/>
                  <a:pt x="16257" y="16570"/>
                  <a:pt x="16073" y="16570"/>
                </a:cubicBezTo>
                <a:cubicBezTo>
                  <a:pt x="15817" y="16570"/>
                  <a:pt x="15560" y="16570"/>
                  <a:pt x="15304" y="16570"/>
                </a:cubicBezTo>
              </a:path>
              <a:path w="1465" h="1291">
                <a:moveTo>
                  <a:pt x="15329" y="17041"/>
                </a:moveTo>
                <a:cubicBezTo>
                  <a:pt x="15358" y="17019"/>
                  <a:pt x="15415" y="16998"/>
                  <a:pt x="15453" y="16991"/>
                </a:cubicBezTo>
                <a:cubicBezTo>
                  <a:pt x="15505" y="16982"/>
                  <a:pt x="15549" y="16973"/>
                  <a:pt x="15602" y="16966"/>
                </a:cubicBezTo>
              </a:path>
              <a:path w="1465" h="1291">
                <a:moveTo>
                  <a:pt x="15974" y="16867"/>
                </a:moveTo>
                <a:cubicBezTo>
                  <a:pt x="15974" y="16812"/>
                  <a:pt x="15987" y="16809"/>
                  <a:pt x="16049" y="16793"/>
                </a:cubicBezTo>
                <a:cubicBezTo>
                  <a:pt x="16094" y="16782"/>
                  <a:pt x="16187" y="16784"/>
                  <a:pt x="16222" y="16818"/>
                </a:cubicBezTo>
                <a:cubicBezTo>
                  <a:pt x="16291" y="16886"/>
                  <a:pt x="16259" y="16939"/>
                  <a:pt x="16222" y="17016"/>
                </a:cubicBezTo>
                <a:cubicBezTo>
                  <a:pt x="16196" y="17070"/>
                  <a:pt x="16173" y="17082"/>
                  <a:pt x="16173" y="17140"/>
                </a:cubicBezTo>
                <a:cubicBezTo>
                  <a:pt x="16262" y="17140"/>
                  <a:pt x="16337" y="17157"/>
                  <a:pt x="16421" y="17165"/>
                </a:cubicBezTo>
                <a:cubicBezTo>
                  <a:pt x="16513" y="17165"/>
                  <a:pt x="16539" y="17163"/>
                  <a:pt x="16594" y="171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84960" y="6054840"/>
            <a:ext cx="71280" cy="54000"/>
          </a:xfrm>
          <a:custGeom>
            <a:avLst/>
            <a:gdLst/>
            <a:ahLst/>
            <a:rect l="l" t="t" r="r" b="b"/>
            <a:pathLst>
              <a:path w="200" h="149">
                <a:moveTo>
                  <a:pt x="17835" y="16867"/>
                </a:moveTo>
                <a:cubicBezTo>
                  <a:pt x="17920" y="16841"/>
                  <a:pt x="17968" y="16845"/>
                  <a:pt x="17859" y="16818"/>
                </a:cubicBezTo>
                <a:cubicBezTo>
                  <a:pt x="17829" y="16811"/>
                  <a:pt x="17791" y="16818"/>
                  <a:pt x="17760" y="16818"/>
                </a:cubicBezTo>
              </a:path>
              <a:path w="200" h="149">
                <a:moveTo>
                  <a:pt x="17909" y="16917"/>
                </a:moveTo>
                <a:cubicBezTo>
                  <a:pt x="17931" y="16939"/>
                  <a:pt x="17940" y="16944"/>
                  <a:pt x="17934" y="16966"/>
                </a:cubicBezTo>
                <a:cubicBezTo>
                  <a:pt x="17868" y="16966"/>
                  <a:pt x="17801" y="16966"/>
                  <a:pt x="17735" y="169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724800" y="5956200"/>
            <a:ext cx="606240" cy="312840"/>
          </a:xfrm>
          <a:custGeom>
            <a:avLst/>
            <a:gdLst/>
            <a:ahLst/>
            <a:rect l="l" t="t" r="r" b="b"/>
            <a:pathLst>
              <a:path w="1688" h="869">
                <a:moveTo>
                  <a:pt x="18728" y="16966"/>
                </a:moveTo>
                <a:cubicBezTo>
                  <a:pt x="18709" y="16933"/>
                  <a:pt x="18643" y="16872"/>
                  <a:pt x="18703" y="16842"/>
                </a:cubicBezTo>
                <a:cubicBezTo>
                  <a:pt x="18742" y="16823"/>
                  <a:pt x="18778" y="16818"/>
                  <a:pt x="18827" y="16818"/>
                </a:cubicBezTo>
                <a:cubicBezTo>
                  <a:pt x="18843" y="16818"/>
                  <a:pt x="18860" y="16818"/>
                  <a:pt x="18876" y="16818"/>
                </a:cubicBezTo>
              </a:path>
              <a:path w="1688" h="869">
                <a:moveTo>
                  <a:pt x="19372" y="16743"/>
                </a:moveTo>
                <a:cubicBezTo>
                  <a:pt x="19421" y="16690"/>
                  <a:pt x="19475" y="16635"/>
                  <a:pt x="19496" y="16570"/>
                </a:cubicBezTo>
                <a:cubicBezTo>
                  <a:pt x="19496" y="16562"/>
                  <a:pt x="19496" y="16553"/>
                  <a:pt x="19496" y="16545"/>
                </a:cubicBezTo>
                <a:cubicBezTo>
                  <a:pt x="19461" y="16605"/>
                  <a:pt x="19472" y="16670"/>
                  <a:pt x="19472" y="16743"/>
                </a:cubicBezTo>
                <a:cubicBezTo>
                  <a:pt x="19472" y="16810"/>
                  <a:pt x="19488" y="16853"/>
                  <a:pt x="19496" y="16917"/>
                </a:cubicBezTo>
              </a:path>
              <a:path w="1688" h="869">
                <a:moveTo>
                  <a:pt x="19695" y="17016"/>
                </a:moveTo>
                <a:cubicBezTo>
                  <a:pt x="19640" y="17016"/>
                  <a:pt x="19602" y="16993"/>
                  <a:pt x="19546" y="16991"/>
                </a:cubicBezTo>
                <a:cubicBezTo>
                  <a:pt x="19465" y="16987"/>
                  <a:pt x="19420" y="16976"/>
                  <a:pt x="19348" y="16966"/>
                </a:cubicBezTo>
              </a:path>
              <a:path w="1688" h="869">
                <a:moveTo>
                  <a:pt x="19397" y="17190"/>
                </a:moveTo>
                <a:cubicBezTo>
                  <a:pt x="19412" y="17218"/>
                  <a:pt x="19471" y="17165"/>
                  <a:pt x="19521" y="17140"/>
                </a:cubicBezTo>
                <a:cubicBezTo>
                  <a:pt x="19577" y="17112"/>
                  <a:pt x="19656" y="17095"/>
                  <a:pt x="19695" y="17165"/>
                </a:cubicBezTo>
                <a:cubicBezTo>
                  <a:pt x="19728" y="17226"/>
                  <a:pt x="19657" y="17271"/>
                  <a:pt x="19645" y="17314"/>
                </a:cubicBezTo>
                <a:cubicBezTo>
                  <a:pt x="19638" y="17339"/>
                  <a:pt x="19645" y="17385"/>
                  <a:pt x="19645" y="17413"/>
                </a:cubicBezTo>
                <a:cubicBezTo>
                  <a:pt x="19709" y="17413"/>
                  <a:pt x="19757" y="17395"/>
                  <a:pt x="19819" y="17388"/>
                </a:cubicBezTo>
                <a:cubicBezTo>
                  <a:pt x="19887" y="17388"/>
                  <a:pt x="19906" y="17391"/>
                  <a:pt x="19943" y="17363"/>
                </a:cubicBezTo>
              </a:path>
              <a:path w="1688" h="869">
                <a:moveTo>
                  <a:pt x="20315" y="17338"/>
                </a:moveTo>
                <a:cubicBezTo>
                  <a:pt x="20332" y="17330"/>
                  <a:pt x="20348" y="17322"/>
                  <a:pt x="20365" y="173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714920" y="2276640"/>
            <a:ext cx="125280" cy="4554360"/>
          </a:xfrm>
          <a:custGeom>
            <a:avLst/>
            <a:gdLst/>
            <a:ahLst/>
            <a:rect l="l" t="t" r="r" b="b"/>
            <a:pathLst>
              <a:path w="348" h="12652">
                <a:moveTo>
                  <a:pt x="13122" y="6325"/>
                </a:moveTo>
                <a:cubicBezTo>
                  <a:pt x="13128" y="6362"/>
                  <a:pt x="13140" y="6384"/>
                  <a:pt x="13146" y="6424"/>
                </a:cubicBezTo>
                <a:cubicBezTo>
                  <a:pt x="13161" y="6523"/>
                  <a:pt x="13168" y="6616"/>
                  <a:pt x="13171" y="6722"/>
                </a:cubicBezTo>
                <a:cubicBezTo>
                  <a:pt x="13175" y="6867"/>
                  <a:pt x="13191" y="7000"/>
                  <a:pt x="13196" y="7144"/>
                </a:cubicBezTo>
                <a:cubicBezTo>
                  <a:pt x="13208" y="7481"/>
                  <a:pt x="13191" y="7809"/>
                  <a:pt x="13146" y="8136"/>
                </a:cubicBezTo>
                <a:cubicBezTo>
                  <a:pt x="13132" y="8235"/>
                  <a:pt x="13132" y="8335"/>
                  <a:pt x="13122" y="8434"/>
                </a:cubicBezTo>
                <a:cubicBezTo>
                  <a:pt x="13110" y="8551"/>
                  <a:pt x="13102" y="8662"/>
                  <a:pt x="13097" y="8781"/>
                </a:cubicBezTo>
                <a:cubicBezTo>
                  <a:pt x="13085" y="9072"/>
                  <a:pt x="13099" y="9363"/>
                  <a:pt x="13122" y="9649"/>
                </a:cubicBezTo>
                <a:cubicBezTo>
                  <a:pt x="13132" y="9773"/>
                  <a:pt x="13165" y="9898"/>
                  <a:pt x="13171" y="10021"/>
                </a:cubicBezTo>
                <a:cubicBezTo>
                  <a:pt x="13181" y="10230"/>
                  <a:pt x="13193" y="10432"/>
                  <a:pt x="13196" y="10641"/>
                </a:cubicBezTo>
                <a:cubicBezTo>
                  <a:pt x="13198" y="10819"/>
                  <a:pt x="13204" y="10988"/>
                  <a:pt x="13221" y="11162"/>
                </a:cubicBezTo>
                <a:cubicBezTo>
                  <a:pt x="13235" y="11301"/>
                  <a:pt x="13256" y="11444"/>
                  <a:pt x="13271" y="11584"/>
                </a:cubicBezTo>
                <a:cubicBezTo>
                  <a:pt x="13286" y="11718"/>
                  <a:pt x="13298" y="11848"/>
                  <a:pt x="13320" y="11981"/>
                </a:cubicBezTo>
                <a:cubicBezTo>
                  <a:pt x="13344" y="12128"/>
                  <a:pt x="13376" y="12280"/>
                  <a:pt x="13395" y="12427"/>
                </a:cubicBezTo>
                <a:cubicBezTo>
                  <a:pt x="13410" y="12543"/>
                  <a:pt x="13406" y="12657"/>
                  <a:pt x="13419" y="12774"/>
                </a:cubicBezTo>
                <a:cubicBezTo>
                  <a:pt x="13438" y="12948"/>
                  <a:pt x="13444" y="13117"/>
                  <a:pt x="13444" y="13295"/>
                </a:cubicBezTo>
                <a:cubicBezTo>
                  <a:pt x="13444" y="13505"/>
                  <a:pt x="13427" y="13708"/>
                  <a:pt x="13419" y="13915"/>
                </a:cubicBezTo>
                <a:cubicBezTo>
                  <a:pt x="13394" y="14558"/>
                  <a:pt x="13401" y="15208"/>
                  <a:pt x="13395" y="15850"/>
                </a:cubicBezTo>
                <a:cubicBezTo>
                  <a:pt x="13392" y="16171"/>
                  <a:pt x="13397" y="16502"/>
                  <a:pt x="13345" y="16818"/>
                </a:cubicBezTo>
                <a:cubicBezTo>
                  <a:pt x="13319" y="16977"/>
                  <a:pt x="13288" y="17129"/>
                  <a:pt x="13271" y="17289"/>
                </a:cubicBezTo>
                <a:cubicBezTo>
                  <a:pt x="13252" y="17467"/>
                  <a:pt x="13229" y="17656"/>
                  <a:pt x="13221" y="17835"/>
                </a:cubicBezTo>
                <a:cubicBezTo>
                  <a:pt x="13215" y="17978"/>
                  <a:pt x="13212" y="18115"/>
                  <a:pt x="13196" y="18256"/>
                </a:cubicBezTo>
                <a:cubicBezTo>
                  <a:pt x="13181" y="18389"/>
                  <a:pt x="13160" y="18521"/>
                  <a:pt x="13146" y="18653"/>
                </a:cubicBezTo>
                <a:cubicBezTo>
                  <a:pt x="13135" y="18753"/>
                  <a:pt x="13131" y="18852"/>
                  <a:pt x="13122" y="18951"/>
                </a:cubicBezTo>
                <a:cubicBezTo>
                  <a:pt x="13122" y="18959"/>
                  <a:pt x="13122" y="18968"/>
                  <a:pt x="13122" y="189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.O. Revise for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nd the distance betwe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1, 2) and (4, 8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6, -3) and (8, -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5120" y="3633840"/>
            <a:ext cx="2946240" cy="2144520"/>
          </a:xfrm>
          <a:custGeom>
            <a:avLst/>
            <a:gdLst/>
            <a:ahLst/>
            <a:rect l="l" t="t" r="r" b="b"/>
            <a:pathLst>
              <a:path w="8186" h="5954">
                <a:moveTo>
                  <a:pt x="3845" y="10120"/>
                </a:moveTo>
                <a:cubicBezTo>
                  <a:pt x="3859" y="10144"/>
                  <a:pt x="3867" y="10142"/>
                  <a:pt x="3870" y="10195"/>
                </a:cubicBezTo>
                <a:cubicBezTo>
                  <a:pt x="3881" y="10387"/>
                  <a:pt x="3868" y="10576"/>
                  <a:pt x="3894" y="10765"/>
                </a:cubicBezTo>
                <a:cubicBezTo>
                  <a:pt x="3927" y="11007"/>
                  <a:pt x="3892" y="11267"/>
                  <a:pt x="3919" y="11509"/>
                </a:cubicBezTo>
                <a:cubicBezTo>
                  <a:pt x="3930" y="11608"/>
                  <a:pt x="3933" y="11710"/>
                  <a:pt x="3944" y="11807"/>
                </a:cubicBezTo>
                <a:cubicBezTo>
                  <a:pt x="3955" y="11903"/>
                  <a:pt x="3951" y="12010"/>
                  <a:pt x="3969" y="12105"/>
                </a:cubicBezTo>
                <a:cubicBezTo>
                  <a:pt x="3988" y="12205"/>
                  <a:pt x="4033" y="12301"/>
                  <a:pt x="4043" y="12402"/>
                </a:cubicBezTo>
                <a:cubicBezTo>
                  <a:pt x="4053" y="12506"/>
                  <a:pt x="4049" y="12622"/>
                  <a:pt x="4068" y="12725"/>
                </a:cubicBezTo>
                <a:cubicBezTo>
                  <a:pt x="4084" y="12811"/>
                  <a:pt x="4111" y="12884"/>
                  <a:pt x="4118" y="12973"/>
                </a:cubicBezTo>
              </a:path>
              <a:path w="8186" h="5954">
                <a:moveTo>
                  <a:pt x="4514" y="14610"/>
                </a:moveTo>
                <a:cubicBezTo>
                  <a:pt x="4558" y="14783"/>
                  <a:pt x="4596" y="14957"/>
                  <a:pt x="4638" y="15131"/>
                </a:cubicBezTo>
                <a:cubicBezTo>
                  <a:pt x="4668" y="15256"/>
                  <a:pt x="4678" y="15382"/>
                  <a:pt x="4713" y="15503"/>
                </a:cubicBezTo>
                <a:cubicBezTo>
                  <a:pt x="4740" y="15597"/>
                  <a:pt x="4733" y="15685"/>
                  <a:pt x="4762" y="15776"/>
                </a:cubicBezTo>
              </a:path>
              <a:path w="8186" h="5954">
                <a:moveTo>
                  <a:pt x="4093" y="12923"/>
                </a:moveTo>
                <a:cubicBezTo>
                  <a:pt x="4113" y="12963"/>
                  <a:pt x="4135" y="13002"/>
                  <a:pt x="4142" y="13047"/>
                </a:cubicBezTo>
                <a:cubicBezTo>
                  <a:pt x="4152" y="13110"/>
                  <a:pt x="4160" y="13194"/>
                  <a:pt x="4167" y="13246"/>
                </a:cubicBezTo>
                <a:cubicBezTo>
                  <a:pt x="4174" y="13303"/>
                  <a:pt x="4177" y="13346"/>
                  <a:pt x="4192" y="13395"/>
                </a:cubicBezTo>
                <a:cubicBezTo>
                  <a:pt x="4203" y="13431"/>
                  <a:pt x="4204" y="13460"/>
                  <a:pt x="4217" y="13494"/>
                </a:cubicBezTo>
                <a:cubicBezTo>
                  <a:pt x="4232" y="13535"/>
                  <a:pt x="4250" y="13576"/>
                  <a:pt x="4266" y="13618"/>
                </a:cubicBezTo>
                <a:cubicBezTo>
                  <a:pt x="4280" y="13655"/>
                  <a:pt x="4311" y="13733"/>
                  <a:pt x="4316" y="13767"/>
                </a:cubicBezTo>
                <a:cubicBezTo>
                  <a:pt x="4324" y="13822"/>
                  <a:pt x="4325" y="13862"/>
                  <a:pt x="4341" y="13915"/>
                </a:cubicBezTo>
                <a:cubicBezTo>
                  <a:pt x="4356" y="13964"/>
                  <a:pt x="4353" y="14016"/>
                  <a:pt x="4366" y="14064"/>
                </a:cubicBezTo>
                <a:cubicBezTo>
                  <a:pt x="4376" y="14103"/>
                  <a:pt x="4410" y="14153"/>
                  <a:pt x="4415" y="14188"/>
                </a:cubicBezTo>
                <a:cubicBezTo>
                  <a:pt x="4423" y="14241"/>
                  <a:pt x="4427" y="14286"/>
                  <a:pt x="4440" y="14337"/>
                </a:cubicBezTo>
                <a:cubicBezTo>
                  <a:pt x="4459" y="14411"/>
                  <a:pt x="4475" y="14485"/>
                  <a:pt x="4490" y="14560"/>
                </a:cubicBezTo>
                <a:cubicBezTo>
                  <a:pt x="4505" y="14634"/>
                  <a:pt x="4522" y="14710"/>
                  <a:pt x="4539" y="14784"/>
                </a:cubicBezTo>
                <a:cubicBezTo>
                  <a:pt x="4554" y="14848"/>
                  <a:pt x="4571" y="14920"/>
                  <a:pt x="4589" y="14982"/>
                </a:cubicBezTo>
                <a:cubicBezTo>
                  <a:pt x="4614" y="15069"/>
                  <a:pt x="4622" y="15143"/>
                  <a:pt x="4638" y="15230"/>
                </a:cubicBezTo>
                <a:cubicBezTo>
                  <a:pt x="4652" y="15305"/>
                  <a:pt x="4693" y="15379"/>
                  <a:pt x="4713" y="15453"/>
                </a:cubicBezTo>
                <a:cubicBezTo>
                  <a:pt x="4744" y="15566"/>
                  <a:pt x="4758" y="15687"/>
                  <a:pt x="4787" y="15801"/>
                </a:cubicBezTo>
                <a:cubicBezTo>
                  <a:pt x="4809" y="15887"/>
                  <a:pt x="4816" y="15964"/>
                  <a:pt x="4837" y="16049"/>
                </a:cubicBezTo>
              </a:path>
              <a:path w="8186" h="5954">
                <a:moveTo>
                  <a:pt x="9475" y="13618"/>
                </a:moveTo>
                <a:cubicBezTo>
                  <a:pt x="9435" y="13604"/>
                  <a:pt x="9387" y="13578"/>
                  <a:pt x="9351" y="13568"/>
                </a:cubicBezTo>
                <a:cubicBezTo>
                  <a:pt x="9309" y="13556"/>
                  <a:pt x="9243" y="13547"/>
                  <a:pt x="9203" y="13543"/>
                </a:cubicBezTo>
                <a:cubicBezTo>
                  <a:pt x="9090" y="13532"/>
                  <a:pt x="8966" y="13515"/>
                  <a:pt x="8855" y="13519"/>
                </a:cubicBezTo>
                <a:cubicBezTo>
                  <a:pt x="8774" y="13522"/>
                  <a:pt x="8666" y="13533"/>
                  <a:pt x="8582" y="13543"/>
                </a:cubicBezTo>
                <a:cubicBezTo>
                  <a:pt x="8473" y="13555"/>
                  <a:pt x="8373" y="13566"/>
                  <a:pt x="8260" y="13568"/>
                </a:cubicBezTo>
                <a:cubicBezTo>
                  <a:pt x="7841" y="13575"/>
                  <a:pt x="7404" y="13596"/>
                  <a:pt x="6995" y="13519"/>
                </a:cubicBezTo>
                <a:cubicBezTo>
                  <a:pt x="6855" y="13493"/>
                  <a:pt x="6743" y="13463"/>
                  <a:pt x="6598" y="13469"/>
                </a:cubicBezTo>
                <a:cubicBezTo>
                  <a:pt x="6430" y="13476"/>
                  <a:pt x="6268" y="13515"/>
                  <a:pt x="6102" y="13543"/>
                </a:cubicBezTo>
                <a:cubicBezTo>
                  <a:pt x="5907" y="13576"/>
                  <a:pt x="5723" y="13625"/>
                  <a:pt x="5531" y="13667"/>
                </a:cubicBezTo>
                <a:cubicBezTo>
                  <a:pt x="5349" y="13707"/>
                  <a:pt x="5147" y="13714"/>
                  <a:pt x="4961" y="13717"/>
                </a:cubicBezTo>
                <a:cubicBezTo>
                  <a:pt x="4721" y="13720"/>
                  <a:pt x="4478" y="13731"/>
                  <a:pt x="4242" y="13692"/>
                </a:cubicBezTo>
                <a:cubicBezTo>
                  <a:pt x="4100" y="13669"/>
                  <a:pt x="3963" y="13651"/>
                  <a:pt x="3820" y="13643"/>
                </a:cubicBezTo>
                <a:cubicBezTo>
                  <a:pt x="3553" y="13628"/>
                  <a:pt x="3316" y="13621"/>
                  <a:pt x="3051" y="13568"/>
                </a:cubicBezTo>
                <a:cubicBezTo>
                  <a:pt x="2847" y="13527"/>
                  <a:pt x="2637" y="13542"/>
                  <a:pt x="2431" y="13519"/>
                </a:cubicBezTo>
                <a:cubicBezTo>
                  <a:pt x="2241" y="13497"/>
                  <a:pt x="2050" y="13478"/>
                  <a:pt x="1860" y="13469"/>
                </a:cubicBezTo>
                <a:cubicBezTo>
                  <a:pt x="1671" y="13460"/>
                  <a:pt x="1479" y="13469"/>
                  <a:pt x="1290" y="13469"/>
                </a:cubicBezTo>
              </a:path>
              <a:path w="8186" h="5954">
                <a:moveTo>
                  <a:pt x="3820" y="10120"/>
                </a:moveTo>
                <a:cubicBezTo>
                  <a:pt x="3806" y="10079"/>
                  <a:pt x="3784" y="10103"/>
                  <a:pt x="3746" y="10120"/>
                </a:cubicBezTo>
                <a:cubicBezTo>
                  <a:pt x="3686" y="10146"/>
                  <a:pt x="3624" y="10182"/>
                  <a:pt x="3572" y="10220"/>
                </a:cubicBezTo>
                <a:cubicBezTo>
                  <a:pt x="3535" y="10247"/>
                  <a:pt x="3507" y="10279"/>
                  <a:pt x="3497" y="10319"/>
                </a:cubicBezTo>
                <a:cubicBezTo>
                  <a:pt x="3564" y="10319"/>
                  <a:pt x="3569" y="10278"/>
                  <a:pt x="3621" y="10244"/>
                </a:cubicBezTo>
                <a:cubicBezTo>
                  <a:pt x="3669" y="10213"/>
                  <a:pt x="3720" y="10143"/>
                  <a:pt x="3770" y="10120"/>
                </a:cubicBezTo>
                <a:cubicBezTo>
                  <a:pt x="3831" y="10093"/>
                  <a:pt x="3902" y="10161"/>
                  <a:pt x="3944" y="10195"/>
                </a:cubicBezTo>
                <a:cubicBezTo>
                  <a:pt x="3997" y="10239"/>
                  <a:pt x="4044" y="10295"/>
                  <a:pt x="4093" y="103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52760" y="3500280"/>
            <a:ext cx="1795320" cy="1482840"/>
          </a:xfrm>
          <a:custGeom>
            <a:avLst/>
            <a:gdLst/>
            <a:ahLst/>
            <a:rect l="l" t="t" r="r" b="b"/>
            <a:pathLst>
              <a:path w="4987" h="4119">
                <a:moveTo>
                  <a:pt x="9500" y="13667"/>
                </a:moveTo>
                <a:cubicBezTo>
                  <a:pt x="9508" y="13659"/>
                  <a:pt x="9517" y="13651"/>
                  <a:pt x="9525" y="13643"/>
                </a:cubicBezTo>
                <a:cubicBezTo>
                  <a:pt x="9502" y="13650"/>
                  <a:pt x="9457" y="13674"/>
                  <a:pt x="9426" y="13692"/>
                </a:cubicBezTo>
                <a:cubicBezTo>
                  <a:pt x="9378" y="13721"/>
                  <a:pt x="9352" y="13779"/>
                  <a:pt x="9327" y="13816"/>
                </a:cubicBezTo>
                <a:cubicBezTo>
                  <a:pt x="9319" y="13824"/>
                  <a:pt x="9310" y="13833"/>
                  <a:pt x="9302" y="13841"/>
                </a:cubicBezTo>
                <a:cubicBezTo>
                  <a:pt x="9347" y="13830"/>
                  <a:pt x="9385" y="13813"/>
                  <a:pt x="9426" y="13791"/>
                </a:cubicBezTo>
                <a:cubicBezTo>
                  <a:pt x="9471" y="13767"/>
                  <a:pt x="9515" y="13748"/>
                  <a:pt x="9550" y="13717"/>
                </a:cubicBezTo>
                <a:cubicBezTo>
                  <a:pt x="9589" y="13682"/>
                  <a:pt x="9581" y="13653"/>
                  <a:pt x="9550" y="13618"/>
                </a:cubicBezTo>
                <a:cubicBezTo>
                  <a:pt x="9502" y="13564"/>
                  <a:pt x="9444" y="13503"/>
                  <a:pt x="9401" y="13444"/>
                </a:cubicBezTo>
                <a:cubicBezTo>
                  <a:pt x="9368" y="13398"/>
                  <a:pt x="9325" y="13328"/>
                  <a:pt x="9277" y="13295"/>
                </a:cubicBezTo>
                <a:cubicBezTo>
                  <a:pt x="9229" y="13261"/>
                  <a:pt x="9215" y="13242"/>
                  <a:pt x="9178" y="13196"/>
                </a:cubicBezTo>
              </a:path>
              <a:path w="4987" h="4119">
                <a:moveTo>
                  <a:pt x="5159" y="12650"/>
                </a:moveTo>
                <a:cubicBezTo>
                  <a:pt x="5159" y="12642"/>
                  <a:pt x="5159" y="12634"/>
                  <a:pt x="5159" y="12626"/>
                </a:cubicBezTo>
                <a:cubicBezTo>
                  <a:pt x="5176" y="12630"/>
                  <a:pt x="5248" y="12669"/>
                  <a:pt x="5209" y="12700"/>
                </a:cubicBezTo>
                <a:cubicBezTo>
                  <a:pt x="5201" y="12700"/>
                  <a:pt x="5192" y="12700"/>
                  <a:pt x="5184" y="12700"/>
                </a:cubicBezTo>
              </a:path>
              <a:path w="4987" h="4119">
                <a:moveTo>
                  <a:pt x="4837" y="12923"/>
                </a:moveTo>
                <a:cubicBezTo>
                  <a:pt x="4876" y="12975"/>
                  <a:pt x="4844" y="12986"/>
                  <a:pt x="4862" y="13047"/>
                </a:cubicBezTo>
                <a:cubicBezTo>
                  <a:pt x="4883" y="13118"/>
                  <a:pt x="4887" y="13169"/>
                  <a:pt x="4887" y="13246"/>
                </a:cubicBezTo>
                <a:cubicBezTo>
                  <a:pt x="4887" y="13274"/>
                  <a:pt x="4889" y="13284"/>
                  <a:pt x="4911" y="13295"/>
                </a:cubicBezTo>
              </a:path>
              <a:path w="4987" h="4119">
                <a:moveTo>
                  <a:pt x="5085" y="13171"/>
                </a:moveTo>
                <a:cubicBezTo>
                  <a:pt x="5093" y="13163"/>
                  <a:pt x="5102" y="13154"/>
                  <a:pt x="5110" y="13146"/>
                </a:cubicBezTo>
                <a:cubicBezTo>
                  <a:pt x="5110" y="13206"/>
                  <a:pt x="5100" y="13246"/>
                  <a:pt x="5085" y="13295"/>
                </a:cubicBezTo>
                <a:cubicBezTo>
                  <a:pt x="5085" y="13320"/>
                  <a:pt x="5085" y="13328"/>
                  <a:pt x="5085" y="13345"/>
                </a:cubicBezTo>
              </a:path>
              <a:path w="4987" h="4119">
                <a:moveTo>
                  <a:pt x="5308" y="13122"/>
                </a:moveTo>
                <a:cubicBezTo>
                  <a:pt x="5300" y="13122"/>
                  <a:pt x="5291" y="13122"/>
                  <a:pt x="5283" y="13122"/>
                </a:cubicBezTo>
                <a:cubicBezTo>
                  <a:pt x="5293" y="13081"/>
                  <a:pt x="5312" y="13052"/>
                  <a:pt x="5358" y="13047"/>
                </a:cubicBezTo>
                <a:cubicBezTo>
                  <a:pt x="5382" y="13044"/>
                  <a:pt x="5408" y="13047"/>
                  <a:pt x="5432" y="13047"/>
                </a:cubicBezTo>
                <a:cubicBezTo>
                  <a:pt x="5432" y="13106"/>
                  <a:pt x="5433" y="13125"/>
                  <a:pt x="5407" y="13171"/>
                </a:cubicBezTo>
                <a:cubicBezTo>
                  <a:pt x="5381" y="13218"/>
                  <a:pt x="5383" y="13244"/>
                  <a:pt x="5383" y="13295"/>
                </a:cubicBezTo>
                <a:cubicBezTo>
                  <a:pt x="5437" y="13295"/>
                  <a:pt x="5455" y="13284"/>
                  <a:pt x="5507" y="13271"/>
                </a:cubicBezTo>
                <a:cubicBezTo>
                  <a:pt x="5555" y="13259"/>
                  <a:pt x="5545" y="13258"/>
                  <a:pt x="5581" y="13246"/>
                </a:cubicBezTo>
              </a:path>
              <a:path w="4987" h="4119">
                <a:moveTo>
                  <a:pt x="5531" y="12998"/>
                </a:moveTo>
                <a:cubicBezTo>
                  <a:pt x="5569" y="12967"/>
                  <a:pt x="5624" y="12925"/>
                  <a:pt x="5680" y="12948"/>
                </a:cubicBezTo>
                <a:cubicBezTo>
                  <a:pt x="5754" y="12979"/>
                  <a:pt x="5770" y="13048"/>
                  <a:pt x="5779" y="13122"/>
                </a:cubicBezTo>
                <a:cubicBezTo>
                  <a:pt x="5792" y="13228"/>
                  <a:pt x="5772" y="13269"/>
                  <a:pt x="5705" y="13345"/>
                </a:cubicBezTo>
              </a:path>
              <a:path w="4987" h="4119">
                <a:moveTo>
                  <a:pt x="4663" y="12799"/>
                </a:moveTo>
                <a:cubicBezTo>
                  <a:pt x="4644" y="12780"/>
                  <a:pt x="4598" y="12889"/>
                  <a:pt x="4589" y="12948"/>
                </a:cubicBezTo>
                <a:cubicBezTo>
                  <a:pt x="4572" y="13056"/>
                  <a:pt x="4630" y="13171"/>
                  <a:pt x="4663" y="13271"/>
                </a:cubicBezTo>
              </a:path>
              <a:path w="4987" h="4119">
                <a:moveTo>
                  <a:pt x="6499" y="10344"/>
                </a:moveTo>
                <a:cubicBezTo>
                  <a:pt x="6481" y="10396"/>
                  <a:pt x="6441" y="10350"/>
                  <a:pt x="6449" y="10344"/>
                </a:cubicBezTo>
                <a:cubicBezTo>
                  <a:pt x="6457" y="10344"/>
                  <a:pt x="6466" y="10344"/>
                  <a:pt x="6474" y="10344"/>
                </a:cubicBezTo>
              </a:path>
              <a:path w="4987" h="4119">
                <a:moveTo>
                  <a:pt x="6871" y="9897"/>
                </a:moveTo>
                <a:cubicBezTo>
                  <a:pt x="6871" y="9889"/>
                  <a:pt x="6871" y="9880"/>
                  <a:pt x="6871" y="9872"/>
                </a:cubicBezTo>
                <a:cubicBezTo>
                  <a:pt x="6909" y="9885"/>
                  <a:pt x="6896" y="9902"/>
                  <a:pt x="6896" y="9947"/>
                </a:cubicBezTo>
                <a:cubicBezTo>
                  <a:pt x="6896" y="10023"/>
                  <a:pt x="6871" y="10137"/>
                  <a:pt x="6921" y="10195"/>
                </a:cubicBezTo>
                <a:cubicBezTo>
                  <a:pt x="6967" y="10248"/>
                  <a:pt x="6975" y="10205"/>
                  <a:pt x="7020" y="10195"/>
                </a:cubicBezTo>
                <a:cubicBezTo>
                  <a:pt x="7065" y="10185"/>
                  <a:pt x="7125" y="10175"/>
                  <a:pt x="7169" y="10170"/>
                </a:cubicBezTo>
                <a:cubicBezTo>
                  <a:pt x="7201" y="10167"/>
                  <a:pt x="7236" y="10170"/>
                  <a:pt x="7268" y="10170"/>
                </a:cubicBezTo>
              </a:path>
              <a:path w="4987" h="4119">
                <a:moveTo>
                  <a:pt x="7094" y="10145"/>
                </a:moveTo>
                <a:cubicBezTo>
                  <a:pt x="7094" y="10199"/>
                  <a:pt x="7112" y="10240"/>
                  <a:pt x="7119" y="10294"/>
                </a:cubicBezTo>
              </a:path>
              <a:path w="4987" h="4119">
                <a:moveTo>
                  <a:pt x="7392" y="10294"/>
                </a:moveTo>
                <a:cubicBezTo>
                  <a:pt x="7392" y="10319"/>
                  <a:pt x="7392" y="10327"/>
                  <a:pt x="7392" y="10344"/>
                </a:cubicBezTo>
              </a:path>
              <a:path w="4987" h="4119">
                <a:moveTo>
                  <a:pt x="7764" y="9971"/>
                </a:moveTo>
                <a:cubicBezTo>
                  <a:pt x="7772" y="9963"/>
                  <a:pt x="7781" y="9955"/>
                  <a:pt x="7789" y="9947"/>
                </a:cubicBezTo>
                <a:cubicBezTo>
                  <a:pt x="7737" y="9947"/>
                  <a:pt x="7726" y="9958"/>
                  <a:pt x="7689" y="9996"/>
                </a:cubicBezTo>
                <a:cubicBezTo>
                  <a:pt x="7666" y="10019"/>
                  <a:pt x="7617" y="10056"/>
                  <a:pt x="7640" y="10096"/>
                </a:cubicBezTo>
                <a:cubicBezTo>
                  <a:pt x="7659" y="10130"/>
                  <a:pt x="7713" y="10128"/>
                  <a:pt x="7739" y="10145"/>
                </a:cubicBezTo>
                <a:cubicBezTo>
                  <a:pt x="7763" y="10161"/>
                  <a:pt x="7826" y="10218"/>
                  <a:pt x="7838" y="10244"/>
                </a:cubicBezTo>
                <a:cubicBezTo>
                  <a:pt x="7838" y="10269"/>
                  <a:pt x="7838" y="10277"/>
                  <a:pt x="7838" y="10294"/>
                </a:cubicBezTo>
                <a:cubicBezTo>
                  <a:pt x="7799" y="10294"/>
                  <a:pt x="7769" y="10309"/>
                  <a:pt x="7764" y="10269"/>
                </a:cubicBezTo>
                <a:cubicBezTo>
                  <a:pt x="7757" y="10215"/>
                  <a:pt x="7776" y="10195"/>
                  <a:pt x="7789" y="10145"/>
                </a:cubicBezTo>
                <a:cubicBezTo>
                  <a:pt x="7789" y="10117"/>
                  <a:pt x="7791" y="10107"/>
                  <a:pt x="7813" y="10096"/>
                </a:cubicBezTo>
              </a:path>
              <a:path w="4987" h="4119">
                <a:moveTo>
                  <a:pt x="7813" y="9872"/>
                </a:moveTo>
                <a:cubicBezTo>
                  <a:pt x="7813" y="9856"/>
                  <a:pt x="7813" y="9839"/>
                  <a:pt x="7813" y="9823"/>
                </a:cubicBezTo>
                <a:cubicBezTo>
                  <a:pt x="7869" y="9823"/>
                  <a:pt x="7967" y="9806"/>
                  <a:pt x="8012" y="9847"/>
                </a:cubicBezTo>
                <a:cubicBezTo>
                  <a:pt x="8093" y="9920"/>
                  <a:pt x="8147" y="10065"/>
                  <a:pt x="8161" y="10170"/>
                </a:cubicBezTo>
                <a:cubicBezTo>
                  <a:pt x="8161" y="10246"/>
                  <a:pt x="8160" y="10272"/>
                  <a:pt x="8136" y="10319"/>
                </a:cubicBezTo>
              </a:path>
              <a:path w="4987" h="4119">
                <a:moveTo>
                  <a:pt x="6796" y="9748"/>
                </a:moveTo>
                <a:cubicBezTo>
                  <a:pt x="6796" y="9723"/>
                  <a:pt x="6796" y="9715"/>
                  <a:pt x="6821" y="9723"/>
                </a:cubicBezTo>
                <a:cubicBezTo>
                  <a:pt x="6797" y="9762"/>
                  <a:pt x="6756" y="9846"/>
                  <a:pt x="6747" y="9897"/>
                </a:cubicBezTo>
                <a:cubicBezTo>
                  <a:pt x="6731" y="9988"/>
                  <a:pt x="6760" y="10064"/>
                  <a:pt x="6796" y="10145"/>
                </a:cubicBezTo>
              </a:path>
              <a:path w="4987" h="4119">
                <a:moveTo>
                  <a:pt x="5259" y="12626"/>
                </a:moveTo>
                <a:cubicBezTo>
                  <a:pt x="5279" y="12584"/>
                  <a:pt x="5295" y="12546"/>
                  <a:pt x="5308" y="12502"/>
                </a:cubicBezTo>
                <a:cubicBezTo>
                  <a:pt x="5308" y="12494"/>
                  <a:pt x="5308" y="12485"/>
                  <a:pt x="5308" y="12477"/>
                </a:cubicBezTo>
                <a:cubicBezTo>
                  <a:pt x="5312" y="12470"/>
                  <a:pt x="5351" y="12429"/>
                  <a:pt x="5358" y="12402"/>
                </a:cubicBezTo>
                <a:cubicBezTo>
                  <a:pt x="5358" y="12378"/>
                  <a:pt x="5358" y="12369"/>
                  <a:pt x="5358" y="12353"/>
                </a:cubicBezTo>
                <a:cubicBezTo>
                  <a:pt x="5362" y="12346"/>
                  <a:pt x="5400" y="12306"/>
                  <a:pt x="5407" y="12278"/>
                </a:cubicBezTo>
                <a:cubicBezTo>
                  <a:pt x="5407" y="12254"/>
                  <a:pt x="5407" y="12245"/>
                  <a:pt x="5407" y="12229"/>
                </a:cubicBezTo>
                <a:cubicBezTo>
                  <a:pt x="5415" y="12213"/>
                  <a:pt x="5420" y="12191"/>
                  <a:pt x="5432" y="12154"/>
                </a:cubicBezTo>
                <a:cubicBezTo>
                  <a:pt x="5442" y="12123"/>
                  <a:pt x="5447" y="12090"/>
                  <a:pt x="5457" y="12055"/>
                </a:cubicBezTo>
                <a:cubicBezTo>
                  <a:pt x="5468" y="12017"/>
                  <a:pt x="5478" y="12002"/>
                  <a:pt x="5482" y="11956"/>
                </a:cubicBezTo>
                <a:cubicBezTo>
                  <a:pt x="5490" y="11940"/>
                  <a:pt x="5496" y="11918"/>
                  <a:pt x="5507" y="11881"/>
                </a:cubicBezTo>
                <a:cubicBezTo>
                  <a:pt x="5517" y="11848"/>
                  <a:pt x="5522" y="11820"/>
                  <a:pt x="5531" y="11782"/>
                </a:cubicBezTo>
                <a:cubicBezTo>
                  <a:pt x="5540" y="11744"/>
                  <a:pt x="5541" y="11718"/>
                  <a:pt x="5556" y="11683"/>
                </a:cubicBezTo>
                <a:cubicBezTo>
                  <a:pt x="5574" y="11641"/>
                  <a:pt x="5590" y="11602"/>
                  <a:pt x="5606" y="11559"/>
                </a:cubicBezTo>
                <a:cubicBezTo>
                  <a:pt x="5619" y="11526"/>
                  <a:pt x="5618" y="11492"/>
                  <a:pt x="5631" y="11460"/>
                </a:cubicBezTo>
                <a:cubicBezTo>
                  <a:pt x="5647" y="11422"/>
                  <a:pt x="5644" y="11401"/>
                  <a:pt x="5655" y="11361"/>
                </a:cubicBezTo>
                <a:cubicBezTo>
                  <a:pt x="5666" y="11324"/>
                  <a:pt x="5698" y="11302"/>
                  <a:pt x="5705" y="11261"/>
                </a:cubicBezTo>
                <a:cubicBezTo>
                  <a:pt x="5714" y="11207"/>
                  <a:pt x="5714" y="11184"/>
                  <a:pt x="5730" y="11137"/>
                </a:cubicBezTo>
                <a:cubicBezTo>
                  <a:pt x="5742" y="11102"/>
                  <a:pt x="5741" y="11071"/>
                  <a:pt x="5755" y="11038"/>
                </a:cubicBezTo>
                <a:cubicBezTo>
                  <a:pt x="5768" y="11007"/>
                  <a:pt x="5766" y="10970"/>
                  <a:pt x="5779" y="10939"/>
                </a:cubicBezTo>
                <a:cubicBezTo>
                  <a:pt x="5792" y="10908"/>
                  <a:pt x="5814" y="10869"/>
                  <a:pt x="5829" y="10840"/>
                </a:cubicBezTo>
                <a:cubicBezTo>
                  <a:pt x="5849" y="10801"/>
                  <a:pt x="5878" y="10779"/>
                  <a:pt x="5904" y="10740"/>
                </a:cubicBezTo>
                <a:cubicBezTo>
                  <a:pt x="5921" y="10714"/>
                  <a:pt x="5939" y="10669"/>
                  <a:pt x="5953" y="10641"/>
                </a:cubicBezTo>
                <a:cubicBezTo>
                  <a:pt x="5969" y="10623"/>
                  <a:pt x="5984" y="10599"/>
                  <a:pt x="6003" y="10567"/>
                </a:cubicBezTo>
                <a:cubicBezTo>
                  <a:pt x="6019" y="10551"/>
                  <a:pt x="6053" y="10526"/>
                  <a:pt x="6077" y="10492"/>
                </a:cubicBezTo>
                <a:cubicBezTo>
                  <a:pt x="6100" y="10470"/>
                  <a:pt x="6108" y="10465"/>
                  <a:pt x="6102" y="10443"/>
                </a:cubicBezTo>
                <a:cubicBezTo>
                  <a:pt x="6135" y="10420"/>
                  <a:pt x="6157" y="10414"/>
                  <a:pt x="6176" y="10368"/>
                </a:cubicBezTo>
                <a:cubicBezTo>
                  <a:pt x="6176" y="10360"/>
                  <a:pt x="6176" y="10352"/>
                  <a:pt x="6176" y="10344"/>
                </a:cubicBezTo>
                <a:cubicBezTo>
                  <a:pt x="6189" y="10329"/>
                  <a:pt x="6231" y="10303"/>
                  <a:pt x="6251" y="10269"/>
                </a:cubicBezTo>
                <a:cubicBezTo>
                  <a:pt x="6251" y="10261"/>
                  <a:pt x="6251" y="10252"/>
                  <a:pt x="6251" y="10244"/>
                </a:cubicBezTo>
                <a:cubicBezTo>
                  <a:pt x="6283" y="10228"/>
                  <a:pt x="6269" y="10235"/>
                  <a:pt x="6300" y="10220"/>
                </a:cubicBezTo>
                <a:cubicBezTo>
                  <a:pt x="6319" y="10207"/>
                  <a:pt x="6331" y="10180"/>
                  <a:pt x="6375" y="10170"/>
                </a:cubicBezTo>
                <a:cubicBezTo>
                  <a:pt x="6400" y="10170"/>
                  <a:pt x="6408" y="10170"/>
                  <a:pt x="6424" y="10170"/>
                </a:cubicBezTo>
                <a:cubicBezTo>
                  <a:pt x="6432" y="10187"/>
                  <a:pt x="6448" y="10218"/>
                  <a:pt x="6449" y="10220"/>
                </a:cubicBezTo>
              </a:path>
              <a:path w="4987" h="4119">
                <a:moveTo>
                  <a:pt x="6573" y="10368"/>
                </a:moveTo>
                <a:cubicBezTo>
                  <a:pt x="6580" y="10421"/>
                  <a:pt x="6591" y="10446"/>
                  <a:pt x="6598" y="10492"/>
                </a:cubicBezTo>
                <a:cubicBezTo>
                  <a:pt x="6604" y="10531"/>
                  <a:pt x="6620" y="10589"/>
                  <a:pt x="6623" y="10616"/>
                </a:cubicBezTo>
                <a:cubicBezTo>
                  <a:pt x="6629" y="10667"/>
                  <a:pt x="6642" y="10718"/>
                  <a:pt x="6648" y="10765"/>
                </a:cubicBezTo>
                <a:cubicBezTo>
                  <a:pt x="6656" y="10830"/>
                  <a:pt x="6664" y="10909"/>
                  <a:pt x="6672" y="10964"/>
                </a:cubicBezTo>
                <a:cubicBezTo>
                  <a:pt x="6679" y="11017"/>
                  <a:pt x="6715" y="11066"/>
                  <a:pt x="6722" y="11112"/>
                </a:cubicBezTo>
                <a:cubicBezTo>
                  <a:pt x="6729" y="11156"/>
                  <a:pt x="6741" y="11203"/>
                  <a:pt x="6747" y="11237"/>
                </a:cubicBezTo>
                <a:cubicBezTo>
                  <a:pt x="6755" y="11282"/>
                  <a:pt x="6767" y="11351"/>
                  <a:pt x="6772" y="11385"/>
                </a:cubicBezTo>
                <a:cubicBezTo>
                  <a:pt x="6779" y="11434"/>
                  <a:pt x="6783" y="11484"/>
                  <a:pt x="6796" y="11534"/>
                </a:cubicBezTo>
                <a:cubicBezTo>
                  <a:pt x="6811" y="11592"/>
                  <a:pt x="6808" y="11649"/>
                  <a:pt x="6821" y="11708"/>
                </a:cubicBezTo>
                <a:cubicBezTo>
                  <a:pt x="6833" y="11761"/>
                  <a:pt x="6843" y="11801"/>
                  <a:pt x="6846" y="11857"/>
                </a:cubicBezTo>
                <a:cubicBezTo>
                  <a:pt x="6849" y="11915"/>
                  <a:pt x="6868" y="11944"/>
                  <a:pt x="6871" y="12005"/>
                </a:cubicBezTo>
                <a:cubicBezTo>
                  <a:pt x="6874" y="12065"/>
                  <a:pt x="6912" y="12103"/>
                  <a:pt x="6921" y="12154"/>
                </a:cubicBezTo>
                <a:cubicBezTo>
                  <a:pt x="6933" y="12218"/>
                  <a:pt x="6926" y="12269"/>
                  <a:pt x="6945" y="12328"/>
                </a:cubicBezTo>
                <a:cubicBezTo>
                  <a:pt x="6957" y="12365"/>
                  <a:pt x="6986" y="12415"/>
                  <a:pt x="6995" y="12452"/>
                </a:cubicBezTo>
                <a:cubicBezTo>
                  <a:pt x="6995" y="12460"/>
                  <a:pt x="6995" y="12469"/>
                  <a:pt x="6995" y="12477"/>
                </a:cubicBezTo>
              </a:path>
              <a:path w="4987" h="4119">
                <a:moveTo>
                  <a:pt x="6945" y="12477"/>
                </a:moveTo>
                <a:cubicBezTo>
                  <a:pt x="6945" y="12485"/>
                  <a:pt x="6945" y="12494"/>
                  <a:pt x="6945" y="12502"/>
                </a:cubicBezTo>
                <a:cubicBezTo>
                  <a:pt x="6893" y="12502"/>
                  <a:pt x="6862" y="12518"/>
                  <a:pt x="6821" y="12526"/>
                </a:cubicBezTo>
                <a:cubicBezTo>
                  <a:pt x="6764" y="12537"/>
                  <a:pt x="6696" y="12541"/>
                  <a:pt x="6648" y="12551"/>
                </a:cubicBezTo>
                <a:cubicBezTo>
                  <a:pt x="6614" y="12558"/>
                  <a:pt x="6574" y="12571"/>
                  <a:pt x="6548" y="12576"/>
                </a:cubicBezTo>
                <a:cubicBezTo>
                  <a:pt x="6509" y="12584"/>
                  <a:pt x="6485" y="12595"/>
                  <a:pt x="6449" y="12601"/>
                </a:cubicBezTo>
                <a:cubicBezTo>
                  <a:pt x="6390" y="12611"/>
                  <a:pt x="6325" y="12616"/>
                  <a:pt x="6276" y="12626"/>
                </a:cubicBezTo>
                <a:cubicBezTo>
                  <a:pt x="6236" y="12634"/>
                  <a:pt x="6185" y="12644"/>
                  <a:pt x="6152" y="12650"/>
                </a:cubicBezTo>
                <a:cubicBezTo>
                  <a:pt x="6117" y="12657"/>
                  <a:pt x="6079" y="12670"/>
                  <a:pt x="6052" y="12675"/>
                </a:cubicBezTo>
                <a:cubicBezTo>
                  <a:pt x="5992" y="12687"/>
                  <a:pt x="5916" y="12675"/>
                  <a:pt x="5854" y="12675"/>
                </a:cubicBezTo>
                <a:cubicBezTo>
                  <a:pt x="5834" y="12687"/>
                  <a:pt x="5818" y="12686"/>
                  <a:pt x="5779" y="12700"/>
                </a:cubicBezTo>
                <a:cubicBezTo>
                  <a:pt x="5742" y="12713"/>
                  <a:pt x="5712" y="12722"/>
                  <a:pt x="5680" y="12750"/>
                </a:cubicBezTo>
                <a:cubicBezTo>
                  <a:pt x="5634" y="12791"/>
                  <a:pt x="5580" y="12774"/>
                  <a:pt x="5531" y="12799"/>
                </a:cubicBezTo>
                <a:cubicBezTo>
                  <a:pt x="5523" y="12807"/>
                  <a:pt x="5515" y="12816"/>
                  <a:pt x="5507" y="12824"/>
                </a:cubicBezTo>
              </a:path>
              <a:path w="4987" h="4119">
                <a:moveTo>
                  <a:pt x="6970" y="12129"/>
                </a:moveTo>
                <a:cubicBezTo>
                  <a:pt x="6925" y="12129"/>
                  <a:pt x="6911" y="12151"/>
                  <a:pt x="6871" y="12154"/>
                </a:cubicBezTo>
                <a:cubicBezTo>
                  <a:pt x="6780" y="12160"/>
                  <a:pt x="6702" y="12153"/>
                  <a:pt x="6623" y="12179"/>
                </a:cubicBezTo>
                <a:cubicBezTo>
                  <a:pt x="6598" y="12179"/>
                  <a:pt x="6590" y="12179"/>
                  <a:pt x="6573" y="12179"/>
                </a:cubicBezTo>
                <a:cubicBezTo>
                  <a:pt x="6560" y="12217"/>
                  <a:pt x="6548" y="12200"/>
                  <a:pt x="6548" y="12254"/>
                </a:cubicBezTo>
                <a:cubicBezTo>
                  <a:pt x="6548" y="12302"/>
                  <a:pt x="6559" y="12359"/>
                  <a:pt x="6573" y="12402"/>
                </a:cubicBezTo>
                <a:cubicBezTo>
                  <a:pt x="6592" y="12459"/>
                  <a:pt x="6617" y="12517"/>
                  <a:pt x="6623" y="12576"/>
                </a:cubicBezTo>
                <a:cubicBezTo>
                  <a:pt x="6623" y="12584"/>
                  <a:pt x="6623" y="12593"/>
                  <a:pt x="6623" y="12601"/>
                </a:cubicBezTo>
              </a:path>
              <a:path w="4987" h="4119">
                <a:moveTo>
                  <a:pt x="7392" y="11013"/>
                </a:moveTo>
                <a:cubicBezTo>
                  <a:pt x="7419" y="11004"/>
                  <a:pt x="7437" y="10995"/>
                  <a:pt x="7441" y="10964"/>
                </a:cubicBezTo>
                <a:cubicBezTo>
                  <a:pt x="7447" y="10918"/>
                  <a:pt x="7439" y="10894"/>
                  <a:pt x="7392" y="10889"/>
                </a:cubicBezTo>
                <a:cubicBezTo>
                  <a:pt x="7343" y="10884"/>
                  <a:pt x="7300" y="10956"/>
                  <a:pt x="7268" y="10988"/>
                </a:cubicBezTo>
                <a:cubicBezTo>
                  <a:pt x="7248" y="11008"/>
                  <a:pt x="7217" y="11086"/>
                  <a:pt x="7243" y="11112"/>
                </a:cubicBezTo>
                <a:cubicBezTo>
                  <a:pt x="7260" y="11128"/>
                  <a:pt x="7322" y="11148"/>
                  <a:pt x="7342" y="11162"/>
                </a:cubicBezTo>
                <a:cubicBezTo>
                  <a:pt x="7372" y="11182"/>
                  <a:pt x="7414" y="11214"/>
                  <a:pt x="7417" y="11237"/>
                </a:cubicBezTo>
                <a:cubicBezTo>
                  <a:pt x="7424" y="11290"/>
                  <a:pt x="7379" y="11286"/>
                  <a:pt x="7342" y="11286"/>
                </a:cubicBezTo>
                <a:cubicBezTo>
                  <a:pt x="7351" y="11248"/>
                  <a:pt x="7365" y="11217"/>
                  <a:pt x="7392" y="11187"/>
                </a:cubicBezTo>
                <a:cubicBezTo>
                  <a:pt x="7415" y="11164"/>
                  <a:pt x="7423" y="11160"/>
                  <a:pt x="7417" y="11137"/>
                </a:cubicBezTo>
              </a:path>
              <a:path w="4987" h="4119">
                <a:moveTo>
                  <a:pt x="7615" y="11137"/>
                </a:moveTo>
                <a:cubicBezTo>
                  <a:pt x="7667" y="11176"/>
                  <a:pt x="7670" y="11157"/>
                  <a:pt x="7714" y="11112"/>
                </a:cubicBezTo>
              </a:path>
              <a:path w="4987" h="4119">
                <a:moveTo>
                  <a:pt x="7838" y="11063"/>
                </a:moveTo>
                <a:cubicBezTo>
                  <a:pt x="7838" y="11010"/>
                  <a:pt x="7850" y="11002"/>
                  <a:pt x="7888" y="10964"/>
                </a:cubicBezTo>
                <a:cubicBezTo>
                  <a:pt x="7908" y="10945"/>
                  <a:pt x="7956" y="10922"/>
                  <a:pt x="7987" y="10939"/>
                </a:cubicBezTo>
                <a:cubicBezTo>
                  <a:pt x="8020" y="10957"/>
                  <a:pt x="8021" y="11031"/>
                  <a:pt x="8012" y="11063"/>
                </a:cubicBezTo>
                <a:cubicBezTo>
                  <a:pt x="7990" y="11138"/>
                  <a:pt x="7962" y="11129"/>
                  <a:pt x="7962" y="11212"/>
                </a:cubicBezTo>
                <a:cubicBezTo>
                  <a:pt x="7962" y="11220"/>
                  <a:pt x="7962" y="11229"/>
                  <a:pt x="7962" y="11237"/>
                </a:cubicBezTo>
                <a:cubicBezTo>
                  <a:pt x="8029" y="11237"/>
                  <a:pt x="8074" y="11239"/>
                  <a:pt x="8136" y="11212"/>
                </a:cubicBezTo>
              </a:path>
              <a:path w="4987" h="4119">
                <a:moveTo>
                  <a:pt x="8706" y="10914"/>
                </a:moveTo>
                <a:cubicBezTo>
                  <a:pt x="8714" y="10914"/>
                  <a:pt x="8723" y="10914"/>
                  <a:pt x="8731" y="10914"/>
                </a:cubicBezTo>
                <a:cubicBezTo>
                  <a:pt x="8689" y="10914"/>
                  <a:pt x="8693" y="10904"/>
                  <a:pt x="8682" y="10939"/>
                </a:cubicBezTo>
                <a:cubicBezTo>
                  <a:pt x="8657" y="10939"/>
                  <a:pt x="8632" y="10939"/>
                  <a:pt x="8607" y="10939"/>
                </a:cubicBezTo>
              </a:path>
              <a:path w="4987" h="4119">
                <a:moveTo>
                  <a:pt x="8731" y="11038"/>
                </a:moveTo>
                <a:cubicBezTo>
                  <a:pt x="8739" y="11046"/>
                  <a:pt x="8748" y="11055"/>
                  <a:pt x="8756" y="11063"/>
                </a:cubicBezTo>
                <a:cubicBezTo>
                  <a:pt x="8712" y="11089"/>
                  <a:pt x="8685" y="11088"/>
                  <a:pt x="8632" y="11088"/>
                </a:cubicBezTo>
              </a:path>
              <a:path w="4987" h="4119">
                <a:moveTo>
                  <a:pt x="9178" y="10790"/>
                </a:moveTo>
                <a:cubicBezTo>
                  <a:pt x="9211" y="10741"/>
                  <a:pt x="9215" y="10752"/>
                  <a:pt x="9227" y="10716"/>
                </a:cubicBezTo>
                <a:cubicBezTo>
                  <a:pt x="9252" y="10741"/>
                  <a:pt x="9199" y="10827"/>
                  <a:pt x="9178" y="10889"/>
                </a:cubicBezTo>
                <a:cubicBezTo>
                  <a:pt x="9145" y="10984"/>
                  <a:pt x="9142" y="11067"/>
                  <a:pt x="9178" y="11162"/>
                </a:cubicBezTo>
                <a:cubicBezTo>
                  <a:pt x="9205" y="11231"/>
                  <a:pt x="9277" y="11294"/>
                  <a:pt x="9351" y="11311"/>
                </a:cubicBezTo>
                <a:cubicBezTo>
                  <a:pt x="9448" y="11333"/>
                  <a:pt x="9479" y="11273"/>
                  <a:pt x="9525" y="11212"/>
                </a:cubicBezTo>
                <a:cubicBezTo>
                  <a:pt x="9564" y="11161"/>
                  <a:pt x="9545" y="11156"/>
                  <a:pt x="9500" y="11112"/>
                </a:cubicBezTo>
                <a:cubicBezTo>
                  <a:pt x="9477" y="11090"/>
                  <a:pt x="9384" y="11054"/>
                  <a:pt x="9351" y="11063"/>
                </a:cubicBezTo>
                <a:cubicBezTo>
                  <a:pt x="9307" y="11075"/>
                  <a:pt x="9282" y="11107"/>
                  <a:pt x="9252" y="11137"/>
                </a:cubicBezTo>
              </a:path>
              <a:path w="4987" h="4119">
                <a:moveTo>
                  <a:pt x="6300" y="12923"/>
                </a:moveTo>
                <a:cubicBezTo>
                  <a:pt x="6292" y="12923"/>
                  <a:pt x="6284" y="12923"/>
                  <a:pt x="6276" y="12923"/>
                </a:cubicBezTo>
                <a:cubicBezTo>
                  <a:pt x="6288" y="12874"/>
                  <a:pt x="6330" y="12851"/>
                  <a:pt x="6375" y="12824"/>
                </a:cubicBezTo>
                <a:cubicBezTo>
                  <a:pt x="6412" y="12802"/>
                  <a:pt x="6505" y="12777"/>
                  <a:pt x="6548" y="12799"/>
                </a:cubicBezTo>
                <a:cubicBezTo>
                  <a:pt x="6586" y="12818"/>
                  <a:pt x="6573" y="12864"/>
                  <a:pt x="6573" y="12898"/>
                </a:cubicBezTo>
                <a:cubicBezTo>
                  <a:pt x="6573" y="12951"/>
                  <a:pt x="6518" y="12955"/>
                  <a:pt x="6499" y="12998"/>
                </a:cubicBezTo>
                <a:cubicBezTo>
                  <a:pt x="6499" y="13006"/>
                  <a:pt x="6499" y="13014"/>
                  <a:pt x="6499" y="13022"/>
                </a:cubicBezTo>
                <a:cubicBezTo>
                  <a:pt x="6527" y="13065"/>
                  <a:pt x="6571" y="13046"/>
                  <a:pt x="6623" y="13072"/>
                </a:cubicBezTo>
                <a:cubicBezTo>
                  <a:pt x="6649" y="13085"/>
                  <a:pt x="6708" y="13115"/>
                  <a:pt x="6722" y="13146"/>
                </a:cubicBezTo>
                <a:cubicBezTo>
                  <a:pt x="6738" y="13181"/>
                  <a:pt x="6718" y="13223"/>
                  <a:pt x="6697" y="13246"/>
                </a:cubicBezTo>
                <a:cubicBezTo>
                  <a:pt x="6657" y="13292"/>
                  <a:pt x="6578" y="13277"/>
                  <a:pt x="6524" y="13295"/>
                </a:cubicBezTo>
                <a:cubicBezTo>
                  <a:pt x="6467" y="13314"/>
                  <a:pt x="6290" y="13320"/>
                  <a:pt x="6350" y="13320"/>
                </a:cubicBezTo>
                <a:cubicBezTo>
                  <a:pt x="6358" y="13320"/>
                  <a:pt x="6367" y="13320"/>
                  <a:pt x="6375" y="13320"/>
                </a:cubicBezTo>
              </a:path>
              <a:path w="4987" h="4119">
                <a:moveTo>
                  <a:pt x="8210" y="11633"/>
                </a:moveTo>
                <a:cubicBezTo>
                  <a:pt x="8243" y="11658"/>
                  <a:pt x="8255" y="11679"/>
                  <a:pt x="8285" y="11683"/>
                </a:cubicBezTo>
                <a:cubicBezTo>
                  <a:pt x="8313" y="11683"/>
                  <a:pt x="8324" y="11681"/>
                  <a:pt x="8334" y="11658"/>
                </a:cubicBezTo>
                <a:cubicBezTo>
                  <a:pt x="8319" y="11598"/>
                  <a:pt x="8296" y="11609"/>
                  <a:pt x="8235" y="11609"/>
                </a:cubicBezTo>
                <a:cubicBezTo>
                  <a:pt x="8173" y="11609"/>
                  <a:pt x="8081" y="11669"/>
                  <a:pt x="8062" y="11733"/>
                </a:cubicBezTo>
                <a:cubicBezTo>
                  <a:pt x="8047" y="11783"/>
                  <a:pt x="8054" y="11873"/>
                  <a:pt x="8111" y="11881"/>
                </a:cubicBezTo>
                <a:cubicBezTo>
                  <a:pt x="8201" y="11894"/>
                  <a:pt x="8194" y="11815"/>
                  <a:pt x="8235" y="11757"/>
                </a:cubicBezTo>
                <a:cubicBezTo>
                  <a:pt x="8258" y="11735"/>
                  <a:pt x="8266" y="11730"/>
                  <a:pt x="8260" y="11708"/>
                </a:cubicBezTo>
                <a:cubicBezTo>
                  <a:pt x="8308" y="11767"/>
                  <a:pt x="8323" y="11813"/>
                  <a:pt x="8384" y="11857"/>
                </a:cubicBezTo>
              </a:path>
              <a:path w="4987" h="4119">
                <a:moveTo>
                  <a:pt x="7119" y="12650"/>
                </a:moveTo>
                <a:cubicBezTo>
                  <a:pt x="7119" y="12547"/>
                  <a:pt x="7137" y="12589"/>
                  <a:pt x="7119" y="12650"/>
                </a:cubicBezTo>
                <a:cubicBezTo>
                  <a:pt x="7090" y="12749"/>
                  <a:pt x="7094" y="12842"/>
                  <a:pt x="7094" y="12948"/>
                </a:cubicBezTo>
                <a:cubicBezTo>
                  <a:pt x="7094" y="12967"/>
                  <a:pt x="7123" y="13073"/>
                  <a:pt x="7169" y="13022"/>
                </a:cubicBezTo>
                <a:cubicBezTo>
                  <a:pt x="7191" y="12997"/>
                  <a:pt x="7259" y="12899"/>
                  <a:pt x="7317" y="12948"/>
                </a:cubicBezTo>
                <a:cubicBezTo>
                  <a:pt x="7366" y="12989"/>
                  <a:pt x="7348" y="13084"/>
                  <a:pt x="7317" y="13122"/>
                </a:cubicBezTo>
                <a:cubicBezTo>
                  <a:pt x="7277" y="13172"/>
                  <a:pt x="7240" y="13139"/>
                  <a:pt x="7193" y="13122"/>
                </a:cubicBezTo>
              </a:path>
              <a:path w="4987" h="4119">
                <a:moveTo>
                  <a:pt x="5060" y="11286"/>
                </a:moveTo>
                <a:cubicBezTo>
                  <a:pt x="5060" y="11261"/>
                  <a:pt x="5060" y="11253"/>
                  <a:pt x="5060" y="11237"/>
                </a:cubicBezTo>
                <a:cubicBezTo>
                  <a:pt x="4991" y="11237"/>
                  <a:pt x="4972" y="11250"/>
                  <a:pt x="4936" y="11311"/>
                </a:cubicBezTo>
                <a:cubicBezTo>
                  <a:pt x="4896" y="11379"/>
                  <a:pt x="4885" y="11487"/>
                  <a:pt x="4961" y="11534"/>
                </a:cubicBezTo>
                <a:cubicBezTo>
                  <a:pt x="5050" y="11589"/>
                  <a:pt x="5142" y="11590"/>
                  <a:pt x="5234" y="115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08160" y="5099040"/>
            <a:ext cx="293760" cy="214200"/>
          </a:xfrm>
          <a:custGeom>
            <a:avLst/>
            <a:gdLst/>
            <a:ahLst/>
            <a:rect l="l" t="t" r="r" b="b"/>
            <a:pathLst>
              <a:path w="819" h="597">
                <a:moveTo>
                  <a:pt x="5953" y="14511"/>
                </a:moveTo>
                <a:cubicBezTo>
                  <a:pt x="5986" y="14500"/>
                  <a:pt x="5983" y="14471"/>
                  <a:pt x="6003" y="14461"/>
                </a:cubicBezTo>
                <a:cubicBezTo>
                  <a:pt x="6035" y="14445"/>
                  <a:pt x="6028" y="14458"/>
                  <a:pt x="6028" y="14412"/>
                </a:cubicBezTo>
                <a:cubicBezTo>
                  <a:pt x="5969" y="14412"/>
                  <a:pt x="5942" y="14432"/>
                  <a:pt x="5904" y="14486"/>
                </a:cubicBezTo>
                <a:cubicBezTo>
                  <a:pt x="5864" y="14544"/>
                  <a:pt x="5829" y="14639"/>
                  <a:pt x="5854" y="14709"/>
                </a:cubicBezTo>
                <a:cubicBezTo>
                  <a:pt x="5884" y="14793"/>
                  <a:pt x="5969" y="14754"/>
                  <a:pt x="6003" y="14709"/>
                </a:cubicBezTo>
                <a:cubicBezTo>
                  <a:pt x="6053" y="14643"/>
                  <a:pt x="6052" y="14564"/>
                  <a:pt x="6052" y="14486"/>
                </a:cubicBezTo>
                <a:cubicBezTo>
                  <a:pt x="6052" y="14478"/>
                  <a:pt x="6052" y="14469"/>
                  <a:pt x="6052" y="14461"/>
                </a:cubicBezTo>
                <a:cubicBezTo>
                  <a:pt x="6084" y="14524"/>
                  <a:pt x="6104" y="14636"/>
                  <a:pt x="6152" y="14684"/>
                </a:cubicBezTo>
                <a:cubicBezTo>
                  <a:pt x="6195" y="14706"/>
                  <a:pt x="6207" y="14710"/>
                  <a:pt x="6226" y="14734"/>
                </a:cubicBezTo>
              </a:path>
              <a:path w="819" h="597">
                <a:moveTo>
                  <a:pt x="6424" y="14263"/>
                </a:moveTo>
                <a:cubicBezTo>
                  <a:pt x="6397" y="14254"/>
                  <a:pt x="6378" y="14211"/>
                  <a:pt x="6424" y="14188"/>
                </a:cubicBezTo>
                <a:cubicBezTo>
                  <a:pt x="6452" y="14188"/>
                  <a:pt x="6463" y="14186"/>
                  <a:pt x="6474" y="14163"/>
                </a:cubicBezTo>
                <a:cubicBezTo>
                  <a:pt x="6504" y="14173"/>
                  <a:pt x="6536" y="14213"/>
                  <a:pt x="6524" y="14263"/>
                </a:cubicBezTo>
                <a:cubicBezTo>
                  <a:pt x="6511" y="14318"/>
                  <a:pt x="6499" y="14354"/>
                  <a:pt x="6499" y="14412"/>
                </a:cubicBezTo>
                <a:cubicBezTo>
                  <a:pt x="6499" y="14436"/>
                  <a:pt x="6499" y="14445"/>
                  <a:pt x="6499" y="14461"/>
                </a:cubicBezTo>
                <a:cubicBezTo>
                  <a:pt x="6557" y="14461"/>
                  <a:pt x="6614" y="14461"/>
                  <a:pt x="6672" y="14461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89120" y="5106960"/>
            <a:ext cx="393840" cy="243000"/>
          </a:xfrm>
          <a:custGeom>
            <a:avLst/>
            <a:gdLst/>
            <a:ahLst/>
            <a:rect l="l" t="t" r="r" b="b"/>
            <a:pathLst>
              <a:path w="1093" h="671">
                <a:moveTo>
                  <a:pt x="7441" y="14660"/>
                </a:moveTo>
                <a:cubicBezTo>
                  <a:pt x="7441" y="14668"/>
                  <a:pt x="7441" y="14676"/>
                  <a:pt x="7441" y="14684"/>
                </a:cubicBezTo>
                <a:cubicBezTo>
                  <a:pt x="7384" y="14684"/>
                  <a:pt x="7338" y="14700"/>
                  <a:pt x="7293" y="14709"/>
                </a:cubicBezTo>
                <a:cubicBezTo>
                  <a:pt x="7248" y="14718"/>
                  <a:pt x="7233" y="14724"/>
                  <a:pt x="7193" y="14734"/>
                </a:cubicBezTo>
              </a:path>
              <a:path w="1093" h="671">
                <a:moveTo>
                  <a:pt x="7293" y="14511"/>
                </a:moveTo>
                <a:cubicBezTo>
                  <a:pt x="7334" y="14525"/>
                  <a:pt x="7340" y="14582"/>
                  <a:pt x="7342" y="14635"/>
                </a:cubicBezTo>
                <a:cubicBezTo>
                  <a:pt x="7345" y="14712"/>
                  <a:pt x="7353" y="14762"/>
                  <a:pt x="7367" y="14833"/>
                </a:cubicBezTo>
              </a:path>
              <a:path w="1093" h="671">
                <a:moveTo>
                  <a:pt x="7689" y="14263"/>
                </a:moveTo>
                <a:cubicBezTo>
                  <a:pt x="7697" y="14238"/>
                  <a:pt x="7706" y="14213"/>
                  <a:pt x="7714" y="14188"/>
                </a:cubicBezTo>
                <a:cubicBezTo>
                  <a:pt x="7714" y="14307"/>
                  <a:pt x="7649" y="14716"/>
                  <a:pt x="7739" y="14784"/>
                </a:cubicBezTo>
                <a:cubicBezTo>
                  <a:pt x="7793" y="14824"/>
                  <a:pt x="7819" y="14724"/>
                  <a:pt x="7838" y="14709"/>
                </a:cubicBezTo>
                <a:cubicBezTo>
                  <a:pt x="7880" y="14676"/>
                  <a:pt x="7928" y="14730"/>
                  <a:pt x="7938" y="14759"/>
                </a:cubicBezTo>
                <a:cubicBezTo>
                  <a:pt x="7956" y="14808"/>
                  <a:pt x="7939" y="14854"/>
                  <a:pt x="7888" y="14858"/>
                </a:cubicBezTo>
                <a:cubicBezTo>
                  <a:pt x="7827" y="14862"/>
                  <a:pt x="7819" y="14857"/>
                  <a:pt x="7764" y="14833"/>
                </a:cubicBezTo>
              </a:path>
              <a:path w="1093" h="671">
                <a:moveTo>
                  <a:pt x="8161" y="14412"/>
                </a:moveTo>
                <a:cubicBezTo>
                  <a:pt x="8136" y="14412"/>
                  <a:pt x="8128" y="14412"/>
                  <a:pt x="8111" y="14412"/>
                </a:cubicBezTo>
                <a:cubicBezTo>
                  <a:pt x="8142" y="14389"/>
                  <a:pt x="8190" y="14347"/>
                  <a:pt x="8235" y="14362"/>
                </a:cubicBezTo>
                <a:cubicBezTo>
                  <a:pt x="8279" y="14377"/>
                  <a:pt x="8285" y="14424"/>
                  <a:pt x="8285" y="14461"/>
                </a:cubicBezTo>
                <a:cubicBezTo>
                  <a:pt x="8285" y="14517"/>
                  <a:pt x="8240" y="14495"/>
                  <a:pt x="8235" y="14536"/>
                </a:cubicBezTo>
                <a:cubicBezTo>
                  <a:pt x="8228" y="14588"/>
                  <a:pt x="8238" y="14585"/>
                  <a:pt x="8285" y="14585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32080" y="5286240"/>
            <a:ext cx="63720" cy="54000"/>
          </a:xfrm>
          <a:custGeom>
            <a:avLst/>
            <a:gdLst/>
            <a:ahLst/>
            <a:rect l="l" t="t" r="r" b="b"/>
            <a:pathLst>
              <a:path w="175" h="150">
                <a:moveTo>
                  <a:pt x="9128" y="14709"/>
                </a:moveTo>
                <a:cubicBezTo>
                  <a:pt x="9128" y="14684"/>
                  <a:pt x="9128" y="14676"/>
                  <a:pt x="9153" y="14684"/>
                </a:cubicBezTo>
                <a:cubicBezTo>
                  <a:pt x="9095" y="14684"/>
                  <a:pt x="9037" y="14684"/>
                  <a:pt x="8979" y="14684"/>
                </a:cubicBezTo>
              </a:path>
              <a:path w="175" h="150">
                <a:moveTo>
                  <a:pt x="9103" y="14784"/>
                </a:moveTo>
                <a:cubicBezTo>
                  <a:pt x="9144" y="14804"/>
                  <a:pt x="9161" y="14801"/>
                  <a:pt x="9153" y="14833"/>
                </a:cubicBezTo>
                <a:cubicBezTo>
                  <a:pt x="9095" y="14833"/>
                  <a:pt x="9037" y="14833"/>
                  <a:pt x="8979" y="14833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02000" y="5224320"/>
            <a:ext cx="98280" cy="133560"/>
          </a:xfrm>
          <a:custGeom>
            <a:avLst/>
            <a:gdLst/>
            <a:ahLst/>
            <a:rect l="l" t="t" r="r" b="b"/>
            <a:pathLst>
              <a:path w="273" h="373">
                <a:moveTo>
                  <a:pt x="9550" y="14511"/>
                </a:moveTo>
                <a:cubicBezTo>
                  <a:pt x="9583" y="14511"/>
                  <a:pt x="9616" y="14511"/>
                  <a:pt x="9649" y="14511"/>
                </a:cubicBezTo>
                <a:cubicBezTo>
                  <a:pt x="9596" y="14524"/>
                  <a:pt x="9538" y="14564"/>
                  <a:pt x="9500" y="14610"/>
                </a:cubicBezTo>
                <a:cubicBezTo>
                  <a:pt x="9441" y="14682"/>
                  <a:pt x="9428" y="14774"/>
                  <a:pt x="9475" y="14858"/>
                </a:cubicBezTo>
                <a:cubicBezTo>
                  <a:pt x="9510" y="14920"/>
                  <a:pt x="9627" y="14878"/>
                  <a:pt x="9674" y="14858"/>
                </a:cubicBezTo>
                <a:cubicBezTo>
                  <a:pt x="9690" y="14850"/>
                  <a:pt x="9707" y="14841"/>
                  <a:pt x="9723" y="14833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25920" y="5133960"/>
            <a:ext cx="106200" cy="73080"/>
          </a:xfrm>
          <a:custGeom>
            <a:avLst/>
            <a:gdLst/>
            <a:ahLst/>
            <a:rect l="l" t="t" r="r" b="b"/>
            <a:pathLst>
              <a:path w="298" h="199">
                <a:moveTo>
                  <a:pt x="10120" y="14337"/>
                </a:moveTo>
                <a:cubicBezTo>
                  <a:pt x="10096" y="14337"/>
                  <a:pt x="10087" y="14337"/>
                  <a:pt x="10071" y="14337"/>
                </a:cubicBezTo>
                <a:cubicBezTo>
                  <a:pt x="10081" y="14296"/>
                  <a:pt x="10099" y="14268"/>
                  <a:pt x="10145" y="14263"/>
                </a:cubicBezTo>
                <a:cubicBezTo>
                  <a:pt x="10189" y="14258"/>
                  <a:pt x="10217" y="14264"/>
                  <a:pt x="10220" y="14312"/>
                </a:cubicBezTo>
                <a:cubicBezTo>
                  <a:pt x="10225" y="14378"/>
                  <a:pt x="10187" y="14385"/>
                  <a:pt x="10170" y="14436"/>
                </a:cubicBezTo>
                <a:cubicBezTo>
                  <a:pt x="10170" y="14444"/>
                  <a:pt x="10170" y="14453"/>
                  <a:pt x="10170" y="14461"/>
                </a:cubicBezTo>
                <a:cubicBezTo>
                  <a:pt x="10223" y="14461"/>
                  <a:pt x="10243" y="14445"/>
                  <a:pt x="10294" y="14436"/>
                </a:cubicBezTo>
                <a:cubicBezTo>
                  <a:pt x="10339" y="14436"/>
                  <a:pt x="10352" y="14440"/>
                  <a:pt x="10368" y="14412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09880" y="5518080"/>
            <a:ext cx="500040" cy="241200"/>
          </a:xfrm>
          <a:custGeom>
            <a:avLst/>
            <a:gdLst/>
            <a:ahLst/>
            <a:rect l="l" t="t" r="r" b="b"/>
            <a:pathLst>
              <a:path w="1390" h="671">
                <a:moveTo>
                  <a:pt x="5705" y="15528"/>
                </a:moveTo>
                <a:cubicBezTo>
                  <a:pt x="5644" y="15546"/>
                  <a:pt x="5634" y="15553"/>
                  <a:pt x="5581" y="15553"/>
                </a:cubicBezTo>
                <a:cubicBezTo>
                  <a:pt x="5581" y="15510"/>
                  <a:pt x="5596" y="15459"/>
                  <a:pt x="5631" y="15429"/>
                </a:cubicBezTo>
                <a:cubicBezTo>
                  <a:pt x="5681" y="15386"/>
                  <a:pt x="5792" y="15358"/>
                  <a:pt x="5854" y="15354"/>
                </a:cubicBezTo>
                <a:cubicBezTo>
                  <a:pt x="5924" y="15350"/>
                  <a:pt x="5946" y="15414"/>
                  <a:pt x="5928" y="15478"/>
                </a:cubicBezTo>
                <a:cubicBezTo>
                  <a:pt x="5910" y="15542"/>
                  <a:pt x="5869" y="15590"/>
                  <a:pt x="5854" y="15652"/>
                </a:cubicBezTo>
                <a:cubicBezTo>
                  <a:pt x="5836" y="15726"/>
                  <a:pt x="5924" y="15772"/>
                  <a:pt x="5978" y="15801"/>
                </a:cubicBezTo>
                <a:cubicBezTo>
                  <a:pt x="6023" y="15826"/>
                  <a:pt x="6103" y="15847"/>
                  <a:pt x="6127" y="15900"/>
                </a:cubicBezTo>
                <a:cubicBezTo>
                  <a:pt x="6157" y="15968"/>
                  <a:pt x="6042" y="15992"/>
                  <a:pt x="6003" y="15999"/>
                </a:cubicBezTo>
                <a:cubicBezTo>
                  <a:pt x="5933" y="16011"/>
                  <a:pt x="5867" y="15998"/>
                  <a:pt x="5804" y="15974"/>
                </a:cubicBezTo>
              </a:path>
              <a:path w="1390" h="671">
                <a:moveTo>
                  <a:pt x="6201" y="15354"/>
                </a:moveTo>
                <a:cubicBezTo>
                  <a:pt x="6253" y="15332"/>
                  <a:pt x="6271" y="15329"/>
                  <a:pt x="6325" y="15329"/>
                </a:cubicBezTo>
                <a:cubicBezTo>
                  <a:pt x="6333" y="15329"/>
                  <a:pt x="6342" y="15329"/>
                  <a:pt x="6350" y="15329"/>
                </a:cubicBezTo>
                <a:cubicBezTo>
                  <a:pt x="6350" y="15380"/>
                  <a:pt x="6349" y="15388"/>
                  <a:pt x="6325" y="15429"/>
                </a:cubicBezTo>
                <a:cubicBezTo>
                  <a:pt x="6306" y="15462"/>
                  <a:pt x="6274" y="15527"/>
                  <a:pt x="6325" y="15553"/>
                </a:cubicBezTo>
                <a:cubicBezTo>
                  <a:pt x="6353" y="15567"/>
                  <a:pt x="6419" y="15553"/>
                  <a:pt x="6449" y="15553"/>
                </a:cubicBezTo>
              </a:path>
              <a:path w="1390" h="671">
                <a:moveTo>
                  <a:pt x="6945" y="15677"/>
                </a:moveTo>
                <a:cubicBezTo>
                  <a:pt x="6945" y="15652"/>
                  <a:pt x="6945" y="15644"/>
                  <a:pt x="6970" y="15652"/>
                </a:cubicBezTo>
                <a:cubicBezTo>
                  <a:pt x="6909" y="15652"/>
                  <a:pt x="6905" y="15687"/>
                  <a:pt x="6846" y="15701"/>
                </a:cubicBezTo>
                <a:cubicBezTo>
                  <a:pt x="6770" y="15718"/>
                  <a:pt x="6704" y="15751"/>
                  <a:pt x="6623" y="15751"/>
                </a:cubicBezTo>
                <a:cubicBezTo>
                  <a:pt x="6615" y="15751"/>
                  <a:pt x="6606" y="15751"/>
                  <a:pt x="6598" y="15751"/>
                </a:cubicBezTo>
              </a:path>
              <a:path w="1390" h="671">
                <a:moveTo>
                  <a:pt x="6697" y="15602"/>
                </a:moveTo>
                <a:cubicBezTo>
                  <a:pt x="6770" y="15620"/>
                  <a:pt x="6768" y="15685"/>
                  <a:pt x="6796" y="15751"/>
                </a:cubicBezTo>
                <a:cubicBezTo>
                  <a:pt x="6820" y="15799"/>
                  <a:pt x="6828" y="15813"/>
                  <a:pt x="6821" y="15850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670120" y="5545080"/>
            <a:ext cx="250920" cy="277920"/>
          </a:xfrm>
          <a:custGeom>
            <a:avLst/>
            <a:gdLst/>
            <a:ahLst/>
            <a:rect l="l" t="t" r="r" b="b"/>
            <a:pathLst>
              <a:path w="695" h="770">
                <a:moveTo>
                  <a:pt x="7516" y="15602"/>
                </a:moveTo>
                <a:cubicBezTo>
                  <a:pt x="7555" y="15563"/>
                  <a:pt x="7571" y="15562"/>
                  <a:pt x="7565" y="15528"/>
                </a:cubicBezTo>
                <a:cubicBezTo>
                  <a:pt x="7511" y="15542"/>
                  <a:pt x="7461" y="15624"/>
                  <a:pt x="7441" y="15677"/>
                </a:cubicBezTo>
                <a:cubicBezTo>
                  <a:pt x="7387" y="15819"/>
                  <a:pt x="7420" y="15941"/>
                  <a:pt x="7466" y="16073"/>
                </a:cubicBezTo>
                <a:cubicBezTo>
                  <a:pt x="7489" y="16141"/>
                  <a:pt x="7490" y="16162"/>
                  <a:pt x="7541" y="16173"/>
                </a:cubicBezTo>
                <a:cubicBezTo>
                  <a:pt x="7596" y="16133"/>
                  <a:pt x="7646" y="16080"/>
                  <a:pt x="7615" y="15999"/>
                </a:cubicBezTo>
                <a:cubicBezTo>
                  <a:pt x="7592" y="15939"/>
                  <a:pt x="7505" y="15944"/>
                  <a:pt x="7466" y="15925"/>
                </a:cubicBezTo>
                <a:cubicBezTo>
                  <a:pt x="7458" y="15917"/>
                  <a:pt x="7449" y="15908"/>
                  <a:pt x="7441" y="15900"/>
                </a:cubicBezTo>
              </a:path>
              <a:path w="695" h="770">
                <a:moveTo>
                  <a:pt x="7838" y="15453"/>
                </a:moveTo>
                <a:cubicBezTo>
                  <a:pt x="7830" y="15445"/>
                  <a:pt x="7821" y="15437"/>
                  <a:pt x="7813" y="15429"/>
                </a:cubicBezTo>
                <a:cubicBezTo>
                  <a:pt x="7864" y="15416"/>
                  <a:pt x="7877" y="15404"/>
                  <a:pt x="7938" y="15404"/>
                </a:cubicBezTo>
                <a:cubicBezTo>
                  <a:pt x="7983" y="15404"/>
                  <a:pt x="8006" y="15402"/>
                  <a:pt x="8012" y="15453"/>
                </a:cubicBezTo>
                <a:cubicBezTo>
                  <a:pt x="8017" y="15495"/>
                  <a:pt x="7974" y="15518"/>
                  <a:pt x="7962" y="15553"/>
                </a:cubicBezTo>
                <a:cubicBezTo>
                  <a:pt x="7941" y="15615"/>
                  <a:pt x="7990" y="15624"/>
                  <a:pt x="8037" y="15627"/>
                </a:cubicBezTo>
                <a:cubicBezTo>
                  <a:pt x="8081" y="15627"/>
                  <a:pt x="8095" y="15630"/>
                  <a:pt x="8111" y="15602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25880" y="5653080"/>
            <a:ext cx="71280" cy="71280"/>
          </a:xfrm>
          <a:custGeom>
            <a:avLst/>
            <a:gdLst/>
            <a:ahLst/>
            <a:rect l="l" t="t" r="r" b="b"/>
            <a:pathLst>
              <a:path w="199" h="200">
                <a:moveTo>
                  <a:pt x="8855" y="15701"/>
                </a:moveTo>
                <a:cubicBezTo>
                  <a:pt x="8855" y="15709"/>
                  <a:pt x="8855" y="15718"/>
                  <a:pt x="8855" y="15726"/>
                </a:cubicBezTo>
                <a:cubicBezTo>
                  <a:pt x="8800" y="15726"/>
                  <a:pt x="8761" y="15747"/>
                  <a:pt x="8706" y="15751"/>
                </a:cubicBezTo>
                <a:cubicBezTo>
                  <a:pt x="8698" y="15751"/>
                  <a:pt x="8690" y="15751"/>
                  <a:pt x="8682" y="15751"/>
                </a:cubicBezTo>
              </a:path>
              <a:path w="199" h="200">
                <a:moveTo>
                  <a:pt x="8855" y="15825"/>
                </a:moveTo>
                <a:cubicBezTo>
                  <a:pt x="8898" y="15883"/>
                  <a:pt x="8874" y="15894"/>
                  <a:pt x="8806" y="15900"/>
                </a:cubicBezTo>
                <a:cubicBezTo>
                  <a:pt x="8758" y="15904"/>
                  <a:pt x="8743" y="15897"/>
                  <a:pt x="8706" y="15875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348000" y="5572080"/>
            <a:ext cx="312840" cy="206280"/>
          </a:xfrm>
          <a:custGeom>
            <a:avLst/>
            <a:gdLst/>
            <a:ahLst/>
            <a:rect l="l" t="t" r="r" b="b"/>
            <a:pathLst>
              <a:path w="869" h="572">
                <a:moveTo>
                  <a:pt x="9451" y="15701"/>
                </a:moveTo>
                <a:cubicBezTo>
                  <a:pt x="9467" y="15693"/>
                  <a:pt x="9484" y="15685"/>
                  <a:pt x="9500" y="15677"/>
                </a:cubicBezTo>
                <a:cubicBezTo>
                  <a:pt x="9447" y="15690"/>
                  <a:pt x="9389" y="15730"/>
                  <a:pt x="9351" y="15776"/>
                </a:cubicBezTo>
                <a:cubicBezTo>
                  <a:pt x="9322" y="15811"/>
                  <a:pt x="9263" y="15947"/>
                  <a:pt x="9302" y="15999"/>
                </a:cubicBezTo>
                <a:cubicBezTo>
                  <a:pt x="9351" y="16064"/>
                  <a:pt x="9441" y="16050"/>
                  <a:pt x="9500" y="16024"/>
                </a:cubicBezTo>
                <a:cubicBezTo>
                  <a:pt x="9554" y="15997"/>
                  <a:pt x="9574" y="15985"/>
                  <a:pt x="9599" y="15949"/>
                </a:cubicBezTo>
              </a:path>
              <a:path w="869" h="572">
                <a:moveTo>
                  <a:pt x="9897" y="15553"/>
                </a:moveTo>
                <a:cubicBezTo>
                  <a:pt x="9897" y="15528"/>
                  <a:pt x="9897" y="15520"/>
                  <a:pt x="9872" y="15528"/>
                </a:cubicBezTo>
                <a:cubicBezTo>
                  <a:pt x="9904" y="15517"/>
                  <a:pt x="9906" y="15518"/>
                  <a:pt x="9947" y="15503"/>
                </a:cubicBezTo>
                <a:cubicBezTo>
                  <a:pt x="10011" y="15480"/>
                  <a:pt x="10003" y="15478"/>
                  <a:pt x="10071" y="15478"/>
                </a:cubicBezTo>
                <a:cubicBezTo>
                  <a:pt x="10071" y="15529"/>
                  <a:pt x="10053" y="15559"/>
                  <a:pt x="10021" y="15602"/>
                </a:cubicBezTo>
                <a:cubicBezTo>
                  <a:pt x="9991" y="15641"/>
                  <a:pt x="9947" y="15694"/>
                  <a:pt x="9971" y="15751"/>
                </a:cubicBezTo>
                <a:cubicBezTo>
                  <a:pt x="9995" y="15807"/>
                  <a:pt x="10073" y="15801"/>
                  <a:pt x="10120" y="15801"/>
                </a:cubicBezTo>
                <a:cubicBezTo>
                  <a:pt x="10137" y="15801"/>
                  <a:pt x="10153" y="15801"/>
                  <a:pt x="10170" y="15801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89120" y="5867280"/>
            <a:ext cx="312840" cy="231840"/>
          </a:xfrm>
          <a:custGeom>
            <a:avLst/>
            <a:gdLst/>
            <a:ahLst/>
            <a:rect l="l" t="t" r="r" b="b"/>
            <a:pathLst>
              <a:path w="870" h="646">
                <a:moveTo>
                  <a:pt x="7218" y="16520"/>
                </a:moveTo>
                <a:cubicBezTo>
                  <a:pt x="7218" y="16465"/>
                  <a:pt x="7200" y="16410"/>
                  <a:pt x="7243" y="16396"/>
                </a:cubicBezTo>
                <a:cubicBezTo>
                  <a:pt x="7231" y="16443"/>
                  <a:pt x="7200" y="16493"/>
                  <a:pt x="7193" y="16545"/>
                </a:cubicBezTo>
                <a:cubicBezTo>
                  <a:pt x="7185" y="16607"/>
                  <a:pt x="7180" y="16696"/>
                  <a:pt x="7218" y="16743"/>
                </a:cubicBezTo>
                <a:cubicBezTo>
                  <a:pt x="7264" y="16800"/>
                  <a:pt x="7297" y="16793"/>
                  <a:pt x="7367" y="16793"/>
                </a:cubicBezTo>
                <a:cubicBezTo>
                  <a:pt x="7450" y="16793"/>
                  <a:pt x="7532" y="16793"/>
                  <a:pt x="7615" y="16793"/>
                </a:cubicBezTo>
              </a:path>
              <a:path w="870" h="646">
                <a:moveTo>
                  <a:pt x="7441" y="16718"/>
                </a:moveTo>
                <a:cubicBezTo>
                  <a:pt x="7425" y="16710"/>
                  <a:pt x="7408" y="16702"/>
                  <a:pt x="7392" y="16694"/>
                </a:cubicBezTo>
                <a:cubicBezTo>
                  <a:pt x="7392" y="16778"/>
                  <a:pt x="7376" y="16873"/>
                  <a:pt x="7417" y="16942"/>
                </a:cubicBezTo>
              </a:path>
              <a:path w="870" h="646">
                <a:moveTo>
                  <a:pt x="7714" y="16570"/>
                </a:moveTo>
                <a:cubicBezTo>
                  <a:pt x="7761" y="16492"/>
                  <a:pt x="7764" y="16513"/>
                  <a:pt x="7764" y="16446"/>
                </a:cubicBezTo>
                <a:cubicBezTo>
                  <a:pt x="7739" y="16486"/>
                  <a:pt x="7717" y="16542"/>
                  <a:pt x="7714" y="16594"/>
                </a:cubicBezTo>
                <a:cubicBezTo>
                  <a:pt x="7709" y="16667"/>
                  <a:pt x="7754" y="16687"/>
                  <a:pt x="7813" y="16718"/>
                </a:cubicBezTo>
                <a:cubicBezTo>
                  <a:pt x="7866" y="16746"/>
                  <a:pt x="8001" y="16725"/>
                  <a:pt x="8037" y="16768"/>
                </a:cubicBezTo>
                <a:cubicBezTo>
                  <a:pt x="8047" y="16780"/>
                  <a:pt x="8037" y="16850"/>
                  <a:pt x="8037" y="16867"/>
                </a:cubicBezTo>
                <a:cubicBezTo>
                  <a:pt x="7980" y="16875"/>
                  <a:pt x="7950" y="16892"/>
                  <a:pt x="7888" y="16892"/>
                </a:cubicBezTo>
                <a:cubicBezTo>
                  <a:pt x="7846" y="16892"/>
                  <a:pt x="7838" y="16892"/>
                  <a:pt x="7813" y="16892"/>
                </a:cubicBezTo>
              </a:path>
              <a:path w="870" h="646">
                <a:moveTo>
                  <a:pt x="8037" y="16421"/>
                </a:moveTo>
                <a:cubicBezTo>
                  <a:pt x="8056" y="16347"/>
                  <a:pt x="8064" y="16340"/>
                  <a:pt x="8062" y="16297"/>
                </a:cubicBezTo>
                <a:cubicBezTo>
                  <a:pt x="8013" y="16309"/>
                  <a:pt x="7989" y="16350"/>
                  <a:pt x="7938" y="16371"/>
                </a:cubicBezTo>
                <a:cubicBezTo>
                  <a:pt x="7913" y="16379"/>
                  <a:pt x="7888" y="16388"/>
                  <a:pt x="7863" y="16396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87800" y="5991120"/>
            <a:ext cx="44280" cy="46080"/>
          </a:xfrm>
          <a:custGeom>
            <a:avLst/>
            <a:gdLst/>
            <a:ahLst/>
            <a:rect l="l" t="t" r="r" b="b"/>
            <a:pathLst>
              <a:path w="125" h="125">
                <a:moveTo>
                  <a:pt x="8979" y="16644"/>
                </a:moveTo>
                <a:cubicBezTo>
                  <a:pt x="8934" y="16644"/>
                  <a:pt x="8921" y="16664"/>
                  <a:pt x="8880" y="16669"/>
                </a:cubicBezTo>
                <a:cubicBezTo>
                  <a:pt x="8872" y="16669"/>
                  <a:pt x="8863" y="16669"/>
                  <a:pt x="8855" y="16669"/>
                </a:cubicBezTo>
              </a:path>
              <a:path w="125" h="125">
                <a:moveTo>
                  <a:pt x="8979" y="16743"/>
                </a:moveTo>
                <a:cubicBezTo>
                  <a:pt x="8979" y="16751"/>
                  <a:pt x="8979" y="16760"/>
                  <a:pt x="8979" y="16768"/>
                </a:cubicBezTo>
                <a:cubicBezTo>
                  <a:pt x="8946" y="16768"/>
                  <a:pt x="8913" y="16768"/>
                  <a:pt x="8880" y="16768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394080" y="5857920"/>
            <a:ext cx="266760" cy="187200"/>
          </a:xfrm>
          <a:custGeom>
            <a:avLst/>
            <a:gdLst/>
            <a:ahLst/>
            <a:rect l="l" t="t" r="r" b="b"/>
            <a:pathLst>
              <a:path w="745" h="522">
                <a:moveTo>
                  <a:pt x="9599" y="16545"/>
                </a:moveTo>
                <a:cubicBezTo>
                  <a:pt x="9620" y="16496"/>
                  <a:pt x="9624" y="16494"/>
                  <a:pt x="9624" y="16446"/>
                </a:cubicBezTo>
                <a:cubicBezTo>
                  <a:pt x="9542" y="16457"/>
                  <a:pt x="9528" y="16485"/>
                  <a:pt x="9475" y="16545"/>
                </a:cubicBezTo>
                <a:cubicBezTo>
                  <a:pt x="9433" y="16593"/>
                  <a:pt x="9383" y="16690"/>
                  <a:pt x="9451" y="16743"/>
                </a:cubicBezTo>
                <a:cubicBezTo>
                  <a:pt x="9524" y="16800"/>
                  <a:pt x="9549" y="16782"/>
                  <a:pt x="9624" y="16768"/>
                </a:cubicBezTo>
                <a:cubicBezTo>
                  <a:pt x="9682" y="16757"/>
                  <a:pt x="9700" y="16757"/>
                  <a:pt x="9748" y="16718"/>
                </a:cubicBezTo>
              </a:path>
              <a:path w="745" h="522">
                <a:moveTo>
                  <a:pt x="9947" y="16371"/>
                </a:moveTo>
                <a:cubicBezTo>
                  <a:pt x="9939" y="16371"/>
                  <a:pt x="9930" y="16371"/>
                  <a:pt x="9922" y="16371"/>
                </a:cubicBezTo>
                <a:cubicBezTo>
                  <a:pt x="9933" y="16326"/>
                  <a:pt x="9946" y="16316"/>
                  <a:pt x="9971" y="16297"/>
                </a:cubicBezTo>
                <a:cubicBezTo>
                  <a:pt x="10013" y="16265"/>
                  <a:pt x="10029" y="16260"/>
                  <a:pt x="10071" y="16297"/>
                </a:cubicBezTo>
                <a:cubicBezTo>
                  <a:pt x="10122" y="16341"/>
                  <a:pt x="10084" y="16367"/>
                  <a:pt x="10071" y="16421"/>
                </a:cubicBezTo>
                <a:cubicBezTo>
                  <a:pt x="10071" y="16449"/>
                  <a:pt x="10069" y="16460"/>
                  <a:pt x="10046" y="16470"/>
                </a:cubicBezTo>
                <a:cubicBezTo>
                  <a:pt x="10099" y="16470"/>
                  <a:pt x="10128" y="16476"/>
                  <a:pt x="10170" y="16446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10000" y="6197760"/>
            <a:ext cx="98280" cy="106200"/>
          </a:xfrm>
          <a:custGeom>
            <a:avLst/>
            <a:gdLst/>
            <a:ahLst/>
            <a:rect l="l" t="t" r="r" b="b"/>
            <a:pathLst>
              <a:path w="274" h="299">
                <a:moveTo>
                  <a:pt x="9847" y="17214"/>
                </a:moveTo>
                <a:cubicBezTo>
                  <a:pt x="9908" y="17232"/>
                  <a:pt x="9918" y="17239"/>
                  <a:pt x="9971" y="17239"/>
                </a:cubicBezTo>
                <a:cubicBezTo>
                  <a:pt x="9904" y="17239"/>
                  <a:pt x="9856" y="17248"/>
                  <a:pt x="9798" y="17289"/>
                </a:cubicBezTo>
                <a:cubicBezTo>
                  <a:pt x="9735" y="17333"/>
                  <a:pt x="9737" y="17403"/>
                  <a:pt x="9773" y="17462"/>
                </a:cubicBezTo>
                <a:cubicBezTo>
                  <a:pt x="9811" y="17524"/>
                  <a:pt x="9886" y="17512"/>
                  <a:pt x="9947" y="17512"/>
                </a:cubicBezTo>
                <a:cubicBezTo>
                  <a:pt x="9991" y="17512"/>
                  <a:pt x="10005" y="17515"/>
                  <a:pt x="10021" y="17487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78040" y="6153120"/>
            <a:ext cx="635040" cy="303120"/>
          </a:xfrm>
          <a:custGeom>
            <a:avLst/>
            <a:gdLst/>
            <a:ahLst/>
            <a:rect l="l" t="t" r="r" b="b"/>
            <a:pathLst>
              <a:path w="1763" h="845">
                <a:moveTo>
                  <a:pt x="9203" y="17289"/>
                </a:moveTo>
                <a:cubicBezTo>
                  <a:pt x="9152" y="17289"/>
                  <a:pt x="9144" y="17278"/>
                  <a:pt x="9103" y="17264"/>
                </a:cubicBezTo>
                <a:cubicBezTo>
                  <a:pt x="9075" y="17264"/>
                  <a:pt x="9065" y="17267"/>
                  <a:pt x="9054" y="17289"/>
                </a:cubicBezTo>
              </a:path>
              <a:path w="1763" h="845">
                <a:moveTo>
                  <a:pt x="9203" y="17388"/>
                </a:moveTo>
                <a:cubicBezTo>
                  <a:pt x="9203" y="17431"/>
                  <a:pt x="9213" y="17426"/>
                  <a:pt x="9178" y="17438"/>
                </a:cubicBezTo>
              </a:path>
              <a:path w="1763" h="845">
                <a:moveTo>
                  <a:pt x="8409" y="17090"/>
                </a:moveTo>
                <a:cubicBezTo>
                  <a:pt x="8296" y="17090"/>
                  <a:pt x="8195" y="17099"/>
                  <a:pt x="8086" y="17115"/>
                </a:cubicBezTo>
                <a:cubicBezTo>
                  <a:pt x="8025" y="17124"/>
                  <a:pt x="7965" y="17155"/>
                  <a:pt x="7913" y="17165"/>
                </a:cubicBezTo>
                <a:cubicBezTo>
                  <a:pt x="7860" y="17176"/>
                  <a:pt x="7830" y="17178"/>
                  <a:pt x="7789" y="17214"/>
                </a:cubicBezTo>
                <a:cubicBezTo>
                  <a:pt x="7761" y="17239"/>
                  <a:pt x="7766" y="17235"/>
                  <a:pt x="7764" y="17289"/>
                </a:cubicBezTo>
                <a:cubicBezTo>
                  <a:pt x="7759" y="17392"/>
                  <a:pt x="7750" y="17488"/>
                  <a:pt x="7739" y="17587"/>
                </a:cubicBezTo>
                <a:cubicBezTo>
                  <a:pt x="7726" y="17699"/>
                  <a:pt x="7739" y="17821"/>
                  <a:pt x="7739" y="17934"/>
                </a:cubicBezTo>
                <a:cubicBezTo>
                  <a:pt x="7666" y="17924"/>
                  <a:pt x="7688" y="17922"/>
                  <a:pt x="7640" y="17859"/>
                </a:cubicBezTo>
                <a:cubicBezTo>
                  <a:pt x="7595" y="17800"/>
                  <a:pt x="7558" y="17746"/>
                  <a:pt x="7516" y="17686"/>
                </a:cubicBezTo>
                <a:cubicBezTo>
                  <a:pt x="7492" y="17652"/>
                  <a:pt x="7468" y="17651"/>
                  <a:pt x="7441" y="17636"/>
                </a:cubicBezTo>
              </a:path>
              <a:path w="1763" h="845">
                <a:moveTo>
                  <a:pt x="8012" y="17264"/>
                </a:moveTo>
                <a:cubicBezTo>
                  <a:pt x="8035" y="17241"/>
                  <a:pt x="8039" y="17233"/>
                  <a:pt x="8062" y="17239"/>
                </a:cubicBezTo>
                <a:cubicBezTo>
                  <a:pt x="8049" y="17289"/>
                  <a:pt x="8037" y="17303"/>
                  <a:pt x="8037" y="17363"/>
                </a:cubicBezTo>
                <a:cubicBezTo>
                  <a:pt x="8037" y="17420"/>
                  <a:pt x="8034" y="17488"/>
                  <a:pt x="8062" y="17537"/>
                </a:cubicBezTo>
                <a:cubicBezTo>
                  <a:pt x="8092" y="17589"/>
                  <a:pt x="8133" y="17607"/>
                  <a:pt x="8186" y="17611"/>
                </a:cubicBezTo>
                <a:cubicBezTo>
                  <a:pt x="8222" y="17614"/>
                  <a:pt x="8243" y="17587"/>
                  <a:pt x="8285" y="17587"/>
                </a:cubicBezTo>
                <a:cubicBezTo>
                  <a:pt x="8310" y="17587"/>
                  <a:pt x="8318" y="17587"/>
                  <a:pt x="8334" y="17587"/>
                </a:cubicBezTo>
              </a:path>
              <a:path w="1763" h="845">
                <a:moveTo>
                  <a:pt x="8260" y="17462"/>
                </a:moveTo>
                <a:cubicBezTo>
                  <a:pt x="8243" y="17462"/>
                  <a:pt x="8227" y="17462"/>
                  <a:pt x="8210" y="17462"/>
                </a:cubicBezTo>
                <a:cubicBezTo>
                  <a:pt x="8210" y="17553"/>
                  <a:pt x="8210" y="17644"/>
                  <a:pt x="8210" y="17735"/>
                </a:cubicBezTo>
              </a:path>
              <a:path w="1763" h="845">
                <a:moveTo>
                  <a:pt x="8632" y="17314"/>
                </a:moveTo>
                <a:cubicBezTo>
                  <a:pt x="8657" y="17314"/>
                  <a:pt x="8665" y="17314"/>
                  <a:pt x="8682" y="17314"/>
                </a:cubicBezTo>
                <a:cubicBezTo>
                  <a:pt x="8672" y="17285"/>
                  <a:pt x="8623" y="17268"/>
                  <a:pt x="8582" y="17289"/>
                </a:cubicBezTo>
                <a:cubicBezTo>
                  <a:pt x="8545" y="17308"/>
                  <a:pt x="8480" y="17314"/>
                  <a:pt x="8458" y="17363"/>
                </a:cubicBezTo>
                <a:cubicBezTo>
                  <a:pt x="8443" y="17397"/>
                  <a:pt x="8434" y="17388"/>
                  <a:pt x="8434" y="17438"/>
                </a:cubicBezTo>
                <a:cubicBezTo>
                  <a:pt x="8434" y="17483"/>
                  <a:pt x="8432" y="17506"/>
                  <a:pt x="8483" y="17512"/>
                </a:cubicBezTo>
                <a:cubicBezTo>
                  <a:pt x="8532" y="17517"/>
                  <a:pt x="8601" y="17544"/>
                  <a:pt x="8632" y="17587"/>
                </a:cubicBezTo>
                <a:cubicBezTo>
                  <a:pt x="8659" y="17624"/>
                  <a:pt x="8704" y="17684"/>
                  <a:pt x="8682" y="17735"/>
                </a:cubicBezTo>
                <a:cubicBezTo>
                  <a:pt x="8662" y="17783"/>
                  <a:pt x="8549" y="17760"/>
                  <a:pt x="8508" y="17760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911320" y="6510240"/>
            <a:ext cx="98640" cy="88920"/>
          </a:xfrm>
          <a:custGeom>
            <a:avLst/>
            <a:gdLst/>
            <a:ahLst/>
            <a:rect l="l" t="t" r="r" b="b"/>
            <a:pathLst>
              <a:path w="274" h="249">
                <a:moveTo>
                  <a:pt x="8111" y="18132"/>
                </a:moveTo>
                <a:cubicBezTo>
                  <a:pt x="8161" y="18099"/>
                  <a:pt x="8149" y="18095"/>
                  <a:pt x="8186" y="18083"/>
                </a:cubicBezTo>
                <a:cubicBezTo>
                  <a:pt x="8147" y="18121"/>
                  <a:pt x="8104" y="18153"/>
                  <a:pt x="8086" y="18207"/>
                </a:cubicBezTo>
                <a:cubicBezTo>
                  <a:pt x="8073" y="18246"/>
                  <a:pt x="8090" y="18318"/>
                  <a:pt x="8136" y="18331"/>
                </a:cubicBezTo>
                <a:cubicBezTo>
                  <a:pt x="8189" y="18346"/>
                  <a:pt x="8264" y="18325"/>
                  <a:pt x="8310" y="18306"/>
                </a:cubicBezTo>
                <a:cubicBezTo>
                  <a:pt x="8326" y="18298"/>
                  <a:pt x="8343" y="18289"/>
                  <a:pt x="8359" y="18281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52880" y="6527880"/>
            <a:ext cx="54000" cy="44280"/>
          </a:xfrm>
          <a:custGeom>
            <a:avLst/>
            <a:gdLst/>
            <a:ahLst/>
            <a:rect l="l" t="t" r="r" b="b"/>
            <a:pathLst>
              <a:path w="150" h="125">
                <a:moveTo>
                  <a:pt x="8880" y="18132"/>
                </a:moveTo>
                <a:cubicBezTo>
                  <a:pt x="8856" y="18138"/>
                  <a:pt x="8802" y="18145"/>
                  <a:pt x="8781" y="18157"/>
                </a:cubicBezTo>
                <a:cubicBezTo>
                  <a:pt x="8773" y="18165"/>
                  <a:pt x="8764" y="18174"/>
                  <a:pt x="8756" y="18182"/>
                </a:cubicBezTo>
              </a:path>
              <a:path w="150" h="125">
                <a:moveTo>
                  <a:pt x="8830" y="18231"/>
                </a:moveTo>
                <a:cubicBezTo>
                  <a:pt x="8872" y="18231"/>
                  <a:pt x="8880" y="18231"/>
                  <a:pt x="8905" y="18231"/>
                </a:cubicBezTo>
                <a:cubicBezTo>
                  <a:pt x="8892" y="18269"/>
                  <a:pt x="8875" y="18256"/>
                  <a:pt x="8830" y="18256"/>
                </a:cubicBezTo>
                <a:cubicBezTo>
                  <a:pt x="8806" y="18256"/>
                  <a:pt x="8797" y="18256"/>
                  <a:pt x="8781" y="18256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57720" y="6446880"/>
            <a:ext cx="80640" cy="152280"/>
          </a:xfrm>
          <a:custGeom>
            <a:avLst/>
            <a:gdLst/>
            <a:ahLst/>
            <a:rect l="l" t="t" r="r" b="b"/>
            <a:pathLst>
              <a:path w="224" h="423">
                <a:moveTo>
                  <a:pt x="9426" y="17934"/>
                </a:moveTo>
                <a:cubicBezTo>
                  <a:pt x="9459" y="17934"/>
                  <a:pt x="9530" y="17924"/>
                  <a:pt x="9500" y="17909"/>
                </a:cubicBezTo>
                <a:cubicBezTo>
                  <a:pt x="9467" y="17892"/>
                  <a:pt x="9386" y="18015"/>
                  <a:pt x="9376" y="18033"/>
                </a:cubicBezTo>
                <a:cubicBezTo>
                  <a:pt x="9351" y="18081"/>
                  <a:pt x="9290" y="18229"/>
                  <a:pt x="9327" y="18281"/>
                </a:cubicBezTo>
                <a:cubicBezTo>
                  <a:pt x="9368" y="18339"/>
                  <a:pt x="9447" y="18339"/>
                  <a:pt x="9500" y="18306"/>
                </a:cubicBezTo>
                <a:cubicBezTo>
                  <a:pt x="9556" y="18271"/>
                  <a:pt x="9564" y="18230"/>
                  <a:pt x="9525" y="18182"/>
                </a:cubicBezTo>
                <a:cubicBezTo>
                  <a:pt x="9511" y="18165"/>
                  <a:pt x="9420" y="18133"/>
                  <a:pt x="9401" y="18157"/>
                </a:cubicBezTo>
                <a:cubicBezTo>
                  <a:pt x="9401" y="18165"/>
                  <a:pt x="9401" y="18174"/>
                  <a:pt x="9401" y="18182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598920" y="6446880"/>
            <a:ext cx="160200" cy="135000"/>
          </a:xfrm>
          <a:custGeom>
            <a:avLst/>
            <a:gdLst/>
            <a:ahLst/>
            <a:rect l="l" t="t" r="r" b="b"/>
            <a:pathLst>
              <a:path w="448" h="373">
                <a:moveTo>
                  <a:pt x="9996" y="18281"/>
                </a:moveTo>
                <a:cubicBezTo>
                  <a:pt x="9996" y="18273"/>
                  <a:pt x="9996" y="18264"/>
                  <a:pt x="9996" y="18256"/>
                </a:cubicBezTo>
              </a:path>
              <a:path w="448" h="373">
                <a:moveTo>
                  <a:pt x="10120" y="17983"/>
                </a:moveTo>
                <a:cubicBezTo>
                  <a:pt x="10054" y="17983"/>
                  <a:pt x="10161" y="17986"/>
                  <a:pt x="10170" y="17983"/>
                </a:cubicBezTo>
                <a:cubicBezTo>
                  <a:pt x="10239" y="17959"/>
                  <a:pt x="10298" y="17925"/>
                  <a:pt x="10368" y="17909"/>
                </a:cubicBezTo>
                <a:cubicBezTo>
                  <a:pt x="10401" y="17909"/>
                  <a:pt x="10418" y="17909"/>
                  <a:pt x="10443" y="17909"/>
                </a:cubicBezTo>
                <a:cubicBezTo>
                  <a:pt x="10443" y="17992"/>
                  <a:pt x="10431" y="18032"/>
                  <a:pt x="10393" y="18107"/>
                </a:cubicBezTo>
                <a:cubicBezTo>
                  <a:pt x="10365" y="18163"/>
                  <a:pt x="10368" y="18195"/>
                  <a:pt x="10368" y="18256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249880" y="3456000"/>
            <a:ext cx="2778120" cy="1062000"/>
          </a:xfrm>
          <a:custGeom>
            <a:avLst/>
            <a:gdLst/>
            <a:ahLst/>
            <a:rect l="l" t="t" r="r" b="b"/>
            <a:pathLst>
              <a:path w="7715" h="2953">
                <a:moveTo>
                  <a:pt x="17314" y="9723"/>
                </a:moveTo>
                <a:cubicBezTo>
                  <a:pt x="17343" y="9648"/>
                  <a:pt x="17339" y="9641"/>
                  <a:pt x="17363" y="9599"/>
                </a:cubicBezTo>
                <a:cubicBezTo>
                  <a:pt x="17350" y="9633"/>
                  <a:pt x="17349" y="9664"/>
                  <a:pt x="17338" y="9699"/>
                </a:cubicBezTo>
                <a:cubicBezTo>
                  <a:pt x="17306" y="9798"/>
                  <a:pt x="17307" y="9893"/>
                  <a:pt x="17289" y="9996"/>
                </a:cubicBezTo>
                <a:cubicBezTo>
                  <a:pt x="17265" y="10138"/>
                  <a:pt x="17224" y="10273"/>
                  <a:pt x="17214" y="10418"/>
                </a:cubicBezTo>
                <a:cubicBezTo>
                  <a:pt x="17202" y="10591"/>
                  <a:pt x="17194" y="10767"/>
                  <a:pt x="17190" y="10939"/>
                </a:cubicBezTo>
                <a:cubicBezTo>
                  <a:pt x="17184" y="11206"/>
                  <a:pt x="17181" y="11468"/>
                  <a:pt x="17165" y="11733"/>
                </a:cubicBezTo>
                <a:cubicBezTo>
                  <a:pt x="17149" y="11987"/>
                  <a:pt x="17156" y="12254"/>
                  <a:pt x="17190" y="12502"/>
                </a:cubicBezTo>
                <a:cubicBezTo>
                  <a:pt x="17190" y="12518"/>
                  <a:pt x="17190" y="12535"/>
                  <a:pt x="17190" y="12551"/>
                </a:cubicBezTo>
              </a:path>
              <a:path w="7715" h="2953">
                <a:moveTo>
                  <a:pt x="19819" y="11237"/>
                </a:moveTo>
                <a:cubicBezTo>
                  <a:pt x="19775" y="11228"/>
                  <a:pt x="19790" y="11216"/>
                  <a:pt x="19745" y="11212"/>
                </a:cubicBezTo>
                <a:cubicBezTo>
                  <a:pt x="19658" y="11205"/>
                  <a:pt x="19581" y="11203"/>
                  <a:pt x="19496" y="11187"/>
                </a:cubicBezTo>
                <a:cubicBezTo>
                  <a:pt x="19406" y="11171"/>
                  <a:pt x="19316" y="11139"/>
                  <a:pt x="19224" y="11112"/>
                </a:cubicBezTo>
                <a:cubicBezTo>
                  <a:pt x="19081" y="11070"/>
                  <a:pt x="18925" y="11007"/>
                  <a:pt x="18777" y="10988"/>
                </a:cubicBezTo>
                <a:cubicBezTo>
                  <a:pt x="18634" y="10970"/>
                  <a:pt x="18498" y="10945"/>
                  <a:pt x="18355" y="10914"/>
                </a:cubicBezTo>
                <a:cubicBezTo>
                  <a:pt x="18142" y="10868"/>
                  <a:pt x="17920" y="10835"/>
                  <a:pt x="17711" y="10790"/>
                </a:cubicBezTo>
                <a:cubicBezTo>
                  <a:pt x="17552" y="10755"/>
                  <a:pt x="17398" y="10718"/>
                  <a:pt x="17239" y="10691"/>
                </a:cubicBezTo>
                <a:cubicBezTo>
                  <a:pt x="17077" y="10664"/>
                  <a:pt x="16908" y="10646"/>
                  <a:pt x="16743" y="10641"/>
                </a:cubicBezTo>
                <a:cubicBezTo>
                  <a:pt x="16380" y="10631"/>
                  <a:pt x="16011" y="10636"/>
                  <a:pt x="15652" y="10666"/>
                </a:cubicBezTo>
                <a:cubicBezTo>
                  <a:pt x="15309" y="10695"/>
                  <a:pt x="14939" y="10646"/>
                  <a:pt x="14610" y="10691"/>
                </a:cubicBezTo>
                <a:cubicBezTo>
                  <a:pt x="14602" y="10691"/>
                  <a:pt x="14593" y="10691"/>
                  <a:pt x="14585" y="10691"/>
                </a:cubicBezTo>
              </a:path>
              <a:path w="7715" h="2953">
                <a:moveTo>
                  <a:pt x="19248" y="11559"/>
                </a:moveTo>
                <a:cubicBezTo>
                  <a:pt x="19288" y="11546"/>
                  <a:pt x="19258" y="11547"/>
                  <a:pt x="19298" y="11534"/>
                </a:cubicBezTo>
                <a:cubicBezTo>
                  <a:pt x="19298" y="11586"/>
                  <a:pt x="19284" y="11587"/>
                  <a:pt x="19273" y="11609"/>
                </a:cubicBezTo>
                <a:cubicBezTo>
                  <a:pt x="19255" y="11644"/>
                  <a:pt x="19265" y="11639"/>
                  <a:pt x="19224" y="11609"/>
                </a:cubicBezTo>
              </a:path>
              <a:path w="7715" h="2953">
                <a:moveTo>
                  <a:pt x="20489" y="11410"/>
                </a:moveTo>
                <a:cubicBezTo>
                  <a:pt x="20517" y="11381"/>
                  <a:pt x="20551" y="11346"/>
                  <a:pt x="20563" y="11311"/>
                </a:cubicBezTo>
                <a:cubicBezTo>
                  <a:pt x="20576" y="11271"/>
                  <a:pt x="20575" y="11301"/>
                  <a:pt x="20588" y="11261"/>
                </a:cubicBezTo>
                <a:cubicBezTo>
                  <a:pt x="20564" y="11269"/>
                  <a:pt x="20512" y="11328"/>
                  <a:pt x="20489" y="11361"/>
                </a:cubicBezTo>
                <a:cubicBezTo>
                  <a:pt x="20435" y="11438"/>
                  <a:pt x="20418" y="11543"/>
                  <a:pt x="20414" y="11633"/>
                </a:cubicBezTo>
                <a:cubicBezTo>
                  <a:pt x="20411" y="11701"/>
                  <a:pt x="20457" y="11801"/>
                  <a:pt x="20538" y="11782"/>
                </a:cubicBezTo>
                <a:cubicBezTo>
                  <a:pt x="20597" y="11768"/>
                  <a:pt x="20657" y="11670"/>
                  <a:pt x="20638" y="11609"/>
                </a:cubicBezTo>
                <a:cubicBezTo>
                  <a:pt x="20621" y="11554"/>
                  <a:pt x="20591" y="11559"/>
                  <a:pt x="20538" y="11559"/>
                </a:cubicBezTo>
                <a:cubicBezTo>
                  <a:pt x="20510" y="11559"/>
                  <a:pt x="20499" y="11561"/>
                  <a:pt x="20489" y="11584"/>
                </a:cubicBezTo>
              </a:path>
              <a:path w="7715" h="2953">
                <a:moveTo>
                  <a:pt x="20811" y="11807"/>
                </a:moveTo>
                <a:cubicBezTo>
                  <a:pt x="20845" y="11852"/>
                  <a:pt x="20889" y="11914"/>
                  <a:pt x="20861" y="11981"/>
                </a:cubicBezTo>
                <a:cubicBezTo>
                  <a:pt x="20836" y="12005"/>
                  <a:pt x="20827" y="12013"/>
                  <a:pt x="20811" y="12030"/>
                </a:cubicBezTo>
              </a:path>
              <a:path w="7715" h="2953">
                <a:moveTo>
                  <a:pt x="21282" y="11683"/>
                </a:moveTo>
                <a:cubicBezTo>
                  <a:pt x="21266" y="11683"/>
                  <a:pt x="21249" y="11683"/>
                  <a:pt x="21233" y="11683"/>
                </a:cubicBezTo>
                <a:cubicBezTo>
                  <a:pt x="21283" y="11683"/>
                  <a:pt x="21332" y="11683"/>
                  <a:pt x="21382" y="11683"/>
                </a:cubicBezTo>
              </a:path>
              <a:path w="7715" h="2953">
                <a:moveTo>
                  <a:pt x="21654" y="11509"/>
                </a:moveTo>
                <a:cubicBezTo>
                  <a:pt x="21654" y="11493"/>
                  <a:pt x="21654" y="11476"/>
                  <a:pt x="21654" y="11460"/>
                </a:cubicBezTo>
                <a:cubicBezTo>
                  <a:pt x="21716" y="11460"/>
                  <a:pt x="21774" y="11449"/>
                  <a:pt x="21828" y="11485"/>
                </a:cubicBezTo>
                <a:cubicBezTo>
                  <a:pt x="21870" y="11513"/>
                  <a:pt x="21921" y="11532"/>
                  <a:pt x="21927" y="11584"/>
                </a:cubicBezTo>
                <a:cubicBezTo>
                  <a:pt x="21931" y="11619"/>
                  <a:pt x="21882" y="11665"/>
                  <a:pt x="21853" y="11683"/>
                </a:cubicBezTo>
                <a:cubicBezTo>
                  <a:pt x="21823" y="11702"/>
                  <a:pt x="21750" y="11727"/>
                  <a:pt x="21779" y="11782"/>
                </a:cubicBezTo>
                <a:cubicBezTo>
                  <a:pt x="21816" y="11851"/>
                  <a:pt x="21901" y="11876"/>
                  <a:pt x="21927" y="11956"/>
                </a:cubicBezTo>
                <a:cubicBezTo>
                  <a:pt x="21927" y="11981"/>
                  <a:pt x="21927" y="11989"/>
                  <a:pt x="21927" y="12005"/>
                </a:cubicBezTo>
                <a:cubicBezTo>
                  <a:pt x="21894" y="12005"/>
                  <a:pt x="21861" y="12005"/>
                  <a:pt x="21828" y="12005"/>
                </a:cubicBezTo>
              </a:path>
              <a:path w="7715" h="2953">
                <a:moveTo>
                  <a:pt x="22076" y="11435"/>
                </a:moveTo>
                <a:cubicBezTo>
                  <a:pt x="22126" y="11447"/>
                  <a:pt x="22198" y="11511"/>
                  <a:pt x="22225" y="11559"/>
                </a:cubicBezTo>
                <a:cubicBezTo>
                  <a:pt x="22284" y="11662"/>
                  <a:pt x="22300" y="11796"/>
                  <a:pt x="22275" y="11906"/>
                </a:cubicBezTo>
                <a:cubicBezTo>
                  <a:pt x="22248" y="12023"/>
                  <a:pt x="22204" y="12058"/>
                  <a:pt x="22101" y="12105"/>
                </a:cubicBezTo>
              </a:path>
              <a:path w="7715" h="2953">
                <a:moveTo>
                  <a:pt x="20414" y="11112"/>
                </a:moveTo>
                <a:cubicBezTo>
                  <a:pt x="20392" y="11047"/>
                  <a:pt x="20323" y="11130"/>
                  <a:pt x="20290" y="11162"/>
                </a:cubicBezTo>
                <a:cubicBezTo>
                  <a:pt x="20187" y="11260"/>
                  <a:pt x="20170" y="11346"/>
                  <a:pt x="20166" y="11485"/>
                </a:cubicBezTo>
                <a:cubicBezTo>
                  <a:pt x="20166" y="11581"/>
                  <a:pt x="20164" y="11611"/>
                  <a:pt x="20216" y="11658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527880" y="4160880"/>
            <a:ext cx="2205000" cy="893880"/>
          </a:xfrm>
          <a:custGeom>
            <a:avLst/>
            <a:gdLst/>
            <a:ahLst/>
            <a:rect l="l" t="t" r="r" b="b"/>
            <a:pathLst>
              <a:path w="6128" h="2481">
                <a:moveTo>
                  <a:pt x="21952" y="12874"/>
                </a:moveTo>
                <a:cubicBezTo>
                  <a:pt x="21912" y="12887"/>
                  <a:pt x="21942" y="12885"/>
                  <a:pt x="21903" y="12898"/>
                </a:cubicBezTo>
                <a:cubicBezTo>
                  <a:pt x="21914" y="12853"/>
                  <a:pt x="21932" y="12835"/>
                  <a:pt x="21977" y="12824"/>
                </a:cubicBezTo>
                <a:cubicBezTo>
                  <a:pt x="21977" y="12849"/>
                  <a:pt x="21977" y="12873"/>
                  <a:pt x="21977" y="12898"/>
                </a:cubicBezTo>
              </a:path>
              <a:path w="6128" h="2481">
                <a:moveTo>
                  <a:pt x="22696" y="13370"/>
                </a:moveTo>
                <a:cubicBezTo>
                  <a:pt x="22741" y="13370"/>
                  <a:pt x="22754" y="13373"/>
                  <a:pt x="22771" y="13345"/>
                </a:cubicBezTo>
                <a:cubicBezTo>
                  <a:pt x="22761" y="13305"/>
                  <a:pt x="22743" y="13274"/>
                  <a:pt x="22696" y="13271"/>
                </a:cubicBezTo>
                <a:cubicBezTo>
                  <a:pt x="22632" y="13267"/>
                  <a:pt x="22595" y="13276"/>
                  <a:pt x="22547" y="13320"/>
                </a:cubicBezTo>
                <a:cubicBezTo>
                  <a:pt x="22492" y="13370"/>
                  <a:pt x="22533" y="13405"/>
                  <a:pt x="22572" y="13444"/>
                </a:cubicBezTo>
                <a:cubicBezTo>
                  <a:pt x="22622" y="13494"/>
                  <a:pt x="22656" y="13539"/>
                  <a:pt x="22696" y="13593"/>
                </a:cubicBezTo>
                <a:cubicBezTo>
                  <a:pt x="22724" y="13630"/>
                  <a:pt x="22721" y="13645"/>
                  <a:pt x="22721" y="13692"/>
                </a:cubicBezTo>
                <a:cubicBezTo>
                  <a:pt x="22670" y="13692"/>
                  <a:pt x="22638" y="13699"/>
                  <a:pt x="22597" y="13667"/>
                </a:cubicBezTo>
                <a:cubicBezTo>
                  <a:pt x="22545" y="13626"/>
                  <a:pt x="22586" y="13582"/>
                  <a:pt x="22622" y="13543"/>
                </a:cubicBezTo>
                <a:cubicBezTo>
                  <a:pt x="22669" y="13493"/>
                  <a:pt x="22711" y="13474"/>
                  <a:pt x="22771" y="13444"/>
                </a:cubicBezTo>
              </a:path>
              <a:path w="6128" h="2481">
                <a:moveTo>
                  <a:pt x="22969" y="13816"/>
                </a:moveTo>
                <a:cubicBezTo>
                  <a:pt x="22969" y="13869"/>
                  <a:pt x="22967" y="13896"/>
                  <a:pt x="22944" y="13940"/>
                </a:cubicBezTo>
                <a:cubicBezTo>
                  <a:pt x="22936" y="13957"/>
                  <a:pt x="22928" y="13973"/>
                  <a:pt x="22920" y="13990"/>
                </a:cubicBezTo>
              </a:path>
              <a:path w="6128" h="2481">
                <a:moveTo>
                  <a:pt x="23267" y="13667"/>
                </a:moveTo>
                <a:cubicBezTo>
                  <a:pt x="23245" y="13645"/>
                  <a:pt x="23236" y="13634"/>
                  <a:pt x="23242" y="13667"/>
                </a:cubicBezTo>
                <a:cubicBezTo>
                  <a:pt x="23316" y="13667"/>
                  <a:pt x="23391" y="13667"/>
                  <a:pt x="23465" y="13667"/>
                </a:cubicBezTo>
              </a:path>
              <a:path w="6128" h="2481">
                <a:moveTo>
                  <a:pt x="23738" y="13593"/>
                </a:moveTo>
                <a:cubicBezTo>
                  <a:pt x="23727" y="13639"/>
                  <a:pt x="23704" y="13694"/>
                  <a:pt x="23688" y="13742"/>
                </a:cubicBezTo>
                <a:cubicBezTo>
                  <a:pt x="23675" y="13781"/>
                  <a:pt x="23600" y="13833"/>
                  <a:pt x="23664" y="13866"/>
                </a:cubicBezTo>
                <a:cubicBezTo>
                  <a:pt x="23690" y="13879"/>
                  <a:pt x="23782" y="13889"/>
                  <a:pt x="23812" y="13891"/>
                </a:cubicBezTo>
                <a:cubicBezTo>
                  <a:pt x="23884" y="13896"/>
                  <a:pt x="23927" y="13896"/>
                  <a:pt x="23986" y="13915"/>
                </a:cubicBezTo>
                <a:cubicBezTo>
                  <a:pt x="23994" y="13915"/>
                  <a:pt x="24003" y="13915"/>
                  <a:pt x="24011" y="13915"/>
                </a:cubicBezTo>
              </a:path>
              <a:path w="6128" h="2481">
                <a:moveTo>
                  <a:pt x="23887" y="13816"/>
                </a:moveTo>
                <a:cubicBezTo>
                  <a:pt x="23862" y="13816"/>
                  <a:pt x="23854" y="13816"/>
                  <a:pt x="23837" y="13816"/>
                </a:cubicBezTo>
                <a:cubicBezTo>
                  <a:pt x="23829" y="13871"/>
                  <a:pt x="23820" y="13885"/>
                  <a:pt x="23812" y="13940"/>
                </a:cubicBezTo>
              </a:path>
              <a:path w="6128" h="2481">
                <a:moveTo>
                  <a:pt x="24011" y="13593"/>
                </a:moveTo>
                <a:cubicBezTo>
                  <a:pt x="24152" y="13563"/>
                  <a:pt x="24180" y="13551"/>
                  <a:pt x="24234" y="13692"/>
                </a:cubicBezTo>
                <a:cubicBezTo>
                  <a:pt x="24278" y="13805"/>
                  <a:pt x="24264" y="13877"/>
                  <a:pt x="24185" y="13965"/>
                </a:cubicBezTo>
                <a:cubicBezTo>
                  <a:pt x="24139" y="14011"/>
                  <a:pt x="24127" y="14026"/>
                  <a:pt x="24085" y="14039"/>
                </a:cubicBezTo>
              </a:path>
              <a:path w="6128" h="2481">
                <a:moveTo>
                  <a:pt x="22647" y="13122"/>
                </a:moveTo>
                <a:cubicBezTo>
                  <a:pt x="22628" y="13084"/>
                  <a:pt x="22583" y="13182"/>
                  <a:pt x="22547" y="13221"/>
                </a:cubicBezTo>
                <a:cubicBezTo>
                  <a:pt x="22450" y="13325"/>
                  <a:pt x="22448" y="13380"/>
                  <a:pt x="22448" y="13519"/>
                </a:cubicBezTo>
                <a:cubicBezTo>
                  <a:pt x="22448" y="13544"/>
                  <a:pt x="22448" y="13568"/>
                  <a:pt x="22448" y="13593"/>
                </a:cubicBezTo>
              </a:path>
              <a:path w="6128" h="2481">
                <a:moveTo>
                  <a:pt x="21977" y="12849"/>
                </a:moveTo>
                <a:cubicBezTo>
                  <a:pt x="21946" y="12834"/>
                  <a:pt x="21908" y="12814"/>
                  <a:pt x="21878" y="12799"/>
                </a:cubicBezTo>
                <a:cubicBezTo>
                  <a:pt x="21852" y="12779"/>
                  <a:pt x="21879" y="12782"/>
                  <a:pt x="21828" y="12774"/>
                </a:cubicBezTo>
                <a:cubicBezTo>
                  <a:pt x="21816" y="12762"/>
                  <a:pt x="21787" y="12713"/>
                  <a:pt x="21754" y="12700"/>
                </a:cubicBezTo>
                <a:cubicBezTo>
                  <a:pt x="21729" y="12700"/>
                  <a:pt x="21721" y="12700"/>
                  <a:pt x="21704" y="12700"/>
                </a:cubicBezTo>
                <a:cubicBezTo>
                  <a:pt x="21678" y="12680"/>
                  <a:pt x="21705" y="12683"/>
                  <a:pt x="21654" y="12675"/>
                </a:cubicBezTo>
                <a:cubicBezTo>
                  <a:pt x="21636" y="12660"/>
                  <a:pt x="21614" y="12644"/>
                  <a:pt x="21580" y="12626"/>
                </a:cubicBezTo>
                <a:cubicBezTo>
                  <a:pt x="21539" y="12605"/>
                  <a:pt x="21551" y="12607"/>
                  <a:pt x="21506" y="12601"/>
                </a:cubicBezTo>
                <a:cubicBezTo>
                  <a:pt x="21485" y="12584"/>
                  <a:pt x="21477" y="12562"/>
                  <a:pt x="21431" y="12551"/>
                </a:cubicBezTo>
                <a:cubicBezTo>
                  <a:pt x="21393" y="12542"/>
                  <a:pt x="21367" y="12541"/>
                  <a:pt x="21332" y="12526"/>
                </a:cubicBezTo>
                <a:cubicBezTo>
                  <a:pt x="21307" y="12515"/>
                  <a:pt x="21258" y="12482"/>
                  <a:pt x="21233" y="12477"/>
                </a:cubicBezTo>
                <a:cubicBezTo>
                  <a:pt x="21186" y="12467"/>
                  <a:pt x="21150" y="12436"/>
                  <a:pt x="21109" y="12427"/>
                </a:cubicBezTo>
                <a:cubicBezTo>
                  <a:pt x="21029" y="12410"/>
                  <a:pt x="21073" y="12424"/>
                  <a:pt x="21034" y="12378"/>
                </a:cubicBezTo>
                <a:cubicBezTo>
                  <a:pt x="21004" y="12359"/>
                  <a:pt x="20970" y="12326"/>
                  <a:pt x="20935" y="12303"/>
                </a:cubicBezTo>
                <a:cubicBezTo>
                  <a:pt x="20916" y="12290"/>
                  <a:pt x="20860" y="12238"/>
                  <a:pt x="20836" y="12229"/>
                </a:cubicBezTo>
                <a:cubicBezTo>
                  <a:pt x="20811" y="12229"/>
                  <a:pt x="20803" y="12229"/>
                  <a:pt x="20786" y="12229"/>
                </a:cubicBezTo>
                <a:cubicBezTo>
                  <a:pt x="20770" y="12207"/>
                  <a:pt x="20778" y="12201"/>
                  <a:pt x="20762" y="12179"/>
                </a:cubicBezTo>
                <a:cubicBezTo>
                  <a:pt x="20737" y="12159"/>
                  <a:pt x="20723" y="12158"/>
                  <a:pt x="20687" y="12129"/>
                </a:cubicBezTo>
                <a:cubicBezTo>
                  <a:pt x="20660" y="12107"/>
                  <a:pt x="20637" y="12095"/>
                  <a:pt x="20613" y="12080"/>
                </a:cubicBezTo>
                <a:cubicBezTo>
                  <a:pt x="20596" y="12066"/>
                  <a:pt x="20569" y="12048"/>
                  <a:pt x="20538" y="12030"/>
                </a:cubicBezTo>
                <a:cubicBezTo>
                  <a:pt x="20530" y="12025"/>
                  <a:pt x="20482" y="12017"/>
                  <a:pt x="20464" y="12005"/>
                </a:cubicBezTo>
                <a:cubicBezTo>
                  <a:pt x="20435" y="11986"/>
                  <a:pt x="20384" y="11955"/>
                  <a:pt x="20365" y="11931"/>
                </a:cubicBezTo>
                <a:cubicBezTo>
                  <a:pt x="20365" y="11923"/>
                  <a:pt x="20365" y="11914"/>
                  <a:pt x="20365" y="11906"/>
                </a:cubicBezTo>
                <a:cubicBezTo>
                  <a:pt x="20312" y="11893"/>
                  <a:pt x="20312" y="11892"/>
                  <a:pt x="20265" y="11857"/>
                </a:cubicBezTo>
              </a:path>
              <a:path w="6128" h="2481">
                <a:moveTo>
                  <a:pt x="20216" y="11832"/>
                </a:moveTo>
                <a:cubicBezTo>
                  <a:pt x="20191" y="11832"/>
                  <a:pt x="20183" y="11832"/>
                  <a:pt x="20166" y="11832"/>
                </a:cubicBezTo>
                <a:cubicBezTo>
                  <a:pt x="20153" y="11780"/>
                  <a:pt x="20130" y="11790"/>
                  <a:pt x="20092" y="11757"/>
                </a:cubicBezTo>
                <a:cubicBezTo>
                  <a:pt x="20069" y="11735"/>
                  <a:pt x="20064" y="11727"/>
                  <a:pt x="20042" y="11733"/>
                </a:cubicBezTo>
                <a:cubicBezTo>
                  <a:pt x="20029" y="11695"/>
                  <a:pt x="20013" y="11708"/>
                  <a:pt x="19968" y="11708"/>
                </a:cubicBezTo>
                <a:cubicBezTo>
                  <a:pt x="19955" y="11668"/>
                  <a:pt x="19956" y="11698"/>
                  <a:pt x="19943" y="11658"/>
                </a:cubicBezTo>
                <a:cubicBezTo>
                  <a:pt x="19880" y="11658"/>
                  <a:pt x="19846" y="11650"/>
                  <a:pt x="19794" y="11633"/>
                </a:cubicBezTo>
                <a:cubicBezTo>
                  <a:pt x="19764" y="11623"/>
                  <a:pt x="19724" y="11612"/>
                  <a:pt x="19695" y="11609"/>
                </a:cubicBezTo>
                <a:cubicBezTo>
                  <a:pt x="19687" y="11609"/>
                  <a:pt x="19678" y="11609"/>
                  <a:pt x="19670" y="11609"/>
                </a:cubicBezTo>
              </a:path>
              <a:path w="6128" h="2481">
                <a:moveTo>
                  <a:pt x="19670" y="11609"/>
                </a:moveTo>
                <a:cubicBezTo>
                  <a:pt x="19629" y="11591"/>
                  <a:pt x="19587" y="11564"/>
                  <a:pt x="19546" y="11559"/>
                </a:cubicBezTo>
                <a:cubicBezTo>
                  <a:pt x="19538" y="11559"/>
                  <a:pt x="19529" y="11559"/>
                  <a:pt x="19521" y="11559"/>
                </a:cubicBezTo>
              </a:path>
              <a:path w="6128" h="2481">
                <a:moveTo>
                  <a:pt x="19298" y="11584"/>
                </a:moveTo>
                <a:cubicBezTo>
                  <a:pt x="19298" y="11521"/>
                  <a:pt x="19298" y="11638"/>
                  <a:pt x="19298" y="11658"/>
                </a:cubicBezTo>
                <a:cubicBezTo>
                  <a:pt x="19298" y="11732"/>
                  <a:pt x="19277" y="11786"/>
                  <a:pt x="19273" y="11857"/>
                </a:cubicBezTo>
                <a:cubicBezTo>
                  <a:pt x="19269" y="11929"/>
                  <a:pt x="19252" y="11986"/>
                  <a:pt x="19248" y="12055"/>
                </a:cubicBezTo>
                <a:cubicBezTo>
                  <a:pt x="19244" y="12126"/>
                  <a:pt x="19228" y="12185"/>
                  <a:pt x="19224" y="12254"/>
                </a:cubicBezTo>
                <a:cubicBezTo>
                  <a:pt x="19220" y="12329"/>
                  <a:pt x="19218" y="12388"/>
                  <a:pt x="19199" y="12452"/>
                </a:cubicBezTo>
                <a:cubicBezTo>
                  <a:pt x="19190" y="12481"/>
                  <a:pt x="19199" y="12521"/>
                  <a:pt x="19199" y="12551"/>
                </a:cubicBezTo>
              </a:path>
              <a:path w="6128" h="2481">
                <a:moveTo>
                  <a:pt x="21927" y="12948"/>
                </a:moveTo>
                <a:cubicBezTo>
                  <a:pt x="21927" y="12956"/>
                  <a:pt x="21927" y="12965"/>
                  <a:pt x="21927" y="12973"/>
                </a:cubicBezTo>
                <a:cubicBezTo>
                  <a:pt x="21891" y="12959"/>
                  <a:pt x="21870" y="12950"/>
                  <a:pt x="21828" y="12948"/>
                </a:cubicBezTo>
                <a:cubicBezTo>
                  <a:pt x="21786" y="12946"/>
                  <a:pt x="21760" y="12928"/>
                  <a:pt x="21729" y="12923"/>
                </a:cubicBezTo>
                <a:cubicBezTo>
                  <a:pt x="21688" y="12916"/>
                  <a:pt x="21637" y="12903"/>
                  <a:pt x="21605" y="12898"/>
                </a:cubicBezTo>
                <a:cubicBezTo>
                  <a:pt x="21540" y="12887"/>
                  <a:pt x="21462" y="12883"/>
                  <a:pt x="21406" y="12874"/>
                </a:cubicBezTo>
                <a:cubicBezTo>
                  <a:pt x="21364" y="12867"/>
                  <a:pt x="21322" y="12856"/>
                  <a:pt x="21282" y="12849"/>
                </a:cubicBezTo>
                <a:cubicBezTo>
                  <a:pt x="21205" y="12836"/>
                  <a:pt x="21158" y="12857"/>
                  <a:pt x="21084" y="12824"/>
                </a:cubicBezTo>
                <a:cubicBezTo>
                  <a:pt x="21051" y="12809"/>
                  <a:pt x="21020" y="12811"/>
                  <a:pt x="20985" y="12799"/>
                </a:cubicBezTo>
                <a:cubicBezTo>
                  <a:pt x="20943" y="12785"/>
                  <a:pt x="20909" y="12785"/>
                  <a:pt x="20861" y="12774"/>
                </a:cubicBezTo>
                <a:cubicBezTo>
                  <a:pt x="20817" y="12764"/>
                  <a:pt x="20758" y="12740"/>
                  <a:pt x="20712" y="12725"/>
                </a:cubicBezTo>
                <a:cubicBezTo>
                  <a:pt x="20674" y="12713"/>
                  <a:pt x="20655" y="12682"/>
                  <a:pt x="20613" y="12675"/>
                </a:cubicBezTo>
                <a:cubicBezTo>
                  <a:pt x="20543" y="12663"/>
                  <a:pt x="20456" y="12659"/>
                  <a:pt x="20389" y="12650"/>
                </a:cubicBezTo>
                <a:cubicBezTo>
                  <a:pt x="20329" y="12642"/>
                  <a:pt x="20272" y="12635"/>
                  <a:pt x="20216" y="12626"/>
                </a:cubicBezTo>
                <a:cubicBezTo>
                  <a:pt x="20154" y="12616"/>
                  <a:pt x="20106" y="12604"/>
                  <a:pt x="20042" y="12601"/>
                </a:cubicBezTo>
                <a:cubicBezTo>
                  <a:pt x="19930" y="12595"/>
                  <a:pt x="19826" y="12594"/>
                  <a:pt x="19720" y="12576"/>
                </a:cubicBezTo>
                <a:cubicBezTo>
                  <a:pt x="19668" y="12567"/>
                  <a:pt x="19596" y="12567"/>
                  <a:pt x="19546" y="12551"/>
                </a:cubicBezTo>
                <a:cubicBezTo>
                  <a:pt x="19486" y="12532"/>
                  <a:pt x="19462" y="12529"/>
                  <a:pt x="19397" y="12526"/>
                </a:cubicBezTo>
                <a:cubicBezTo>
                  <a:pt x="19315" y="12522"/>
                  <a:pt x="19231" y="12526"/>
                  <a:pt x="19149" y="12526"/>
                </a:cubicBezTo>
              </a:path>
              <a:path w="6128" h="2481">
                <a:moveTo>
                  <a:pt x="19869" y="12923"/>
                </a:moveTo>
                <a:cubicBezTo>
                  <a:pt x="19844" y="12923"/>
                  <a:pt x="19836" y="12923"/>
                  <a:pt x="19819" y="12923"/>
                </a:cubicBezTo>
                <a:cubicBezTo>
                  <a:pt x="19831" y="12875"/>
                  <a:pt x="19851" y="12867"/>
                  <a:pt x="19893" y="12849"/>
                </a:cubicBezTo>
                <a:cubicBezTo>
                  <a:pt x="19937" y="12830"/>
                  <a:pt x="20016" y="12801"/>
                  <a:pt x="20042" y="12874"/>
                </a:cubicBezTo>
                <a:cubicBezTo>
                  <a:pt x="20061" y="12927"/>
                  <a:pt x="20044" y="13027"/>
                  <a:pt x="20017" y="13072"/>
                </a:cubicBezTo>
                <a:cubicBezTo>
                  <a:pt x="19987" y="13123"/>
                  <a:pt x="19932" y="13139"/>
                  <a:pt x="19918" y="13196"/>
                </a:cubicBezTo>
                <a:cubicBezTo>
                  <a:pt x="19942" y="13232"/>
                  <a:pt x="19985" y="13221"/>
                  <a:pt x="20042" y="13221"/>
                </a:cubicBezTo>
                <a:cubicBezTo>
                  <a:pt x="20100" y="13221"/>
                  <a:pt x="20158" y="13221"/>
                  <a:pt x="20216" y="13221"/>
                </a:cubicBezTo>
              </a:path>
              <a:path w="6128" h="2481">
                <a:moveTo>
                  <a:pt x="18777" y="11906"/>
                </a:moveTo>
                <a:cubicBezTo>
                  <a:pt x="18747" y="11956"/>
                  <a:pt x="18735" y="12044"/>
                  <a:pt x="18728" y="12105"/>
                </a:cubicBezTo>
                <a:cubicBezTo>
                  <a:pt x="18728" y="12130"/>
                  <a:pt x="18728" y="12154"/>
                  <a:pt x="18728" y="12179"/>
                </a:cubicBezTo>
              </a:path>
              <a:path w="6128" h="2481">
                <a:moveTo>
                  <a:pt x="18405" y="11956"/>
                </a:moveTo>
                <a:cubicBezTo>
                  <a:pt x="18314" y="11956"/>
                  <a:pt x="18223" y="11956"/>
                  <a:pt x="18132" y="11956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170760" y="5126040"/>
            <a:ext cx="795240" cy="312840"/>
          </a:xfrm>
          <a:custGeom>
            <a:avLst/>
            <a:gdLst/>
            <a:ahLst/>
            <a:rect l="l" t="t" r="r" b="b"/>
            <a:pathLst>
              <a:path w="2209" h="869">
                <a:moveTo>
                  <a:pt x="17165" y="14486"/>
                </a:moveTo>
                <a:cubicBezTo>
                  <a:pt x="17157" y="14461"/>
                  <a:pt x="17148" y="14437"/>
                  <a:pt x="17140" y="14412"/>
                </a:cubicBezTo>
                <a:cubicBezTo>
                  <a:pt x="17140" y="14589"/>
                  <a:pt x="17142" y="14760"/>
                  <a:pt x="17165" y="14932"/>
                </a:cubicBezTo>
                <a:cubicBezTo>
                  <a:pt x="17165" y="14949"/>
                  <a:pt x="17165" y="14965"/>
                  <a:pt x="17165" y="14982"/>
                </a:cubicBezTo>
              </a:path>
              <a:path w="2209" h="869">
                <a:moveTo>
                  <a:pt x="17413" y="14312"/>
                </a:moveTo>
                <a:cubicBezTo>
                  <a:pt x="17405" y="14304"/>
                  <a:pt x="17396" y="14296"/>
                  <a:pt x="17388" y="14288"/>
                </a:cubicBezTo>
                <a:cubicBezTo>
                  <a:pt x="17431" y="14277"/>
                  <a:pt x="17464" y="14246"/>
                  <a:pt x="17512" y="14238"/>
                </a:cubicBezTo>
                <a:cubicBezTo>
                  <a:pt x="17566" y="14229"/>
                  <a:pt x="17631" y="14224"/>
                  <a:pt x="17636" y="14288"/>
                </a:cubicBezTo>
                <a:cubicBezTo>
                  <a:pt x="17641" y="14361"/>
                  <a:pt x="17630" y="14403"/>
                  <a:pt x="17587" y="14461"/>
                </a:cubicBezTo>
                <a:cubicBezTo>
                  <a:pt x="17567" y="14488"/>
                  <a:pt x="17513" y="14517"/>
                  <a:pt x="17537" y="14560"/>
                </a:cubicBezTo>
                <a:cubicBezTo>
                  <a:pt x="17563" y="14607"/>
                  <a:pt x="17590" y="14603"/>
                  <a:pt x="17636" y="14610"/>
                </a:cubicBezTo>
              </a:path>
              <a:path w="2209" h="869">
                <a:moveTo>
                  <a:pt x="18207" y="14833"/>
                </a:moveTo>
                <a:cubicBezTo>
                  <a:pt x="18248" y="14833"/>
                  <a:pt x="18173" y="14833"/>
                  <a:pt x="18132" y="14833"/>
                </a:cubicBezTo>
                <a:cubicBezTo>
                  <a:pt x="18066" y="14833"/>
                  <a:pt x="18000" y="14833"/>
                  <a:pt x="17934" y="14833"/>
                </a:cubicBezTo>
              </a:path>
              <a:path w="2209" h="869">
                <a:moveTo>
                  <a:pt x="17959" y="14709"/>
                </a:moveTo>
                <a:cubicBezTo>
                  <a:pt x="18078" y="14769"/>
                  <a:pt x="18038" y="14789"/>
                  <a:pt x="18083" y="14908"/>
                </a:cubicBezTo>
                <a:cubicBezTo>
                  <a:pt x="18091" y="14924"/>
                  <a:pt x="18099" y="14941"/>
                  <a:pt x="18107" y="14957"/>
                </a:cubicBezTo>
              </a:path>
              <a:path w="2209" h="869">
                <a:moveTo>
                  <a:pt x="18455" y="14784"/>
                </a:moveTo>
                <a:cubicBezTo>
                  <a:pt x="18445" y="14760"/>
                  <a:pt x="18405" y="14666"/>
                  <a:pt x="18430" y="14635"/>
                </a:cubicBezTo>
                <a:cubicBezTo>
                  <a:pt x="18480" y="14575"/>
                  <a:pt x="18564" y="14561"/>
                  <a:pt x="18628" y="14585"/>
                </a:cubicBezTo>
                <a:cubicBezTo>
                  <a:pt x="18714" y="14617"/>
                  <a:pt x="18725" y="14728"/>
                  <a:pt x="18728" y="14808"/>
                </a:cubicBezTo>
                <a:cubicBezTo>
                  <a:pt x="18732" y="14901"/>
                  <a:pt x="18697" y="14934"/>
                  <a:pt x="18653" y="15007"/>
                </a:cubicBezTo>
                <a:cubicBezTo>
                  <a:pt x="18619" y="15063"/>
                  <a:pt x="18604" y="15046"/>
                  <a:pt x="18604" y="15106"/>
                </a:cubicBezTo>
                <a:cubicBezTo>
                  <a:pt x="18701" y="15106"/>
                  <a:pt x="18783" y="15094"/>
                  <a:pt x="18876" y="15081"/>
                </a:cubicBezTo>
                <a:cubicBezTo>
                  <a:pt x="18893" y="15081"/>
                  <a:pt x="18909" y="15081"/>
                  <a:pt x="18926" y="15081"/>
                </a:cubicBezTo>
              </a:path>
              <a:path w="2209" h="869">
                <a:moveTo>
                  <a:pt x="19075" y="14536"/>
                </a:moveTo>
                <a:cubicBezTo>
                  <a:pt x="19084" y="14508"/>
                  <a:pt x="19109" y="14489"/>
                  <a:pt x="19149" y="14486"/>
                </a:cubicBezTo>
                <a:cubicBezTo>
                  <a:pt x="19199" y="14482"/>
                  <a:pt x="19220" y="14508"/>
                  <a:pt x="19224" y="14560"/>
                </a:cubicBezTo>
                <a:cubicBezTo>
                  <a:pt x="19229" y="14633"/>
                  <a:pt x="19204" y="14669"/>
                  <a:pt x="19199" y="14734"/>
                </a:cubicBezTo>
                <a:cubicBezTo>
                  <a:pt x="19199" y="14759"/>
                  <a:pt x="19199" y="14767"/>
                  <a:pt x="19199" y="14784"/>
                </a:cubicBezTo>
                <a:cubicBezTo>
                  <a:pt x="19249" y="14784"/>
                  <a:pt x="19298" y="14784"/>
                  <a:pt x="19348" y="14784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188120" y="5232240"/>
            <a:ext cx="615960" cy="216000"/>
          </a:xfrm>
          <a:custGeom>
            <a:avLst/>
            <a:gdLst/>
            <a:ahLst/>
            <a:rect l="l" t="t" r="r" b="b"/>
            <a:pathLst>
              <a:path w="1712" h="596">
                <a:moveTo>
                  <a:pt x="20141" y="14808"/>
                </a:moveTo>
                <a:cubicBezTo>
                  <a:pt x="20166" y="14808"/>
                  <a:pt x="20174" y="14808"/>
                  <a:pt x="20191" y="14808"/>
                </a:cubicBezTo>
                <a:cubicBezTo>
                  <a:pt x="20117" y="14808"/>
                  <a:pt x="20042" y="14808"/>
                  <a:pt x="19968" y="14808"/>
                </a:cubicBezTo>
              </a:path>
              <a:path w="1712" h="596">
                <a:moveTo>
                  <a:pt x="20141" y="14908"/>
                </a:moveTo>
                <a:cubicBezTo>
                  <a:pt x="20149" y="14916"/>
                  <a:pt x="20158" y="14924"/>
                  <a:pt x="20166" y="14932"/>
                </a:cubicBezTo>
                <a:cubicBezTo>
                  <a:pt x="20124" y="14964"/>
                  <a:pt x="20098" y="14957"/>
                  <a:pt x="20042" y="14957"/>
                </a:cubicBezTo>
              </a:path>
              <a:path w="1712" h="596">
                <a:moveTo>
                  <a:pt x="20687" y="14883"/>
                </a:moveTo>
                <a:cubicBezTo>
                  <a:pt x="20726" y="14854"/>
                  <a:pt x="20750" y="14858"/>
                  <a:pt x="20762" y="14808"/>
                </a:cubicBezTo>
                <a:cubicBezTo>
                  <a:pt x="20708" y="14808"/>
                  <a:pt x="20660" y="14799"/>
                  <a:pt x="20613" y="14833"/>
                </a:cubicBezTo>
                <a:cubicBezTo>
                  <a:pt x="20573" y="14862"/>
                  <a:pt x="20484" y="14974"/>
                  <a:pt x="20513" y="15032"/>
                </a:cubicBezTo>
                <a:cubicBezTo>
                  <a:pt x="20553" y="15111"/>
                  <a:pt x="20636" y="15127"/>
                  <a:pt x="20712" y="15131"/>
                </a:cubicBezTo>
                <a:cubicBezTo>
                  <a:pt x="20784" y="15134"/>
                  <a:pt x="20854" y="15094"/>
                  <a:pt x="20910" y="15056"/>
                </a:cubicBezTo>
              </a:path>
              <a:path w="1712" h="596">
                <a:moveTo>
                  <a:pt x="21233" y="14610"/>
                </a:moveTo>
                <a:cubicBezTo>
                  <a:pt x="21268" y="14598"/>
                  <a:pt x="21256" y="14564"/>
                  <a:pt x="21307" y="14560"/>
                </a:cubicBezTo>
                <a:cubicBezTo>
                  <a:pt x="21363" y="14556"/>
                  <a:pt x="21376" y="14544"/>
                  <a:pt x="21431" y="14536"/>
                </a:cubicBezTo>
                <a:cubicBezTo>
                  <a:pt x="21431" y="14605"/>
                  <a:pt x="21443" y="14673"/>
                  <a:pt x="21406" y="14734"/>
                </a:cubicBezTo>
                <a:cubicBezTo>
                  <a:pt x="21383" y="14772"/>
                  <a:pt x="21382" y="14786"/>
                  <a:pt x="21382" y="14833"/>
                </a:cubicBezTo>
                <a:cubicBezTo>
                  <a:pt x="21470" y="14833"/>
                  <a:pt x="21548" y="14821"/>
                  <a:pt x="21630" y="14808"/>
                </a:cubicBezTo>
                <a:cubicBezTo>
                  <a:pt x="21646" y="14808"/>
                  <a:pt x="21663" y="14808"/>
                  <a:pt x="21679" y="14808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456240" y="5527800"/>
            <a:ext cx="608040" cy="196560"/>
          </a:xfrm>
          <a:custGeom>
            <a:avLst/>
            <a:gdLst/>
            <a:ahLst/>
            <a:rect l="l" t="t" r="r" b="b"/>
            <a:pathLst>
              <a:path w="1688" h="547">
                <a:moveTo>
                  <a:pt x="17934" y="15354"/>
                </a:moveTo>
                <a:cubicBezTo>
                  <a:pt x="17934" y="15483"/>
                  <a:pt x="17933" y="15604"/>
                  <a:pt x="17959" y="15726"/>
                </a:cubicBezTo>
                <a:cubicBezTo>
                  <a:pt x="17959" y="15751"/>
                  <a:pt x="17959" y="15759"/>
                  <a:pt x="17959" y="15776"/>
                </a:cubicBezTo>
              </a:path>
              <a:path w="1688" h="547">
                <a:moveTo>
                  <a:pt x="18455" y="15528"/>
                </a:moveTo>
                <a:cubicBezTo>
                  <a:pt x="18529" y="15528"/>
                  <a:pt x="18538" y="15528"/>
                  <a:pt x="18579" y="15528"/>
                </a:cubicBezTo>
                <a:cubicBezTo>
                  <a:pt x="18563" y="15575"/>
                  <a:pt x="18485" y="15553"/>
                  <a:pt x="18430" y="15553"/>
                </a:cubicBezTo>
                <a:cubicBezTo>
                  <a:pt x="18372" y="15553"/>
                  <a:pt x="18314" y="15553"/>
                  <a:pt x="18256" y="15553"/>
                </a:cubicBezTo>
              </a:path>
              <a:path w="1688" h="547">
                <a:moveTo>
                  <a:pt x="18256" y="15478"/>
                </a:moveTo>
                <a:cubicBezTo>
                  <a:pt x="18361" y="15457"/>
                  <a:pt x="18363" y="15471"/>
                  <a:pt x="18405" y="15577"/>
                </a:cubicBezTo>
                <a:cubicBezTo>
                  <a:pt x="18427" y="15642"/>
                  <a:pt x="18435" y="15657"/>
                  <a:pt x="18430" y="15701"/>
                </a:cubicBezTo>
              </a:path>
              <a:path w="1688" h="547">
                <a:moveTo>
                  <a:pt x="18678" y="15429"/>
                </a:moveTo>
                <a:cubicBezTo>
                  <a:pt x="18686" y="15421"/>
                  <a:pt x="18695" y="15412"/>
                  <a:pt x="18703" y="15404"/>
                </a:cubicBezTo>
                <a:cubicBezTo>
                  <a:pt x="18715" y="15465"/>
                  <a:pt x="18728" y="15511"/>
                  <a:pt x="18728" y="15577"/>
                </a:cubicBezTo>
                <a:cubicBezTo>
                  <a:pt x="18728" y="15618"/>
                  <a:pt x="18728" y="15660"/>
                  <a:pt x="18728" y="15701"/>
                </a:cubicBezTo>
                <a:cubicBezTo>
                  <a:pt x="18814" y="15701"/>
                  <a:pt x="18925" y="15680"/>
                  <a:pt x="19000" y="15726"/>
                </a:cubicBezTo>
                <a:cubicBezTo>
                  <a:pt x="19050" y="15757"/>
                  <a:pt x="19067" y="15811"/>
                  <a:pt x="19124" y="15825"/>
                </a:cubicBezTo>
              </a:path>
              <a:path w="1688" h="547">
                <a:moveTo>
                  <a:pt x="19025" y="15726"/>
                </a:moveTo>
                <a:cubicBezTo>
                  <a:pt x="18986" y="15687"/>
                  <a:pt x="18985" y="15671"/>
                  <a:pt x="18951" y="15677"/>
                </a:cubicBezTo>
                <a:cubicBezTo>
                  <a:pt x="18951" y="15751"/>
                  <a:pt x="18951" y="15826"/>
                  <a:pt x="18951" y="15900"/>
                </a:cubicBezTo>
              </a:path>
              <a:path w="1688" h="547">
                <a:moveTo>
                  <a:pt x="19571" y="15627"/>
                </a:moveTo>
                <a:cubicBezTo>
                  <a:pt x="19612" y="15647"/>
                  <a:pt x="19628" y="15645"/>
                  <a:pt x="19621" y="15677"/>
                </a:cubicBezTo>
                <a:cubicBezTo>
                  <a:pt x="19555" y="15677"/>
                  <a:pt x="19488" y="15677"/>
                  <a:pt x="19422" y="15677"/>
                </a:cubicBezTo>
              </a:path>
              <a:path w="1688" h="547">
                <a:moveTo>
                  <a:pt x="19546" y="15751"/>
                </a:moveTo>
                <a:cubicBezTo>
                  <a:pt x="19554" y="15751"/>
                  <a:pt x="19563" y="15751"/>
                  <a:pt x="19571" y="15751"/>
                </a:cubicBezTo>
                <a:cubicBezTo>
                  <a:pt x="19571" y="15803"/>
                  <a:pt x="19573" y="15801"/>
                  <a:pt x="19521" y="15801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224840" y="5562720"/>
            <a:ext cx="295200" cy="171360"/>
          </a:xfrm>
          <a:custGeom>
            <a:avLst/>
            <a:gdLst/>
            <a:ahLst/>
            <a:rect l="l" t="t" r="r" b="b"/>
            <a:pathLst>
              <a:path w="820" h="473">
                <a:moveTo>
                  <a:pt x="20191" y="15726"/>
                </a:moveTo>
                <a:cubicBezTo>
                  <a:pt x="20217" y="15715"/>
                  <a:pt x="20301" y="15704"/>
                  <a:pt x="20315" y="15677"/>
                </a:cubicBezTo>
                <a:cubicBezTo>
                  <a:pt x="20315" y="15669"/>
                  <a:pt x="20315" y="15660"/>
                  <a:pt x="20315" y="15652"/>
                </a:cubicBezTo>
                <a:cubicBezTo>
                  <a:pt x="20256" y="15652"/>
                  <a:pt x="20163" y="15631"/>
                  <a:pt x="20117" y="15677"/>
                </a:cubicBezTo>
                <a:cubicBezTo>
                  <a:pt x="20059" y="15735"/>
                  <a:pt x="20069" y="15788"/>
                  <a:pt x="20117" y="15850"/>
                </a:cubicBezTo>
                <a:cubicBezTo>
                  <a:pt x="20161" y="15907"/>
                  <a:pt x="20265" y="15961"/>
                  <a:pt x="20340" y="15925"/>
                </a:cubicBezTo>
                <a:cubicBezTo>
                  <a:pt x="20356" y="15908"/>
                  <a:pt x="20373" y="15892"/>
                  <a:pt x="20389" y="15875"/>
                </a:cubicBezTo>
              </a:path>
              <a:path w="820" h="473">
                <a:moveTo>
                  <a:pt x="20662" y="15503"/>
                </a:moveTo>
                <a:cubicBezTo>
                  <a:pt x="20662" y="15495"/>
                  <a:pt x="20662" y="15486"/>
                  <a:pt x="20662" y="15478"/>
                </a:cubicBezTo>
                <a:cubicBezTo>
                  <a:pt x="20701" y="15468"/>
                  <a:pt x="20717" y="15453"/>
                  <a:pt x="20762" y="15453"/>
                </a:cubicBezTo>
                <a:cubicBezTo>
                  <a:pt x="20770" y="15453"/>
                  <a:pt x="20778" y="15453"/>
                  <a:pt x="20786" y="15453"/>
                </a:cubicBezTo>
                <a:cubicBezTo>
                  <a:pt x="20786" y="15502"/>
                  <a:pt x="20775" y="15513"/>
                  <a:pt x="20762" y="15553"/>
                </a:cubicBezTo>
                <a:cubicBezTo>
                  <a:pt x="20762" y="15577"/>
                  <a:pt x="20762" y="15586"/>
                  <a:pt x="20762" y="15602"/>
                </a:cubicBezTo>
                <a:cubicBezTo>
                  <a:pt x="20803" y="15602"/>
                  <a:pt x="20845" y="15602"/>
                  <a:pt x="20886" y="15602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205760" y="5911920"/>
            <a:ext cx="135000" cy="142920"/>
          </a:xfrm>
          <a:custGeom>
            <a:avLst/>
            <a:gdLst/>
            <a:ahLst/>
            <a:rect l="l" t="t" r="r" b="b"/>
            <a:pathLst>
              <a:path w="373" h="398">
                <a:moveTo>
                  <a:pt x="20241" y="16446"/>
                </a:moveTo>
                <a:cubicBezTo>
                  <a:pt x="20224" y="16395"/>
                  <a:pt x="20186" y="16446"/>
                  <a:pt x="20141" y="16470"/>
                </a:cubicBezTo>
                <a:cubicBezTo>
                  <a:pt x="20061" y="16512"/>
                  <a:pt x="19998" y="16569"/>
                  <a:pt x="20017" y="16669"/>
                </a:cubicBezTo>
                <a:cubicBezTo>
                  <a:pt x="20030" y="16735"/>
                  <a:pt x="20127" y="16807"/>
                  <a:pt x="20191" y="16818"/>
                </a:cubicBezTo>
                <a:cubicBezTo>
                  <a:pt x="20271" y="16832"/>
                  <a:pt x="20332" y="16790"/>
                  <a:pt x="20389" y="16743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48240" y="5742000"/>
            <a:ext cx="590760" cy="285840"/>
          </a:xfrm>
          <a:custGeom>
            <a:avLst/>
            <a:gdLst/>
            <a:ahLst/>
            <a:rect l="l" t="t" r="r" b="b"/>
            <a:pathLst>
              <a:path w="1638" h="795">
                <a:moveTo>
                  <a:pt x="19224" y="16520"/>
                </a:moveTo>
                <a:cubicBezTo>
                  <a:pt x="19240" y="16512"/>
                  <a:pt x="19257" y="16503"/>
                  <a:pt x="19273" y="16495"/>
                </a:cubicBezTo>
                <a:cubicBezTo>
                  <a:pt x="19209" y="16495"/>
                  <a:pt x="19182" y="16495"/>
                  <a:pt x="19124" y="16470"/>
                </a:cubicBezTo>
              </a:path>
              <a:path w="1638" h="795">
                <a:moveTo>
                  <a:pt x="19149" y="16619"/>
                </a:moveTo>
                <a:cubicBezTo>
                  <a:pt x="19191" y="16619"/>
                  <a:pt x="19207" y="16611"/>
                  <a:pt x="19199" y="16644"/>
                </a:cubicBezTo>
                <a:cubicBezTo>
                  <a:pt x="19186" y="16684"/>
                  <a:pt x="19180" y="16669"/>
                  <a:pt x="19124" y="16669"/>
                </a:cubicBezTo>
              </a:path>
              <a:path w="1638" h="795">
                <a:moveTo>
                  <a:pt x="18728" y="15949"/>
                </a:moveTo>
                <a:cubicBezTo>
                  <a:pt x="18708" y="15969"/>
                  <a:pt x="18700" y="15990"/>
                  <a:pt x="18653" y="15999"/>
                </a:cubicBezTo>
                <a:cubicBezTo>
                  <a:pt x="18560" y="16016"/>
                  <a:pt x="18468" y="15984"/>
                  <a:pt x="18380" y="15974"/>
                </a:cubicBezTo>
                <a:cubicBezTo>
                  <a:pt x="18281" y="15963"/>
                  <a:pt x="18173" y="15967"/>
                  <a:pt x="18083" y="15999"/>
                </a:cubicBezTo>
                <a:cubicBezTo>
                  <a:pt x="17993" y="16031"/>
                  <a:pt x="18022" y="16014"/>
                  <a:pt x="17983" y="16073"/>
                </a:cubicBezTo>
                <a:cubicBezTo>
                  <a:pt x="17952" y="16120"/>
                  <a:pt x="17922" y="16137"/>
                  <a:pt x="17909" y="16197"/>
                </a:cubicBezTo>
                <a:cubicBezTo>
                  <a:pt x="17892" y="16275"/>
                  <a:pt x="17867" y="16365"/>
                  <a:pt x="17859" y="16446"/>
                </a:cubicBezTo>
                <a:cubicBezTo>
                  <a:pt x="17850" y="16538"/>
                  <a:pt x="17870" y="16630"/>
                  <a:pt x="17835" y="16718"/>
                </a:cubicBezTo>
                <a:cubicBezTo>
                  <a:pt x="17827" y="16726"/>
                  <a:pt x="17818" y="16735"/>
                  <a:pt x="17810" y="16743"/>
                </a:cubicBezTo>
                <a:cubicBezTo>
                  <a:pt x="17767" y="16695"/>
                  <a:pt x="17743" y="16645"/>
                  <a:pt x="17711" y="16570"/>
                </a:cubicBezTo>
                <a:cubicBezTo>
                  <a:pt x="17689" y="16519"/>
                  <a:pt x="17661" y="16470"/>
                  <a:pt x="17636" y="16421"/>
                </a:cubicBezTo>
              </a:path>
              <a:path w="1638" h="795">
                <a:moveTo>
                  <a:pt x="18207" y="16247"/>
                </a:moveTo>
                <a:cubicBezTo>
                  <a:pt x="18215" y="16230"/>
                  <a:pt x="18223" y="16214"/>
                  <a:pt x="18231" y="16197"/>
                </a:cubicBezTo>
                <a:cubicBezTo>
                  <a:pt x="18197" y="16233"/>
                  <a:pt x="18174" y="16257"/>
                  <a:pt x="18157" y="16297"/>
                </a:cubicBezTo>
                <a:cubicBezTo>
                  <a:pt x="18131" y="16356"/>
                  <a:pt x="18117" y="16400"/>
                  <a:pt x="18182" y="16446"/>
                </a:cubicBezTo>
                <a:cubicBezTo>
                  <a:pt x="18241" y="16488"/>
                  <a:pt x="18316" y="16475"/>
                  <a:pt x="18380" y="16520"/>
                </a:cubicBezTo>
                <a:cubicBezTo>
                  <a:pt x="18406" y="16538"/>
                  <a:pt x="18451" y="16582"/>
                  <a:pt x="18430" y="16619"/>
                </a:cubicBezTo>
                <a:cubicBezTo>
                  <a:pt x="18408" y="16658"/>
                  <a:pt x="18295" y="16655"/>
                  <a:pt x="18256" y="16644"/>
                </a:cubicBezTo>
                <a:cubicBezTo>
                  <a:pt x="18213" y="16622"/>
                  <a:pt x="18201" y="16618"/>
                  <a:pt x="18182" y="16594"/>
                </a:cubicBezTo>
              </a:path>
              <a:path w="1638" h="795">
                <a:moveTo>
                  <a:pt x="18504" y="16346"/>
                </a:moveTo>
                <a:cubicBezTo>
                  <a:pt x="18550" y="16308"/>
                  <a:pt x="18567" y="16307"/>
                  <a:pt x="18579" y="16272"/>
                </a:cubicBezTo>
                <a:cubicBezTo>
                  <a:pt x="18498" y="16272"/>
                  <a:pt x="18434" y="16274"/>
                  <a:pt x="18355" y="16297"/>
                </a:cubicBezTo>
                <a:cubicBezTo>
                  <a:pt x="18330" y="16305"/>
                  <a:pt x="18306" y="16313"/>
                  <a:pt x="18281" y="16321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13320" y="1419120"/>
            <a:ext cx="608040" cy="260280"/>
          </a:xfrm>
          <a:custGeom>
            <a:avLst/>
            <a:gdLst/>
            <a:ahLst/>
            <a:rect l="l" t="t" r="r" b="b"/>
            <a:pathLst>
              <a:path w="1688" h="720">
                <a:moveTo>
                  <a:pt x="17859" y="4366"/>
                </a:moveTo>
                <a:cubicBezTo>
                  <a:pt x="17898" y="4337"/>
                  <a:pt x="17924" y="4338"/>
                  <a:pt x="17859" y="4316"/>
                </a:cubicBezTo>
                <a:cubicBezTo>
                  <a:pt x="17800" y="4296"/>
                  <a:pt x="17750" y="4291"/>
                  <a:pt x="17686" y="4291"/>
                </a:cubicBezTo>
                <a:cubicBezTo>
                  <a:pt x="17636" y="4291"/>
                  <a:pt x="17587" y="4291"/>
                  <a:pt x="17537" y="4291"/>
                </a:cubicBezTo>
              </a:path>
              <a:path w="1688" h="720">
                <a:moveTo>
                  <a:pt x="18132" y="3994"/>
                </a:moveTo>
                <a:cubicBezTo>
                  <a:pt x="18211" y="3946"/>
                  <a:pt x="18204" y="3944"/>
                  <a:pt x="18281" y="3944"/>
                </a:cubicBezTo>
                <a:cubicBezTo>
                  <a:pt x="18281" y="4016"/>
                  <a:pt x="18271" y="4098"/>
                  <a:pt x="18256" y="4167"/>
                </a:cubicBezTo>
                <a:cubicBezTo>
                  <a:pt x="18241" y="4233"/>
                  <a:pt x="18204" y="4345"/>
                  <a:pt x="18231" y="4415"/>
                </a:cubicBezTo>
                <a:cubicBezTo>
                  <a:pt x="18252" y="4469"/>
                  <a:pt x="18332" y="4478"/>
                  <a:pt x="18380" y="4465"/>
                </a:cubicBezTo>
                <a:cubicBezTo>
                  <a:pt x="18451" y="4445"/>
                  <a:pt x="18502" y="4440"/>
                  <a:pt x="18579" y="4440"/>
                </a:cubicBezTo>
                <a:cubicBezTo>
                  <a:pt x="18624" y="4440"/>
                  <a:pt x="18637" y="4420"/>
                  <a:pt x="18678" y="4415"/>
                </a:cubicBezTo>
                <a:cubicBezTo>
                  <a:pt x="18727" y="4410"/>
                  <a:pt x="18701" y="4432"/>
                  <a:pt x="18678" y="4440"/>
                </a:cubicBezTo>
              </a:path>
              <a:path w="1688" h="720">
                <a:moveTo>
                  <a:pt x="18554" y="4266"/>
                </a:moveTo>
                <a:cubicBezTo>
                  <a:pt x="18505" y="4299"/>
                  <a:pt x="18542" y="4371"/>
                  <a:pt x="18529" y="4440"/>
                </a:cubicBezTo>
                <a:cubicBezTo>
                  <a:pt x="18514" y="4519"/>
                  <a:pt x="18504" y="4582"/>
                  <a:pt x="18504" y="4663"/>
                </a:cubicBezTo>
              </a:path>
              <a:path w="1688" h="720">
                <a:moveTo>
                  <a:pt x="19199" y="4341"/>
                </a:moveTo>
                <a:cubicBezTo>
                  <a:pt x="19241" y="4341"/>
                  <a:pt x="19166" y="4341"/>
                  <a:pt x="19124" y="4341"/>
                </a:cubicBezTo>
                <a:cubicBezTo>
                  <a:pt x="19061" y="4341"/>
                  <a:pt x="19021" y="4366"/>
                  <a:pt x="18951" y="4366"/>
                </a:cubicBezTo>
                <a:cubicBezTo>
                  <a:pt x="18943" y="4366"/>
                  <a:pt x="18934" y="4366"/>
                  <a:pt x="18926" y="4366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072200" y="1419120"/>
            <a:ext cx="428760" cy="277920"/>
          </a:xfrm>
          <a:custGeom>
            <a:avLst/>
            <a:gdLst/>
            <a:ahLst/>
            <a:rect l="l" t="t" r="r" b="b"/>
            <a:pathLst>
              <a:path w="1192" h="770">
                <a:moveTo>
                  <a:pt x="19943" y="4316"/>
                </a:moveTo>
                <a:cubicBezTo>
                  <a:pt x="19881" y="4332"/>
                  <a:pt x="19845" y="4341"/>
                  <a:pt x="19769" y="4341"/>
                </a:cubicBezTo>
                <a:cubicBezTo>
                  <a:pt x="19701" y="4341"/>
                  <a:pt x="19682" y="4344"/>
                  <a:pt x="19645" y="4316"/>
                </a:cubicBezTo>
              </a:path>
              <a:path w="1192" h="770">
                <a:moveTo>
                  <a:pt x="20365" y="3994"/>
                </a:moveTo>
                <a:cubicBezTo>
                  <a:pt x="20342" y="4016"/>
                  <a:pt x="20337" y="4024"/>
                  <a:pt x="20315" y="4018"/>
                </a:cubicBezTo>
                <a:cubicBezTo>
                  <a:pt x="20338" y="3974"/>
                  <a:pt x="20407" y="3954"/>
                  <a:pt x="20464" y="3944"/>
                </a:cubicBezTo>
                <a:cubicBezTo>
                  <a:pt x="20540" y="3931"/>
                  <a:pt x="20595" y="3952"/>
                  <a:pt x="20638" y="4018"/>
                </a:cubicBezTo>
                <a:cubicBezTo>
                  <a:pt x="20683" y="4087"/>
                  <a:pt x="20656" y="4154"/>
                  <a:pt x="20613" y="4217"/>
                </a:cubicBezTo>
                <a:cubicBezTo>
                  <a:pt x="20593" y="4247"/>
                  <a:pt x="20526" y="4274"/>
                  <a:pt x="20538" y="4316"/>
                </a:cubicBezTo>
                <a:cubicBezTo>
                  <a:pt x="20560" y="4392"/>
                  <a:pt x="20680" y="4436"/>
                  <a:pt x="20737" y="4490"/>
                </a:cubicBezTo>
                <a:cubicBezTo>
                  <a:pt x="20792" y="4542"/>
                  <a:pt x="20830" y="4592"/>
                  <a:pt x="20836" y="4663"/>
                </a:cubicBezTo>
                <a:cubicBezTo>
                  <a:pt x="20841" y="4726"/>
                  <a:pt x="20756" y="4725"/>
                  <a:pt x="20712" y="4713"/>
                </a:cubicBezTo>
                <a:cubicBezTo>
                  <a:pt x="20663" y="4699"/>
                  <a:pt x="20609" y="4661"/>
                  <a:pt x="20563" y="4638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88160" y="1509840"/>
            <a:ext cx="98640" cy="79200"/>
          </a:xfrm>
          <a:custGeom>
            <a:avLst/>
            <a:gdLst/>
            <a:ahLst/>
            <a:rect l="l" t="t" r="r" b="b"/>
            <a:pathLst>
              <a:path w="274" h="224">
                <a:moveTo>
                  <a:pt x="21530" y="4217"/>
                </a:moveTo>
                <a:cubicBezTo>
                  <a:pt x="21563" y="4217"/>
                  <a:pt x="21597" y="4217"/>
                  <a:pt x="21630" y="4217"/>
                </a:cubicBezTo>
                <a:cubicBezTo>
                  <a:pt x="21577" y="4204"/>
                  <a:pt x="21544" y="4192"/>
                  <a:pt x="21481" y="4192"/>
                </a:cubicBezTo>
                <a:cubicBezTo>
                  <a:pt x="21448" y="4192"/>
                  <a:pt x="21415" y="4192"/>
                  <a:pt x="21382" y="4192"/>
                </a:cubicBezTo>
              </a:path>
              <a:path w="274" h="224">
                <a:moveTo>
                  <a:pt x="21580" y="4341"/>
                </a:moveTo>
                <a:cubicBezTo>
                  <a:pt x="21597" y="4349"/>
                  <a:pt x="21613" y="4358"/>
                  <a:pt x="21630" y="4366"/>
                </a:cubicBezTo>
                <a:cubicBezTo>
                  <a:pt x="21617" y="4405"/>
                  <a:pt x="21581" y="4412"/>
                  <a:pt x="21530" y="4415"/>
                </a:cubicBezTo>
                <a:cubicBezTo>
                  <a:pt x="21468" y="4419"/>
                  <a:pt x="21421" y="4390"/>
                  <a:pt x="21357" y="4390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055000" y="1571760"/>
            <a:ext cx="115920" cy="17280"/>
          </a:xfrm>
          <a:custGeom>
            <a:avLst/>
            <a:gdLst/>
            <a:ahLst/>
            <a:rect l="l" t="t" r="r" b="b"/>
            <a:pathLst>
              <a:path w="323" h="50">
                <a:moveTo>
                  <a:pt x="22448" y="4390"/>
                </a:moveTo>
                <a:cubicBezTo>
                  <a:pt x="22423" y="4394"/>
                  <a:pt x="22348" y="4415"/>
                  <a:pt x="22399" y="4415"/>
                </a:cubicBezTo>
                <a:cubicBezTo>
                  <a:pt x="22451" y="4415"/>
                  <a:pt x="22491" y="4390"/>
                  <a:pt x="22547" y="4390"/>
                </a:cubicBezTo>
                <a:cubicBezTo>
                  <a:pt x="22608" y="4390"/>
                  <a:pt x="22649" y="4400"/>
                  <a:pt x="22696" y="4366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340840" y="1419120"/>
            <a:ext cx="27000" cy="233640"/>
          </a:xfrm>
          <a:custGeom>
            <a:avLst/>
            <a:gdLst/>
            <a:ahLst/>
            <a:rect l="l" t="t" r="r" b="b"/>
            <a:pathLst>
              <a:path w="75" h="646">
                <a:moveTo>
                  <a:pt x="23217" y="4043"/>
                </a:moveTo>
                <a:cubicBezTo>
                  <a:pt x="23217" y="4014"/>
                  <a:pt x="23227" y="3882"/>
                  <a:pt x="23217" y="3969"/>
                </a:cubicBezTo>
                <a:cubicBezTo>
                  <a:pt x="23202" y="4100"/>
                  <a:pt x="23178" y="4234"/>
                  <a:pt x="23168" y="4366"/>
                </a:cubicBezTo>
                <a:cubicBezTo>
                  <a:pt x="23163" y="4439"/>
                  <a:pt x="23168" y="4515"/>
                  <a:pt x="23168" y="4589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330960" y="1751040"/>
            <a:ext cx="162000" cy="214200"/>
          </a:xfrm>
          <a:custGeom>
            <a:avLst/>
            <a:gdLst/>
            <a:ahLst/>
            <a:rect l="l" t="t" r="r" b="b"/>
            <a:pathLst>
              <a:path w="447" h="596">
                <a:moveTo>
                  <a:pt x="17810" y="4961"/>
                </a:moveTo>
                <a:cubicBezTo>
                  <a:pt x="17879" y="4931"/>
                  <a:pt x="17869" y="4938"/>
                  <a:pt x="17909" y="4887"/>
                </a:cubicBezTo>
                <a:cubicBezTo>
                  <a:pt x="17856" y="4847"/>
                  <a:pt x="17823" y="4859"/>
                  <a:pt x="17760" y="4887"/>
                </a:cubicBezTo>
                <a:cubicBezTo>
                  <a:pt x="17692" y="4917"/>
                  <a:pt x="17617" y="4940"/>
                  <a:pt x="17587" y="5011"/>
                </a:cubicBezTo>
                <a:cubicBezTo>
                  <a:pt x="17570" y="5053"/>
                  <a:pt x="17604" y="5132"/>
                  <a:pt x="17636" y="5159"/>
                </a:cubicBezTo>
                <a:cubicBezTo>
                  <a:pt x="17684" y="5200"/>
                  <a:pt x="17753" y="5231"/>
                  <a:pt x="17810" y="5259"/>
                </a:cubicBezTo>
                <a:cubicBezTo>
                  <a:pt x="17870" y="5289"/>
                  <a:pt x="17902" y="5313"/>
                  <a:pt x="17909" y="5383"/>
                </a:cubicBezTo>
                <a:cubicBezTo>
                  <a:pt x="17914" y="5429"/>
                  <a:pt x="17907" y="5452"/>
                  <a:pt x="17859" y="5457"/>
                </a:cubicBezTo>
                <a:cubicBezTo>
                  <a:pt x="17818" y="5462"/>
                  <a:pt x="17750" y="5459"/>
                  <a:pt x="17735" y="5407"/>
                </a:cubicBezTo>
                <a:cubicBezTo>
                  <a:pt x="17713" y="5332"/>
                  <a:pt x="17764" y="5283"/>
                  <a:pt x="17810" y="5234"/>
                </a:cubicBezTo>
                <a:cubicBezTo>
                  <a:pt x="17875" y="5165"/>
                  <a:pt x="17950" y="5127"/>
                  <a:pt x="18033" y="5085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697800" y="1901880"/>
            <a:ext cx="142560" cy="27000"/>
          </a:xfrm>
          <a:custGeom>
            <a:avLst/>
            <a:gdLst/>
            <a:ahLst/>
            <a:rect l="l" t="t" r="r" b="b"/>
            <a:pathLst>
              <a:path w="397" h="76">
                <a:moveTo>
                  <a:pt x="18628" y="5358"/>
                </a:moveTo>
                <a:cubicBezTo>
                  <a:pt x="18620" y="5358"/>
                  <a:pt x="18612" y="5358"/>
                  <a:pt x="18604" y="5358"/>
                </a:cubicBezTo>
                <a:cubicBezTo>
                  <a:pt x="18620" y="5310"/>
                  <a:pt x="18652" y="5326"/>
                  <a:pt x="18703" y="5308"/>
                </a:cubicBezTo>
                <a:cubicBezTo>
                  <a:pt x="18787" y="5278"/>
                  <a:pt x="18861" y="5283"/>
                  <a:pt x="18951" y="5283"/>
                </a:cubicBezTo>
                <a:cubicBezTo>
                  <a:pt x="18979" y="5283"/>
                  <a:pt x="18990" y="5285"/>
                  <a:pt x="19000" y="5308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000920" y="1758960"/>
            <a:ext cx="88920" cy="233280"/>
          </a:xfrm>
          <a:custGeom>
            <a:avLst/>
            <a:gdLst/>
            <a:ahLst/>
            <a:rect l="l" t="t" r="r" b="b"/>
            <a:pathLst>
              <a:path w="249" h="645">
                <a:moveTo>
                  <a:pt x="19596" y="5060"/>
                </a:moveTo>
                <a:cubicBezTo>
                  <a:pt x="19632" y="5024"/>
                  <a:pt x="19680" y="4981"/>
                  <a:pt x="19695" y="4936"/>
                </a:cubicBezTo>
                <a:cubicBezTo>
                  <a:pt x="19695" y="4911"/>
                  <a:pt x="19695" y="4903"/>
                  <a:pt x="19695" y="4887"/>
                </a:cubicBezTo>
                <a:cubicBezTo>
                  <a:pt x="19631" y="4902"/>
                  <a:pt x="19576" y="4974"/>
                  <a:pt x="19546" y="5035"/>
                </a:cubicBezTo>
                <a:cubicBezTo>
                  <a:pt x="19496" y="5135"/>
                  <a:pt x="19451" y="5220"/>
                  <a:pt x="19447" y="5333"/>
                </a:cubicBezTo>
                <a:cubicBezTo>
                  <a:pt x="19443" y="5433"/>
                  <a:pt x="19464" y="5508"/>
                  <a:pt x="19571" y="5531"/>
                </a:cubicBezTo>
                <a:cubicBezTo>
                  <a:pt x="19655" y="5549"/>
                  <a:pt x="19680" y="5466"/>
                  <a:pt x="19695" y="5407"/>
                </a:cubicBezTo>
                <a:cubicBezTo>
                  <a:pt x="19675" y="5329"/>
                  <a:pt x="19635" y="5376"/>
                  <a:pt x="19571" y="5358"/>
                </a:cubicBezTo>
                <a:cubicBezTo>
                  <a:pt x="19554" y="5350"/>
                  <a:pt x="19538" y="5341"/>
                  <a:pt x="19521" y="5333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634160" y="1839960"/>
            <a:ext cx="73080" cy="61920"/>
          </a:xfrm>
          <a:custGeom>
            <a:avLst/>
            <a:gdLst/>
            <a:ahLst/>
            <a:rect l="l" t="t" r="r" b="b"/>
            <a:pathLst>
              <a:path w="199" h="174">
                <a:moveTo>
                  <a:pt x="21382" y="5184"/>
                </a:moveTo>
                <a:cubicBezTo>
                  <a:pt x="21382" y="5156"/>
                  <a:pt x="21384" y="5146"/>
                  <a:pt x="21406" y="5135"/>
                </a:cubicBezTo>
                <a:cubicBezTo>
                  <a:pt x="21343" y="5135"/>
                  <a:pt x="21309" y="5127"/>
                  <a:pt x="21258" y="5110"/>
                </a:cubicBezTo>
                <a:cubicBezTo>
                  <a:pt x="21250" y="5110"/>
                  <a:pt x="21241" y="5110"/>
                  <a:pt x="21233" y="5110"/>
                </a:cubicBezTo>
              </a:path>
              <a:path w="199" h="174">
                <a:moveTo>
                  <a:pt x="21357" y="5234"/>
                </a:moveTo>
                <a:cubicBezTo>
                  <a:pt x="21379" y="5256"/>
                  <a:pt x="21388" y="5261"/>
                  <a:pt x="21382" y="5283"/>
                </a:cubicBezTo>
                <a:cubicBezTo>
                  <a:pt x="21324" y="5283"/>
                  <a:pt x="21266" y="5283"/>
                  <a:pt x="21208" y="5283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947000" y="1731960"/>
            <a:ext cx="241200" cy="169920"/>
          </a:xfrm>
          <a:custGeom>
            <a:avLst/>
            <a:gdLst/>
            <a:ahLst/>
            <a:rect l="l" t="t" r="r" b="b"/>
            <a:pathLst>
              <a:path w="671" h="472">
                <a:moveTo>
                  <a:pt x="22101" y="4961"/>
                </a:moveTo>
                <a:cubicBezTo>
                  <a:pt x="22094" y="4932"/>
                  <a:pt x="22084" y="4916"/>
                  <a:pt x="22076" y="4887"/>
                </a:cubicBezTo>
                <a:cubicBezTo>
                  <a:pt x="22125" y="4875"/>
                  <a:pt x="22146" y="4822"/>
                  <a:pt x="22200" y="4812"/>
                </a:cubicBezTo>
                <a:cubicBezTo>
                  <a:pt x="22250" y="4803"/>
                  <a:pt x="22383" y="4796"/>
                  <a:pt x="22423" y="4837"/>
                </a:cubicBezTo>
                <a:cubicBezTo>
                  <a:pt x="22495" y="4909"/>
                  <a:pt x="22423" y="5006"/>
                  <a:pt x="22374" y="5060"/>
                </a:cubicBezTo>
                <a:cubicBezTo>
                  <a:pt x="22326" y="5114"/>
                  <a:pt x="22233" y="5143"/>
                  <a:pt x="22200" y="5209"/>
                </a:cubicBezTo>
                <a:cubicBezTo>
                  <a:pt x="22200" y="5234"/>
                  <a:pt x="22200" y="5242"/>
                  <a:pt x="22200" y="5259"/>
                </a:cubicBezTo>
                <a:cubicBezTo>
                  <a:pt x="22254" y="5290"/>
                  <a:pt x="22331" y="5294"/>
                  <a:pt x="22399" y="5283"/>
                </a:cubicBezTo>
                <a:cubicBezTo>
                  <a:pt x="22508" y="5265"/>
                  <a:pt x="22585" y="5234"/>
                  <a:pt x="22696" y="5234"/>
                </a:cubicBezTo>
                <a:cubicBezTo>
                  <a:pt x="22713" y="5234"/>
                  <a:pt x="22729" y="5234"/>
                  <a:pt x="22746" y="5234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438960" y="2098800"/>
            <a:ext cx="1177920" cy="285480"/>
          </a:xfrm>
          <a:custGeom>
            <a:avLst/>
            <a:gdLst/>
            <a:ahLst/>
            <a:rect l="l" t="t" r="r" b="b"/>
            <a:pathLst>
              <a:path w="3275" h="795">
                <a:moveTo>
                  <a:pt x="18182" y="6375"/>
                </a:moveTo>
                <a:cubicBezTo>
                  <a:pt x="18190" y="6375"/>
                  <a:pt x="18199" y="6375"/>
                  <a:pt x="18207" y="6375"/>
                </a:cubicBezTo>
                <a:cubicBezTo>
                  <a:pt x="18153" y="6375"/>
                  <a:pt x="18137" y="6353"/>
                  <a:pt x="18083" y="6350"/>
                </a:cubicBezTo>
                <a:cubicBezTo>
                  <a:pt x="18017" y="6346"/>
                  <a:pt x="17950" y="6350"/>
                  <a:pt x="17884" y="6350"/>
                </a:cubicBezTo>
              </a:path>
              <a:path w="3275" h="795">
                <a:moveTo>
                  <a:pt x="18504" y="6127"/>
                </a:moveTo>
                <a:cubicBezTo>
                  <a:pt x="18529" y="6127"/>
                  <a:pt x="18537" y="6127"/>
                  <a:pt x="18554" y="6127"/>
                </a:cubicBezTo>
                <a:cubicBezTo>
                  <a:pt x="18554" y="6205"/>
                  <a:pt x="18577" y="6271"/>
                  <a:pt x="18579" y="6350"/>
                </a:cubicBezTo>
                <a:cubicBezTo>
                  <a:pt x="18582" y="6447"/>
                  <a:pt x="18554" y="6527"/>
                  <a:pt x="18554" y="6623"/>
                </a:cubicBezTo>
              </a:path>
              <a:path w="3275" h="795">
                <a:moveTo>
                  <a:pt x="18876" y="5953"/>
                </a:moveTo>
                <a:cubicBezTo>
                  <a:pt x="18846" y="5943"/>
                  <a:pt x="18837" y="5934"/>
                  <a:pt x="18827" y="5904"/>
                </a:cubicBezTo>
                <a:cubicBezTo>
                  <a:pt x="18859" y="5880"/>
                  <a:pt x="18909" y="5839"/>
                  <a:pt x="18951" y="5829"/>
                </a:cubicBezTo>
                <a:cubicBezTo>
                  <a:pt x="19012" y="5815"/>
                  <a:pt x="19058" y="5876"/>
                  <a:pt x="19075" y="5928"/>
                </a:cubicBezTo>
                <a:cubicBezTo>
                  <a:pt x="19095" y="5986"/>
                  <a:pt x="19061" y="6037"/>
                  <a:pt x="19025" y="6077"/>
                </a:cubicBezTo>
                <a:cubicBezTo>
                  <a:pt x="19002" y="6100"/>
                  <a:pt x="18994" y="6104"/>
                  <a:pt x="19000" y="6127"/>
                </a:cubicBezTo>
                <a:cubicBezTo>
                  <a:pt x="19035" y="6179"/>
                  <a:pt x="19064" y="6142"/>
                  <a:pt x="19124" y="6127"/>
                </a:cubicBezTo>
                <a:cubicBezTo>
                  <a:pt x="19152" y="6127"/>
                  <a:pt x="19163" y="6125"/>
                  <a:pt x="19174" y="6102"/>
                </a:cubicBezTo>
              </a:path>
              <a:path w="3275" h="795">
                <a:moveTo>
                  <a:pt x="19769" y="6375"/>
                </a:moveTo>
                <a:cubicBezTo>
                  <a:pt x="19828" y="6400"/>
                  <a:pt x="19867" y="6400"/>
                  <a:pt x="19794" y="6400"/>
                </a:cubicBezTo>
                <a:cubicBezTo>
                  <a:pt x="19662" y="6400"/>
                  <a:pt x="19529" y="6400"/>
                  <a:pt x="19397" y="6400"/>
                </a:cubicBezTo>
              </a:path>
              <a:path w="3275" h="795">
                <a:moveTo>
                  <a:pt x="19521" y="6300"/>
                </a:moveTo>
                <a:cubicBezTo>
                  <a:pt x="19544" y="6278"/>
                  <a:pt x="19549" y="6270"/>
                  <a:pt x="19571" y="6276"/>
                </a:cubicBezTo>
                <a:cubicBezTo>
                  <a:pt x="19571" y="6359"/>
                  <a:pt x="19571" y="6441"/>
                  <a:pt x="19571" y="6524"/>
                </a:cubicBezTo>
              </a:path>
              <a:path w="3275" h="795">
                <a:moveTo>
                  <a:pt x="20166" y="6226"/>
                </a:moveTo>
                <a:cubicBezTo>
                  <a:pt x="20166" y="6161"/>
                  <a:pt x="20181" y="6159"/>
                  <a:pt x="20241" y="6127"/>
                </a:cubicBezTo>
                <a:cubicBezTo>
                  <a:pt x="20281" y="6106"/>
                  <a:pt x="20390" y="6039"/>
                  <a:pt x="20439" y="6077"/>
                </a:cubicBezTo>
                <a:cubicBezTo>
                  <a:pt x="20513" y="6134"/>
                  <a:pt x="20490" y="6255"/>
                  <a:pt x="20464" y="6325"/>
                </a:cubicBezTo>
                <a:cubicBezTo>
                  <a:pt x="20442" y="6387"/>
                  <a:pt x="20387" y="6442"/>
                  <a:pt x="20365" y="6499"/>
                </a:cubicBezTo>
                <a:cubicBezTo>
                  <a:pt x="20365" y="6524"/>
                  <a:pt x="20365" y="6532"/>
                  <a:pt x="20365" y="6548"/>
                </a:cubicBezTo>
                <a:cubicBezTo>
                  <a:pt x="20421" y="6548"/>
                  <a:pt x="20461" y="6532"/>
                  <a:pt x="20513" y="6524"/>
                </a:cubicBezTo>
                <a:cubicBezTo>
                  <a:pt x="20591" y="6511"/>
                  <a:pt x="20683" y="6524"/>
                  <a:pt x="20762" y="6524"/>
                </a:cubicBezTo>
              </a:path>
              <a:path w="3275" h="795">
                <a:moveTo>
                  <a:pt x="20935" y="6003"/>
                </a:moveTo>
                <a:cubicBezTo>
                  <a:pt x="20907" y="5965"/>
                  <a:pt x="20910" y="5952"/>
                  <a:pt x="20910" y="5904"/>
                </a:cubicBezTo>
                <a:cubicBezTo>
                  <a:pt x="20946" y="5904"/>
                  <a:pt x="21045" y="5882"/>
                  <a:pt x="21059" y="5928"/>
                </a:cubicBezTo>
                <a:cubicBezTo>
                  <a:pt x="21076" y="5984"/>
                  <a:pt x="21047" y="6035"/>
                  <a:pt x="21034" y="6077"/>
                </a:cubicBezTo>
                <a:cubicBezTo>
                  <a:pt x="21022" y="6118"/>
                  <a:pt x="21023" y="6086"/>
                  <a:pt x="21010" y="6127"/>
                </a:cubicBezTo>
                <a:cubicBezTo>
                  <a:pt x="21069" y="6127"/>
                  <a:pt x="21103" y="6123"/>
                  <a:pt x="21158" y="6102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823160" y="2303640"/>
            <a:ext cx="98640" cy="53640"/>
          </a:xfrm>
          <a:custGeom>
            <a:avLst/>
            <a:gdLst/>
            <a:ahLst/>
            <a:rect l="l" t="t" r="r" b="b"/>
            <a:pathLst>
              <a:path w="274" h="149">
                <a:moveTo>
                  <a:pt x="21977" y="6449"/>
                </a:moveTo>
                <a:cubicBezTo>
                  <a:pt x="21985" y="6449"/>
                  <a:pt x="21994" y="6449"/>
                  <a:pt x="22002" y="6449"/>
                </a:cubicBezTo>
                <a:cubicBezTo>
                  <a:pt x="21993" y="6421"/>
                  <a:pt x="21968" y="6403"/>
                  <a:pt x="21927" y="6400"/>
                </a:cubicBezTo>
                <a:cubicBezTo>
                  <a:pt x="21862" y="6395"/>
                  <a:pt x="21795" y="6400"/>
                  <a:pt x="21729" y="6400"/>
                </a:cubicBezTo>
              </a:path>
              <a:path w="274" h="149">
                <a:moveTo>
                  <a:pt x="21927" y="6499"/>
                </a:moveTo>
                <a:cubicBezTo>
                  <a:pt x="21967" y="6519"/>
                  <a:pt x="21984" y="6517"/>
                  <a:pt x="21977" y="6548"/>
                </a:cubicBezTo>
                <a:cubicBezTo>
                  <a:pt x="21930" y="6548"/>
                  <a:pt x="21916" y="6546"/>
                  <a:pt x="21878" y="6524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205840" y="2152800"/>
            <a:ext cx="287280" cy="231480"/>
          </a:xfrm>
          <a:custGeom>
            <a:avLst/>
            <a:gdLst/>
            <a:ahLst/>
            <a:rect l="l" t="t" r="r" b="b"/>
            <a:pathLst>
              <a:path w="794" h="646">
                <a:moveTo>
                  <a:pt x="22870" y="6375"/>
                </a:moveTo>
                <a:cubicBezTo>
                  <a:pt x="22914" y="6342"/>
                  <a:pt x="22988" y="6329"/>
                  <a:pt x="22994" y="6276"/>
                </a:cubicBezTo>
                <a:cubicBezTo>
                  <a:pt x="22994" y="6268"/>
                  <a:pt x="22994" y="6259"/>
                  <a:pt x="22994" y="6251"/>
                </a:cubicBezTo>
                <a:cubicBezTo>
                  <a:pt x="22946" y="6251"/>
                  <a:pt x="22879" y="6264"/>
                  <a:pt x="22845" y="6300"/>
                </a:cubicBezTo>
                <a:cubicBezTo>
                  <a:pt x="22778" y="6371"/>
                  <a:pt x="22778" y="6488"/>
                  <a:pt x="22820" y="6573"/>
                </a:cubicBezTo>
                <a:cubicBezTo>
                  <a:pt x="22846" y="6626"/>
                  <a:pt x="22944" y="6637"/>
                  <a:pt x="22994" y="6623"/>
                </a:cubicBezTo>
                <a:cubicBezTo>
                  <a:pt x="23050" y="6607"/>
                  <a:pt x="23094" y="6554"/>
                  <a:pt x="23143" y="6524"/>
                </a:cubicBezTo>
              </a:path>
              <a:path w="794" h="646">
                <a:moveTo>
                  <a:pt x="23366" y="6052"/>
                </a:moveTo>
                <a:cubicBezTo>
                  <a:pt x="23358" y="6044"/>
                  <a:pt x="23349" y="6036"/>
                  <a:pt x="23341" y="6028"/>
                </a:cubicBezTo>
                <a:cubicBezTo>
                  <a:pt x="23346" y="6013"/>
                  <a:pt x="23382" y="5962"/>
                  <a:pt x="23416" y="5978"/>
                </a:cubicBezTo>
                <a:cubicBezTo>
                  <a:pt x="23461" y="5998"/>
                  <a:pt x="23440" y="6090"/>
                  <a:pt x="23440" y="6127"/>
                </a:cubicBezTo>
                <a:cubicBezTo>
                  <a:pt x="23440" y="6165"/>
                  <a:pt x="23395" y="6212"/>
                  <a:pt x="23416" y="6251"/>
                </a:cubicBezTo>
                <a:cubicBezTo>
                  <a:pt x="23449" y="6312"/>
                  <a:pt x="23505" y="6300"/>
                  <a:pt x="23564" y="6300"/>
                </a:cubicBezTo>
                <a:cubicBezTo>
                  <a:pt x="23572" y="6300"/>
                  <a:pt x="23581" y="6300"/>
                  <a:pt x="23589" y="6300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62800" y="6170760"/>
            <a:ext cx="1179360" cy="223560"/>
          </a:xfrm>
          <a:custGeom>
            <a:avLst/>
            <a:gdLst/>
            <a:ahLst/>
            <a:rect l="l" t="t" r="r" b="b"/>
            <a:pathLst>
              <a:path w="3276" h="621">
                <a:moveTo>
                  <a:pt x="18430" y="17190"/>
                </a:moveTo>
                <a:cubicBezTo>
                  <a:pt x="18470" y="17180"/>
                  <a:pt x="18469" y="17181"/>
                  <a:pt x="18479" y="17140"/>
                </a:cubicBezTo>
                <a:cubicBezTo>
                  <a:pt x="18395" y="17140"/>
                  <a:pt x="18359" y="17171"/>
                  <a:pt x="18306" y="17239"/>
                </a:cubicBezTo>
                <a:cubicBezTo>
                  <a:pt x="18260" y="17298"/>
                  <a:pt x="18192" y="17430"/>
                  <a:pt x="18231" y="17512"/>
                </a:cubicBezTo>
                <a:cubicBezTo>
                  <a:pt x="18267" y="17587"/>
                  <a:pt x="18357" y="17605"/>
                  <a:pt x="18430" y="17587"/>
                </a:cubicBezTo>
                <a:cubicBezTo>
                  <a:pt x="18480" y="17575"/>
                  <a:pt x="18540" y="17518"/>
                  <a:pt x="18579" y="17487"/>
                </a:cubicBezTo>
              </a:path>
              <a:path w="3276" h="621">
                <a:moveTo>
                  <a:pt x="19025" y="17239"/>
                </a:moveTo>
                <a:cubicBezTo>
                  <a:pt x="19050" y="17239"/>
                  <a:pt x="19058" y="17239"/>
                  <a:pt x="19075" y="17239"/>
                </a:cubicBezTo>
                <a:cubicBezTo>
                  <a:pt x="19023" y="17239"/>
                  <a:pt x="18993" y="17251"/>
                  <a:pt x="18951" y="17264"/>
                </a:cubicBezTo>
                <a:cubicBezTo>
                  <a:pt x="18943" y="17264"/>
                  <a:pt x="18934" y="17264"/>
                  <a:pt x="18926" y="17264"/>
                </a:cubicBezTo>
              </a:path>
              <a:path w="3276" h="621">
                <a:moveTo>
                  <a:pt x="19000" y="17363"/>
                </a:moveTo>
                <a:cubicBezTo>
                  <a:pt x="19045" y="17363"/>
                  <a:pt x="19058" y="17360"/>
                  <a:pt x="19075" y="17388"/>
                </a:cubicBezTo>
                <a:cubicBezTo>
                  <a:pt x="19066" y="17414"/>
                  <a:pt x="19019" y="17452"/>
                  <a:pt x="18976" y="17462"/>
                </a:cubicBezTo>
                <a:cubicBezTo>
                  <a:pt x="18926" y="17462"/>
                  <a:pt x="18909" y="17462"/>
                  <a:pt x="18876" y="17462"/>
                </a:cubicBezTo>
              </a:path>
              <a:path w="3276" h="621">
                <a:moveTo>
                  <a:pt x="19422" y="17289"/>
                </a:moveTo>
                <a:cubicBezTo>
                  <a:pt x="19414" y="17289"/>
                  <a:pt x="19405" y="17289"/>
                  <a:pt x="19397" y="17289"/>
                </a:cubicBezTo>
                <a:cubicBezTo>
                  <a:pt x="19412" y="17228"/>
                  <a:pt x="19448" y="17205"/>
                  <a:pt x="19496" y="17165"/>
                </a:cubicBezTo>
                <a:cubicBezTo>
                  <a:pt x="19544" y="17125"/>
                  <a:pt x="19607" y="17140"/>
                  <a:pt x="19670" y="17140"/>
                </a:cubicBezTo>
                <a:cubicBezTo>
                  <a:pt x="19670" y="17207"/>
                  <a:pt x="19672" y="17251"/>
                  <a:pt x="19645" y="17314"/>
                </a:cubicBezTo>
                <a:cubicBezTo>
                  <a:pt x="19618" y="17377"/>
                  <a:pt x="19580" y="17431"/>
                  <a:pt x="19546" y="17487"/>
                </a:cubicBezTo>
                <a:cubicBezTo>
                  <a:pt x="19526" y="17528"/>
                  <a:pt x="19517" y="17534"/>
                  <a:pt x="19521" y="17562"/>
                </a:cubicBezTo>
                <a:cubicBezTo>
                  <a:pt x="19568" y="17574"/>
                  <a:pt x="19611" y="17603"/>
                  <a:pt x="19670" y="17587"/>
                </a:cubicBezTo>
                <a:cubicBezTo>
                  <a:pt x="19742" y="17567"/>
                  <a:pt x="19790" y="17562"/>
                  <a:pt x="19869" y="17562"/>
                </a:cubicBezTo>
                <a:cubicBezTo>
                  <a:pt x="19885" y="17562"/>
                  <a:pt x="19902" y="17562"/>
                  <a:pt x="19918" y="17562"/>
                </a:cubicBezTo>
              </a:path>
              <a:path w="3276" h="621">
                <a:moveTo>
                  <a:pt x="20042" y="17587"/>
                </a:moveTo>
                <a:cubicBezTo>
                  <a:pt x="20050" y="17587"/>
                  <a:pt x="20059" y="17587"/>
                  <a:pt x="20067" y="17587"/>
                </a:cubicBezTo>
              </a:path>
              <a:path w="3276" h="621">
                <a:moveTo>
                  <a:pt x="20489" y="17363"/>
                </a:moveTo>
                <a:cubicBezTo>
                  <a:pt x="20464" y="17363"/>
                  <a:pt x="20456" y="17363"/>
                  <a:pt x="20464" y="17338"/>
                </a:cubicBezTo>
                <a:cubicBezTo>
                  <a:pt x="20473" y="17312"/>
                  <a:pt x="20487" y="17279"/>
                  <a:pt x="20513" y="17239"/>
                </a:cubicBezTo>
                <a:cubicBezTo>
                  <a:pt x="20533" y="17209"/>
                  <a:pt x="20627" y="17199"/>
                  <a:pt x="20662" y="17214"/>
                </a:cubicBezTo>
                <a:cubicBezTo>
                  <a:pt x="20726" y="17241"/>
                  <a:pt x="20724" y="17332"/>
                  <a:pt x="20712" y="17388"/>
                </a:cubicBezTo>
                <a:cubicBezTo>
                  <a:pt x="20697" y="17457"/>
                  <a:pt x="20654" y="17552"/>
                  <a:pt x="20613" y="17611"/>
                </a:cubicBezTo>
                <a:cubicBezTo>
                  <a:pt x="20588" y="17647"/>
                  <a:pt x="20588" y="17641"/>
                  <a:pt x="20588" y="17686"/>
                </a:cubicBezTo>
                <a:cubicBezTo>
                  <a:pt x="20664" y="17686"/>
                  <a:pt x="20669" y="17652"/>
                  <a:pt x="20737" y="17636"/>
                </a:cubicBezTo>
                <a:cubicBezTo>
                  <a:pt x="20799" y="17621"/>
                  <a:pt x="20861" y="17648"/>
                  <a:pt x="20886" y="17661"/>
                </a:cubicBezTo>
                <a:cubicBezTo>
                  <a:pt x="20894" y="17661"/>
                  <a:pt x="20902" y="17661"/>
                  <a:pt x="20910" y="17661"/>
                </a:cubicBezTo>
              </a:path>
              <a:path w="3276" h="621">
                <a:moveTo>
                  <a:pt x="21084" y="17314"/>
                </a:moveTo>
                <a:cubicBezTo>
                  <a:pt x="21051" y="17270"/>
                  <a:pt x="21060" y="17271"/>
                  <a:pt x="21084" y="17239"/>
                </a:cubicBezTo>
                <a:cubicBezTo>
                  <a:pt x="21129" y="17180"/>
                  <a:pt x="21193" y="17190"/>
                  <a:pt x="21258" y="17190"/>
                </a:cubicBezTo>
                <a:cubicBezTo>
                  <a:pt x="21341" y="17190"/>
                  <a:pt x="21375" y="17210"/>
                  <a:pt x="21382" y="17289"/>
                </a:cubicBezTo>
                <a:cubicBezTo>
                  <a:pt x="21387" y="17352"/>
                  <a:pt x="21336" y="17369"/>
                  <a:pt x="21307" y="17413"/>
                </a:cubicBezTo>
                <a:cubicBezTo>
                  <a:pt x="21284" y="17448"/>
                  <a:pt x="21267" y="17476"/>
                  <a:pt x="21258" y="17512"/>
                </a:cubicBezTo>
                <a:cubicBezTo>
                  <a:pt x="21304" y="17550"/>
                  <a:pt x="21353" y="17583"/>
                  <a:pt x="21406" y="17611"/>
                </a:cubicBezTo>
                <a:cubicBezTo>
                  <a:pt x="21429" y="17623"/>
                  <a:pt x="21526" y="17667"/>
                  <a:pt x="21506" y="17711"/>
                </a:cubicBezTo>
                <a:cubicBezTo>
                  <a:pt x="21486" y="17754"/>
                  <a:pt x="21446" y="17760"/>
                  <a:pt x="21406" y="17760"/>
                </a:cubicBezTo>
                <a:cubicBezTo>
                  <a:pt x="21357" y="17760"/>
                  <a:pt x="21307" y="17760"/>
                  <a:pt x="21258" y="17760"/>
                </a:cubicBezTo>
              </a:path>
              <a:path w="3276" h="621">
                <a:moveTo>
                  <a:pt x="20216" y="17438"/>
                </a:moveTo>
                <a:cubicBezTo>
                  <a:pt x="20216" y="17463"/>
                  <a:pt x="20216" y="17487"/>
                  <a:pt x="20216" y="17512"/>
                </a:cubicBezTo>
                <a:cubicBezTo>
                  <a:pt x="20216" y="17487"/>
                  <a:pt x="20216" y="17479"/>
                  <a:pt x="20241" y="17487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.O. Revise for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down the equations of these 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395280" y="2565360"/>
            <a:ext cx="2160720" cy="4292640"/>
            <a:chOff x="395280" y="2565360"/>
            <a:chExt cx="2160720" cy="4292640"/>
          </a:xfrm>
        </p:grpSpPr>
        <p:sp>
          <p:nvSpPr>
            <p:cNvPr id="112" name=""/>
            <p:cNvSpPr/>
            <p:nvPr/>
          </p:nvSpPr>
          <p:spPr>
            <a:xfrm>
              <a:off x="39528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2692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26036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69236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69056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12256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55600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987640" y="2565360"/>
            <a:ext cx="0" cy="429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19640" y="2565360"/>
            <a:ext cx="0" cy="429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51280" y="2565360"/>
            <a:ext cx="0" cy="429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284720" y="2565360"/>
            <a:ext cx="4319640" cy="4292640"/>
            <a:chOff x="4284720" y="2565360"/>
            <a:chExt cx="4319640" cy="4292640"/>
          </a:xfrm>
        </p:grpSpPr>
        <p:sp>
          <p:nvSpPr>
            <p:cNvPr id="123" name=""/>
            <p:cNvSpPr/>
            <p:nvPr/>
          </p:nvSpPr>
          <p:spPr>
            <a:xfrm>
              <a:off x="428472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71636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71492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14656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58000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1200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71492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4836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58000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01200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44364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87708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30872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30728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73892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17236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60436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0" y="2565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2997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3860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4292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157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5589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6021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6453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2987640" y="2565360"/>
            <a:ext cx="0" cy="4292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5157720"/>
            <a:ext cx="5940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12000" y="2421000"/>
            <a:ext cx="3132000" cy="443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258920" y="2997360"/>
            <a:ext cx="3887640" cy="386064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1692360" y="2565360"/>
            <a:ext cx="2158920" cy="429264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826920" y="2577600"/>
            <a:ext cx="0" cy="428004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6021360"/>
            <a:ext cx="558000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" y="2997360"/>
            <a:ext cx="5122800" cy="259236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42960" y="2276640"/>
            <a:ext cx="152280" cy="268200"/>
          </a:xfrm>
          <a:custGeom>
            <a:avLst/>
            <a:gdLst/>
            <a:ahLst/>
            <a:rect l="l" t="t" r="r" b="b"/>
            <a:pathLst>
              <a:path w="423" h="745">
                <a:moveTo>
                  <a:pt x="1786" y="6896"/>
                </a:moveTo>
                <a:cubicBezTo>
                  <a:pt x="1786" y="6946"/>
                  <a:pt x="1786" y="6995"/>
                  <a:pt x="1786" y="7045"/>
                </a:cubicBezTo>
                <a:cubicBezTo>
                  <a:pt x="1822" y="6985"/>
                  <a:pt x="1839" y="6895"/>
                  <a:pt x="1860" y="6821"/>
                </a:cubicBezTo>
                <a:cubicBezTo>
                  <a:pt x="1898" y="6683"/>
                  <a:pt x="1936" y="6558"/>
                  <a:pt x="1984" y="6424"/>
                </a:cubicBezTo>
                <a:cubicBezTo>
                  <a:pt x="2004" y="6364"/>
                  <a:pt x="2003" y="6349"/>
                  <a:pt x="2034" y="6325"/>
                </a:cubicBezTo>
                <a:cubicBezTo>
                  <a:pt x="2098" y="6406"/>
                  <a:pt x="2105" y="6470"/>
                  <a:pt x="2108" y="6573"/>
                </a:cubicBezTo>
                <a:cubicBezTo>
                  <a:pt x="2112" y="6709"/>
                  <a:pt x="2128" y="6836"/>
                  <a:pt x="2133" y="6970"/>
                </a:cubicBezTo>
                <a:cubicBezTo>
                  <a:pt x="2133" y="7020"/>
                  <a:pt x="2133" y="7036"/>
                  <a:pt x="2133" y="7069"/>
                </a:cubicBezTo>
              </a:path>
              <a:path w="423" h="745">
                <a:moveTo>
                  <a:pt x="2208" y="6846"/>
                </a:moveTo>
                <a:cubicBezTo>
                  <a:pt x="2162" y="6766"/>
                  <a:pt x="2151" y="6772"/>
                  <a:pt x="2059" y="6772"/>
                </a:cubicBezTo>
                <a:cubicBezTo>
                  <a:pt x="1991" y="6772"/>
                  <a:pt x="1972" y="6769"/>
                  <a:pt x="1935" y="6796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054320" y="2313000"/>
            <a:ext cx="187560" cy="303120"/>
          </a:xfrm>
          <a:custGeom>
            <a:avLst/>
            <a:gdLst/>
            <a:ahLst/>
            <a:rect l="l" t="t" r="r" b="b"/>
            <a:pathLst>
              <a:path w="522" h="845">
                <a:moveTo>
                  <a:pt x="11286" y="6747"/>
                </a:moveTo>
                <a:cubicBezTo>
                  <a:pt x="11286" y="6706"/>
                  <a:pt x="11286" y="6664"/>
                  <a:pt x="11286" y="6623"/>
                </a:cubicBezTo>
                <a:cubicBezTo>
                  <a:pt x="11240" y="6683"/>
                  <a:pt x="11261" y="6769"/>
                  <a:pt x="11261" y="6846"/>
                </a:cubicBezTo>
                <a:cubicBezTo>
                  <a:pt x="11261" y="6972"/>
                  <a:pt x="11286" y="7091"/>
                  <a:pt x="11286" y="7218"/>
                </a:cubicBezTo>
                <a:cubicBezTo>
                  <a:pt x="11286" y="7260"/>
                  <a:pt x="11278" y="7276"/>
                  <a:pt x="11311" y="7268"/>
                </a:cubicBezTo>
              </a:path>
              <a:path w="522" h="845">
                <a:moveTo>
                  <a:pt x="11336" y="6772"/>
                </a:moveTo>
                <a:cubicBezTo>
                  <a:pt x="11336" y="6684"/>
                  <a:pt x="11324" y="6604"/>
                  <a:pt x="11361" y="6524"/>
                </a:cubicBezTo>
                <a:cubicBezTo>
                  <a:pt x="11395" y="6450"/>
                  <a:pt x="11475" y="6411"/>
                  <a:pt x="11559" y="6424"/>
                </a:cubicBezTo>
                <a:cubicBezTo>
                  <a:pt x="11624" y="6434"/>
                  <a:pt x="11737" y="6519"/>
                  <a:pt x="11733" y="6598"/>
                </a:cubicBezTo>
                <a:cubicBezTo>
                  <a:pt x="11728" y="6691"/>
                  <a:pt x="11617" y="6746"/>
                  <a:pt x="11559" y="6796"/>
                </a:cubicBezTo>
                <a:cubicBezTo>
                  <a:pt x="11515" y="6834"/>
                  <a:pt x="11476" y="6880"/>
                  <a:pt x="11435" y="6921"/>
                </a:cubicBezTo>
                <a:cubicBezTo>
                  <a:pt x="11501" y="7034"/>
                  <a:pt x="11542" y="6996"/>
                  <a:pt x="11658" y="7020"/>
                </a:cubicBezTo>
                <a:cubicBezTo>
                  <a:pt x="11718" y="7032"/>
                  <a:pt x="11800" y="7068"/>
                  <a:pt x="11782" y="7144"/>
                </a:cubicBezTo>
                <a:cubicBezTo>
                  <a:pt x="11758" y="7247"/>
                  <a:pt x="11665" y="7218"/>
                  <a:pt x="11584" y="7218"/>
                </a:cubicBezTo>
                <a:cubicBezTo>
                  <a:pt x="11559" y="7218"/>
                  <a:pt x="11534" y="7218"/>
                  <a:pt x="11509" y="7218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21040" y="2705040"/>
            <a:ext cx="411120" cy="743040"/>
          </a:xfrm>
          <a:custGeom>
            <a:avLst/>
            <a:gdLst/>
            <a:ahLst/>
            <a:rect l="l" t="t" r="r" b="b"/>
            <a:pathLst>
              <a:path w="1142" h="2060">
                <a:moveTo>
                  <a:pt x="10666" y="9575"/>
                </a:moveTo>
                <a:cubicBezTo>
                  <a:pt x="10708" y="9575"/>
                  <a:pt x="10724" y="9583"/>
                  <a:pt x="10716" y="9550"/>
                </a:cubicBezTo>
              </a:path>
              <a:path w="1142" h="2060">
                <a:moveTo>
                  <a:pt x="10691" y="9426"/>
                </a:moveTo>
                <a:cubicBezTo>
                  <a:pt x="10691" y="9401"/>
                  <a:pt x="10691" y="9393"/>
                  <a:pt x="10691" y="9376"/>
                </a:cubicBezTo>
              </a:path>
              <a:path w="1142" h="2060">
                <a:moveTo>
                  <a:pt x="10691" y="9252"/>
                </a:moveTo>
                <a:cubicBezTo>
                  <a:pt x="10691" y="9212"/>
                  <a:pt x="10716" y="9233"/>
                  <a:pt x="10716" y="9178"/>
                </a:cubicBezTo>
              </a:path>
              <a:path w="1142" h="2060">
                <a:moveTo>
                  <a:pt x="10691" y="9054"/>
                </a:moveTo>
                <a:cubicBezTo>
                  <a:pt x="10691" y="9029"/>
                  <a:pt x="10691" y="9021"/>
                  <a:pt x="10691" y="9004"/>
                </a:cubicBezTo>
              </a:path>
              <a:path w="1142" h="2060">
                <a:moveTo>
                  <a:pt x="10691" y="8880"/>
                </a:moveTo>
                <a:cubicBezTo>
                  <a:pt x="10691" y="8839"/>
                  <a:pt x="10691" y="8797"/>
                  <a:pt x="10691" y="8756"/>
                </a:cubicBezTo>
              </a:path>
              <a:path w="1142" h="2060">
                <a:moveTo>
                  <a:pt x="10691" y="8607"/>
                </a:moveTo>
                <a:cubicBezTo>
                  <a:pt x="10691" y="8582"/>
                  <a:pt x="10691" y="8574"/>
                  <a:pt x="10691" y="8558"/>
                </a:cubicBezTo>
              </a:path>
              <a:path w="1142" h="2060">
                <a:moveTo>
                  <a:pt x="10691" y="8359"/>
                </a:moveTo>
                <a:cubicBezTo>
                  <a:pt x="10691" y="8334"/>
                  <a:pt x="10691" y="8310"/>
                  <a:pt x="10691" y="8285"/>
                </a:cubicBezTo>
              </a:path>
              <a:path w="1142" h="2060">
                <a:moveTo>
                  <a:pt x="10691" y="8161"/>
                </a:moveTo>
                <a:cubicBezTo>
                  <a:pt x="10691" y="8136"/>
                  <a:pt x="10691" y="8128"/>
                  <a:pt x="10691" y="8111"/>
                </a:cubicBezTo>
              </a:path>
              <a:path w="1142" h="2060">
                <a:moveTo>
                  <a:pt x="10666" y="7962"/>
                </a:moveTo>
                <a:cubicBezTo>
                  <a:pt x="10666" y="7937"/>
                  <a:pt x="10666" y="7913"/>
                  <a:pt x="10666" y="7888"/>
                </a:cubicBezTo>
              </a:path>
              <a:path w="1142" h="2060">
                <a:moveTo>
                  <a:pt x="10641" y="7689"/>
                </a:moveTo>
                <a:cubicBezTo>
                  <a:pt x="10622" y="7626"/>
                  <a:pt x="10616" y="7601"/>
                  <a:pt x="10616" y="7541"/>
                </a:cubicBezTo>
                <a:cubicBezTo>
                  <a:pt x="10616" y="7533"/>
                  <a:pt x="10616" y="7524"/>
                  <a:pt x="10616" y="7516"/>
                </a:cubicBezTo>
              </a:path>
              <a:path w="1142" h="2060">
                <a:moveTo>
                  <a:pt x="11212" y="8434"/>
                </a:moveTo>
                <a:cubicBezTo>
                  <a:pt x="11189" y="8456"/>
                  <a:pt x="11184" y="8464"/>
                  <a:pt x="11162" y="8458"/>
                </a:cubicBezTo>
                <a:cubicBezTo>
                  <a:pt x="11162" y="8422"/>
                  <a:pt x="11169" y="8385"/>
                  <a:pt x="11187" y="8359"/>
                </a:cubicBezTo>
                <a:cubicBezTo>
                  <a:pt x="11227" y="8299"/>
                  <a:pt x="11294" y="8271"/>
                  <a:pt x="11361" y="8260"/>
                </a:cubicBezTo>
                <a:cubicBezTo>
                  <a:pt x="11444" y="8246"/>
                  <a:pt x="11435" y="8299"/>
                  <a:pt x="11435" y="8359"/>
                </a:cubicBezTo>
                <a:cubicBezTo>
                  <a:pt x="11435" y="8433"/>
                  <a:pt x="11394" y="8492"/>
                  <a:pt x="11361" y="8558"/>
                </a:cubicBezTo>
                <a:cubicBezTo>
                  <a:pt x="11337" y="8605"/>
                  <a:pt x="11336" y="8610"/>
                  <a:pt x="11336" y="8657"/>
                </a:cubicBezTo>
                <a:cubicBezTo>
                  <a:pt x="11410" y="8657"/>
                  <a:pt x="11465" y="8637"/>
                  <a:pt x="11534" y="8607"/>
                </a:cubicBezTo>
                <a:cubicBezTo>
                  <a:pt x="11609" y="8575"/>
                  <a:pt x="11678" y="8543"/>
                  <a:pt x="11757" y="8533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98920" y="3517920"/>
            <a:ext cx="17280" cy="90360"/>
          </a:xfrm>
          <a:custGeom>
            <a:avLst/>
            <a:gdLst/>
            <a:ahLst/>
            <a:rect l="l" t="t" r="r" b="b"/>
            <a:pathLst>
              <a:path w="51" h="249">
                <a:moveTo>
                  <a:pt x="10046" y="9773"/>
                </a:moveTo>
                <a:cubicBezTo>
                  <a:pt x="10038" y="9773"/>
                  <a:pt x="10029" y="9773"/>
                  <a:pt x="10021" y="9773"/>
                </a:cubicBezTo>
                <a:cubicBezTo>
                  <a:pt x="10021" y="9820"/>
                  <a:pt x="9999" y="9852"/>
                  <a:pt x="9996" y="9897"/>
                </a:cubicBezTo>
                <a:cubicBezTo>
                  <a:pt x="9993" y="9938"/>
                  <a:pt x="9996" y="9980"/>
                  <a:pt x="9996" y="10021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303880" y="2820960"/>
            <a:ext cx="214200" cy="260280"/>
          </a:xfrm>
          <a:custGeom>
            <a:avLst/>
            <a:gdLst/>
            <a:ahLst/>
            <a:rect l="l" t="t" r="r" b="b"/>
            <a:pathLst>
              <a:path w="596" h="721">
                <a:moveTo>
                  <a:pt x="14784" y="8136"/>
                </a:moveTo>
                <a:cubicBezTo>
                  <a:pt x="14838" y="8073"/>
                  <a:pt x="14868" y="8035"/>
                  <a:pt x="14932" y="7987"/>
                </a:cubicBezTo>
                <a:cubicBezTo>
                  <a:pt x="14967" y="7961"/>
                  <a:pt x="15017" y="7906"/>
                  <a:pt x="15056" y="7888"/>
                </a:cubicBezTo>
                <a:cubicBezTo>
                  <a:pt x="15081" y="7888"/>
                  <a:pt x="15089" y="7888"/>
                  <a:pt x="15081" y="7863"/>
                </a:cubicBezTo>
                <a:cubicBezTo>
                  <a:pt x="15018" y="7816"/>
                  <a:pt x="14939" y="7857"/>
                  <a:pt x="14883" y="7913"/>
                </a:cubicBezTo>
                <a:cubicBezTo>
                  <a:pt x="14772" y="8024"/>
                  <a:pt x="14706" y="8181"/>
                  <a:pt x="14759" y="8334"/>
                </a:cubicBezTo>
                <a:cubicBezTo>
                  <a:pt x="14795" y="8437"/>
                  <a:pt x="14927" y="8538"/>
                  <a:pt x="15032" y="8558"/>
                </a:cubicBezTo>
                <a:cubicBezTo>
                  <a:pt x="15139" y="8578"/>
                  <a:pt x="15244" y="8508"/>
                  <a:pt x="15329" y="8458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680080" y="5357880"/>
            <a:ext cx="150840" cy="223920"/>
          </a:xfrm>
          <a:custGeom>
            <a:avLst/>
            <a:gdLst/>
            <a:ahLst/>
            <a:rect l="l" t="t" r="r" b="b"/>
            <a:pathLst>
              <a:path w="422" h="621">
                <a:moveTo>
                  <a:pt x="15850" y="14982"/>
                </a:moveTo>
                <a:cubicBezTo>
                  <a:pt x="15831" y="14925"/>
                  <a:pt x="15822" y="14918"/>
                  <a:pt x="15825" y="14883"/>
                </a:cubicBezTo>
                <a:cubicBezTo>
                  <a:pt x="15825" y="14994"/>
                  <a:pt x="15810" y="15097"/>
                  <a:pt x="15801" y="15205"/>
                </a:cubicBezTo>
                <a:cubicBezTo>
                  <a:pt x="15795" y="15279"/>
                  <a:pt x="15801" y="15355"/>
                  <a:pt x="15801" y="15429"/>
                </a:cubicBezTo>
              </a:path>
              <a:path w="422" h="621">
                <a:moveTo>
                  <a:pt x="15776" y="15156"/>
                </a:moveTo>
                <a:cubicBezTo>
                  <a:pt x="15806" y="15055"/>
                  <a:pt x="15854" y="14858"/>
                  <a:pt x="16024" y="14908"/>
                </a:cubicBezTo>
                <a:cubicBezTo>
                  <a:pt x="16160" y="14948"/>
                  <a:pt x="16206" y="15138"/>
                  <a:pt x="16197" y="15255"/>
                </a:cubicBezTo>
                <a:cubicBezTo>
                  <a:pt x="16189" y="15368"/>
                  <a:pt x="16114" y="15481"/>
                  <a:pt x="15999" y="15503"/>
                </a:cubicBezTo>
                <a:cubicBezTo>
                  <a:pt x="15974" y="15503"/>
                  <a:pt x="15950" y="15503"/>
                  <a:pt x="15925" y="15503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769000" y="5867280"/>
            <a:ext cx="214200" cy="268560"/>
          </a:xfrm>
          <a:custGeom>
            <a:avLst/>
            <a:gdLst/>
            <a:ahLst/>
            <a:rect l="l" t="t" r="r" b="b"/>
            <a:pathLst>
              <a:path w="596" h="745">
                <a:moveTo>
                  <a:pt x="16421" y="16396"/>
                </a:moveTo>
                <a:cubicBezTo>
                  <a:pt x="16477" y="16372"/>
                  <a:pt x="16484" y="16358"/>
                  <a:pt x="16520" y="16346"/>
                </a:cubicBezTo>
                <a:cubicBezTo>
                  <a:pt x="16484" y="16319"/>
                  <a:pt x="16446" y="16288"/>
                  <a:pt x="16396" y="16297"/>
                </a:cubicBezTo>
                <a:cubicBezTo>
                  <a:pt x="16297" y="16314"/>
                  <a:pt x="16198" y="16413"/>
                  <a:pt x="16148" y="16495"/>
                </a:cubicBezTo>
                <a:cubicBezTo>
                  <a:pt x="16077" y="16611"/>
                  <a:pt x="16030" y="16706"/>
                  <a:pt x="16024" y="16842"/>
                </a:cubicBezTo>
                <a:cubicBezTo>
                  <a:pt x="16021" y="16904"/>
                  <a:pt x="16015" y="16974"/>
                  <a:pt x="16073" y="17016"/>
                </a:cubicBezTo>
                <a:cubicBezTo>
                  <a:pt x="16152" y="17073"/>
                  <a:pt x="16238" y="17027"/>
                  <a:pt x="16321" y="17016"/>
                </a:cubicBezTo>
                <a:cubicBezTo>
                  <a:pt x="16398" y="17005"/>
                  <a:pt x="16466" y="16991"/>
                  <a:pt x="16545" y="16991"/>
                </a:cubicBezTo>
                <a:cubicBezTo>
                  <a:pt x="16570" y="16991"/>
                  <a:pt x="16594" y="16991"/>
                  <a:pt x="16619" y="16991"/>
                </a:cubicBezTo>
              </a:path>
              <a:path w="596" h="745">
                <a:moveTo>
                  <a:pt x="16545" y="16793"/>
                </a:moveTo>
                <a:cubicBezTo>
                  <a:pt x="16477" y="16735"/>
                  <a:pt x="16481" y="16743"/>
                  <a:pt x="16396" y="16743"/>
                </a:cubicBezTo>
                <a:cubicBezTo>
                  <a:pt x="16321" y="16743"/>
                  <a:pt x="16297" y="16743"/>
                  <a:pt x="16247" y="16743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38360" y="3429000"/>
            <a:ext cx="411480" cy="27000"/>
          </a:xfrm>
          <a:custGeom>
            <a:avLst/>
            <a:gdLst/>
            <a:ahLst/>
            <a:rect l="l" t="t" r="r" b="b"/>
            <a:pathLst>
              <a:path w="1142" h="75">
                <a:moveTo>
                  <a:pt x="9550" y="9525"/>
                </a:moveTo>
                <a:cubicBezTo>
                  <a:pt x="9550" y="9555"/>
                  <a:pt x="9576" y="9567"/>
                  <a:pt x="9599" y="9575"/>
                </a:cubicBezTo>
              </a:path>
              <a:path w="1142" h="75">
                <a:moveTo>
                  <a:pt x="9723" y="9550"/>
                </a:moveTo>
                <a:cubicBezTo>
                  <a:pt x="9753" y="9557"/>
                  <a:pt x="9768" y="9568"/>
                  <a:pt x="9798" y="9575"/>
                </a:cubicBezTo>
              </a:path>
              <a:path w="1142" h="75">
                <a:moveTo>
                  <a:pt x="9897" y="9575"/>
                </a:moveTo>
                <a:cubicBezTo>
                  <a:pt x="9922" y="9575"/>
                  <a:pt x="9930" y="9575"/>
                  <a:pt x="9947" y="9575"/>
                </a:cubicBezTo>
              </a:path>
              <a:path w="1142" h="75">
                <a:moveTo>
                  <a:pt x="10071" y="9550"/>
                </a:moveTo>
                <a:cubicBezTo>
                  <a:pt x="10099" y="9550"/>
                  <a:pt x="10110" y="9552"/>
                  <a:pt x="10120" y="9575"/>
                </a:cubicBezTo>
              </a:path>
              <a:path w="1142" h="75">
                <a:moveTo>
                  <a:pt x="10071" y="9550"/>
                </a:moveTo>
                <a:cubicBezTo>
                  <a:pt x="10152" y="9565"/>
                  <a:pt x="10195" y="9575"/>
                  <a:pt x="10269" y="9575"/>
                </a:cubicBezTo>
              </a:path>
              <a:path w="1142" h="75">
                <a:moveTo>
                  <a:pt x="10319" y="9575"/>
                </a:moveTo>
                <a:cubicBezTo>
                  <a:pt x="10327" y="9575"/>
                  <a:pt x="10336" y="9575"/>
                  <a:pt x="10344" y="9575"/>
                </a:cubicBezTo>
                <a:cubicBezTo>
                  <a:pt x="10356" y="9611"/>
                  <a:pt x="10374" y="9599"/>
                  <a:pt x="10418" y="9599"/>
                </a:cubicBezTo>
              </a:path>
              <a:path w="1142" h="75">
                <a:moveTo>
                  <a:pt x="10492" y="9575"/>
                </a:moveTo>
                <a:cubicBezTo>
                  <a:pt x="10537" y="9575"/>
                  <a:pt x="10552" y="9595"/>
                  <a:pt x="10592" y="9599"/>
                </a:cubicBezTo>
                <a:cubicBezTo>
                  <a:pt x="10600" y="9599"/>
                  <a:pt x="10608" y="9599"/>
                  <a:pt x="10616" y="9599"/>
                </a:cubicBezTo>
              </a:path>
              <a:path w="1142" h="75">
                <a:moveTo>
                  <a:pt x="10666" y="9575"/>
                </a:moveTo>
                <a:cubicBezTo>
                  <a:pt x="10674" y="9575"/>
                  <a:pt x="10683" y="9575"/>
                  <a:pt x="10691" y="9575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160720" y="3463920"/>
            <a:ext cx="527040" cy="573120"/>
          </a:xfrm>
          <a:custGeom>
            <a:avLst/>
            <a:gdLst/>
            <a:ahLst/>
            <a:rect l="l" t="t" r="r" b="b"/>
            <a:pathLst>
              <a:path w="1464" h="1589">
                <a:moveTo>
                  <a:pt x="6003" y="10740"/>
                </a:moveTo>
                <a:cubicBezTo>
                  <a:pt x="6011" y="10740"/>
                  <a:pt x="6020" y="10740"/>
                  <a:pt x="6028" y="10740"/>
                </a:cubicBezTo>
                <a:cubicBezTo>
                  <a:pt x="6040" y="10778"/>
                  <a:pt x="6057" y="10765"/>
                  <a:pt x="6102" y="10765"/>
                </a:cubicBezTo>
                <a:cubicBezTo>
                  <a:pt x="6153" y="10765"/>
                  <a:pt x="6160" y="10754"/>
                  <a:pt x="6201" y="10740"/>
                </a:cubicBezTo>
                <a:cubicBezTo>
                  <a:pt x="6254" y="10722"/>
                  <a:pt x="6344" y="10740"/>
                  <a:pt x="6400" y="10740"/>
                </a:cubicBezTo>
                <a:cubicBezTo>
                  <a:pt x="6412" y="10704"/>
                  <a:pt x="6430" y="10716"/>
                  <a:pt x="6474" y="10716"/>
                </a:cubicBezTo>
                <a:cubicBezTo>
                  <a:pt x="6482" y="10716"/>
                  <a:pt x="6491" y="10716"/>
                  <a:pt x="6499" y="10716"/>
                </a:cubicBezTo>
                <a:cubicBezTo>
                  <a:pt x="6512" y="10752"/>
                  <a:pt x="6529" y="10740"/>
                  <a:pt x="6573" y="10740"/>
                </a:cubicBezTo>
                <a:cubicBezTo>
                  <a:pt x="6581" y="10740"/>
                  <a:pt x="6590" y="10740"/>
                  <a:pt x="6598" y="10740"/>
                </a:cubicBezTo>
                <a:cubicBezTo>
                  <a:pt x="6611" y="10704"/>
                  <a:pt x="6628" y="10716"/>
                  <a:pt x="6672" y="10716"/>
                </a:cubicBezTo>
                <a:cubicBezTo>
                  <a:pt x="6771" y="10716"/>
                  <a:pt x="6871" y="10716"/>
                  <a:pt x="6970" y="10716"/>
                </a:cubicBezTo>
                <a:cubicBezTo>
                  <a:pt x="6983" y="10678"/>
                  <a:pt x="7000" y="10691"/>
                  <a:pt x="7045" y="10691"/>
                </a:cubicBezTo>
                <a:cubicBezTo>
                  <a:pt x="7053" y="10691"/>
                  <a:pt x="7061" y="10691"/>
                  <a:pt x="7069" y="10691"/>
                </a:cubicBezTo>
                <a:cubicBezTo>
                  <a:pt x="7069" y="10733"/>
                  <a:pt x="7079" y="10729"/>
                  <a:pt x="7045" y="10740"/>
                </a:cubicBezTo>
                <a:cubicBezTo>
                  <a:pt x="7045" y="10797"/>
                  <a:pt x="7035" y="10818"/>
                  <a:pt x="7020" y="10864"/>
                </a:cubicBezTo>
                <a:cubicBezTo>
                  <a:pt x="7000" y="10923"/>
                  <a:pt x="7020" y="11025"/>
                  <a:pt x="7020" y="11088"/>
                </a:cubicBezTo>
                <a:cubicBezTo>
                  <a:pt x="7058" y="11100"/>
                  <a:pt x="7045" y="11117"/>
                  <a:pt x="7045" y="11162"/>
                </a:cubicBezTo>
                <a:cubicBezTo>
                  <a:pt x="7045" y="11187"/>
                  <a:pt x="7045" y="11195"/>
                  <a:pt x="7045" y="11212"/>
                </a:cubicBezTo>
              </a:path>
              <a:path w="1464" h="1589">
                <a:moveTo>
                  <a:pt x="6796" y="9971"/>
                </a:moveTo>
                <a:cubicBezTo>
                  <a:pt x="6826" y="9978"/>
                  <a:pt x="6841" y="9989"/>
                  <a:pt x="6871" y="9996"/>
                </a:cubicBezTo>
                <a:cubicBezTo>
                  <a:pt x="6833" y="9983"/>
                  <a:pt x="6850" y="9971"/>
                  <a:pt x="6796" y="9971"/>
                </a:cubicBezTo>
                <a:cubicBezTo>
                  <a:pt x="6736" y="9971"/>
                  <a:pt x="6699" y="9937"/>
                  <a:pt x="6648" y="9922"/>
                </a:cubicBezTo>
                <a:cubicBezTo>
                  <a:pt x="6628" y="9916"/>
                  <a:pt x="6594" y="9922"/>
                  <a:pt x="6573" y="9922"/>
                </a:cubicBezTo>
              </a:path>
              <a:path w="1464" h="1589">
                <a:moveTo>
                  <a:pt x="7243" y="9674"/>
                </a:moveTo>
                <a:cubicBezTo>
                  <a:pt x="7243" y="9649"/>
                  <a:pt x="7243" y="9641"/>
                  <a:pt x="7243" y="9624"/>
                </a:cubicBezTo>
                <a:cubicBezTo>
                  <a:pt x="7243" y="9719"/>
                  <a:pt x="7231" y="9810"/>
                  <a:pt x="7268" y="9897"/>
                </a:cubicBezTo>
              </a:path>
              <a:path w="1464" h="1589">
                <a:moveTo>
                  <a:pt x="7466" y="10021"/>
                </a:moveTo>
                <a:cubicBezTo>
                  <a:pt x="7416" y="10051"/>
                  <a:pt x="7379" y="10046"/>
                  <a:pt x="7317" y="10046"/>
                </a:cubicBezTo>
                <a:cubicBezTo>
                  <a:pt x="7251" y="10046"/>
                  <a:pt x="7185" y="10046"/>
                  <a:pt x="7119" y="10046"/>
                </a:cubicBezTo>
              </a:path>
              <a:path w="1464" h="1589">
                <a:moveTo>
                  <a:pt x="7193" y="10195"/>
                </a:moveTo>
                <a:cubicBezTo>
                  <a:pt x="7211" y="10250"/>
                  <a:pt x="7229" y="10208"/>
                  <a:pt x="7268" y="10195"/>
                </a:cubicBezTo>
                <a:cubicBezTo>
                  <a:pt x="7292" y="10187"/>
                  <a:pt x="7336" y="10153"/>
                  <a:pt x="7367" y="10170"/>
                </a:cubicBezTo>
                <a:cubicBezTo>
                  <a:pt x="7430" y="10205"/>
                  <a:pt x="7369" y="10283"/>
                  <a:pt x="7342" y="10319"/>
                </a:cubicBezTo>
                <a:cubicBezTo>
                  <a:pt x="7309" y="10364"/>
                  <a:pt x="7249" y="10387"/>
                  <a:pt x="7243" y="10443"/>
                </a:cubicBezTo>
                <a:cubicBezTo>
                  <a:pt x="7238" y="10485"/>
                  <a:pt x="7280" y="10505"/>
                  <a:pt x="7317" y="10492"/>
                </a:cubicBezTo>
                <a:cubicBezTo>
                  <a:pt x="7381" y="10470"/>
                  <a:pt x="7376" y="10452"/>
                  <a:pt x="7441" y="10443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911320" y="4160880"/>
            <a:ext cx="482760" cy="162000"/>
          </a:xfrm>
          <a:custGeom>
            <a:avLst/>
            <a:gdLst/>
            <a:ahLst/>
            <a:rect l="l" t="t" r="r" b="b"/>
            <a:pathLst>
              <a:path w="1341" h="447">
                <a:moveTo>
                  <a:pt x="8558" y="11832"/>
                </a:moveTo>
                <a:cubicBezTo>
                  <a:pt x="8581" y="11832"/>
                  <a:pt x="8716" y="11832"/>
                  <a:pt x="8657" y="11832"/>
                </a:cubicBezTo>
                <a:cubicBezTo>
                  <a:pt x="8591" y="11832"/>
                  <a:pt x="8523" y="11859"/>
                  <a:pt x="8458" y="11881"/>
                </a:cubicBezTo>
                <a:cubicBezTo>
                  <a:pt x="8379" y="11907"/>
                  <a:pt x="8293" y="11927"/>
                  <a:pt x="8210" y="11931"/>
                </a:cubicBezTo>
                <a:cubicBezTo>
                  <a:pt x="8169" y="11933"/>
                  <a:pt x="8127" y="11931"/>
                  <a:pt x="8086" y="11931"/>
                </a:cubicBezTo>
              </a:path>
              <a:path w="1341" h="447">
                <a:moveTo>
                  <a:pt x="9004" y="11633"/>
                </a:moveTo>
                <a:cubicBezTo>
                  <a:pt x="8983" y="11593"/>
                  <a:pt x="9002" y="11576"/>
                  <a:pt x="9054" y="11559"/>
                </a:cubicBezTo>
                <a:cubicBezTo>
                  <a:pt x="9091" y="11547"/>
                  <a:pt x="9155" y="11551"/>
                  <a:pt x="9178" y="11584"/>
                </a:cubicBezTo>
                <a:cubicBezTo>
                  <a:pt x="9225" y="11651"/>
                  <a:pt x="9250" y="11731"/>
                  <a:pt x="9203" y="11807"/>
                </a:cubicBezTo>
                <a:cubicBezTo>
                  <a:pt x="9170" y="11861"/>
                  <a:pt x="9118" y="11929"/>
                  <a:pt x="9079" y="11981"/>
                </a:cubicBezTo>
                <a:cubicBezTo>
                  <a:pt x="9071" y="11989"/>
                  <a:pt x="9062" y="11997"/>
                  <a:pt x="9054" y="12005"/>
                </a:cubicBezTo>
                <a:cubicBezTo>
                  <a:pt x="9112" y="12005"/>
                  <a:pt x="9149" y="12005"/>
                  <a:pt x="9203" y="11981"/>
                </a:cubicBezTo>
                <a:cubicBezTo>
                  <a:pt x="9260" y="11956"/>
                  <a:pt x="9316" y="11921"/>
                  <a:pt x="9376" y="11906"/>
                </a:cubicBezTo>
                <a:cubicBezTo>
                  <a:pt x="9416" y="11896"/>
                  <a:pt x="9417" y="11904"/>
                  <a:pt x="9426" y="11931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027240" y="4384800"/>
            <a:ext cx="1143000" cy="911160"/>
          </a:xfrm>
          <a:custGeom>
            <a:avLst/>
            <a:gdLst/>
            <a:ahLst/>
            <a:rect l="l" t="t" r="r" b="b"/>
            <a:pathLst>
              <a:path w="3176" h="2531">
                <a:moveTo>
                  <a:pt x="8409" y="14213"/>
                </a:moveTo>
                <a:cubicBezTo>
                  <a:pt x="8417" y="14213"/>
                  <a:pt x="8426" y="14213"/>
                  <a:pt x="8434" y="14213"/>
                </a:cubicBezTo>
                <a:cubicBezTo>
                  <a:pt x="8452" y="14268"/>
                  <a:pt x="8469" y="14226"/>
                  <a:pt x="8508" y="14213"/>
                </a:cubicBezTo>
                <a:cubicBezTo>
                  <a:pt x="8516" y="14213"/>
                  <a:pt x="8525" y="14213"/>
                  <a:pt x="8533" y="14213"/>
                </a:cubicBezTo>
              </a:path>
              <a:path w="3176" h="2531">
                <a:moveTo>
                  <a:pt x="8607" y="14188"/>
                </a:moveTo>
                <a:cubicBezTo>
                  <a:pt x="8658" y="14181"/>
                  <a:pt x="8680" y="14163"/>
                  <a:pt x="8731" y="14163"/>
                </a:cubicBezTo>
                <a:cubicBezTo>
                  <a:pt x="8739" y="14163"/>
                  <a:pt x="8748" y="14163"/>
                  <a:pt x="8756" y="14163"/>
                </a:cubicBezTo>
              </a:path>
              <a:path w="3176" h="2531">
                <a:moveTo>
                  <a:pt x="8855" y="14114"/>
                </a:moveTo>
                <a:cubicBezTo>
                  <a:pt x="8923" y="14114"/>
                  <a:pt x="8949" y="14121"/>
                  <a:pt x="9004" y="14139"/>
                </a:cubicBezTo>
                <a:cubicBezTo>
                  <a:pt x="9029" y="14139"/>
                  <a:pt x="9037" y="14139"/>
                  <a:pt x="9054" y="14139"/>
                </a:cubicBezTo>
              </a:path>
              <a:path w="3176" h="2531">
                <a:moveTo>
                  <a:pt x="9178" y="14163"/>
                </a:moveTo>
                <a:cubicBezTo>
                  <a:pt x="9244" y="14163"/>
                  <a:pt x="9310" y="14163"/>
                  <a:pt x="9376" y="14163"/>
                </a:cubicBezTo>
              </a:path>
              <a:path w="3176" h="2531">
                <a:moveTo>
                  <a:pt x="9500" y="14139"/>
                </a:moveTo>
                <a:cubicBezTo>
                  <a:pt x="9569" y="14139"/>
                  <a:pt x="9615" y="14146"/>
                  <a:pt x="9674" y="14163"/>
                </a:cubicBezTo>
                <a:cubicBezTo>
                  <a:pt x="9699" y="14163"/>
                  <a:pt x="9707" y="14163"/>
                  <a:pt x="9723" y="14163"/>
                </a:cubicBezTo>
              </a:path>
              <a:path w="3176" h="2531">
                <a:moveTo>
                  <a:pt x="9971" y="14139"/>
                </a:moveTo>
                <a:cubicBezTo>
                  <a:pt x="10032" y="14139"/>
                  <a:pt x="10069" y="14157"/>
                  <a:pt x="10120" y="14163"/>
                </a:cubicBezTo>
                <a:cubicBezTo>
                  <a:pt x="10168" y="14168"/>
                  <a:pt x="10220" y="14163"/>
                  <a:pt x="10269" y="14163"/>
                </a:cubicBezTo>
              </a:path>
              <a:path w="3176" h="2531">
                <a:moveTo>
                  <a:pt x="10492" y="14139"/>
                </a:moveTo>
                <a:cubicBezTo>
                  <a:pt x="10533" y="14139"/>
                  <a:pt x="10504" y="14151"/>
                  <a:pt x="10542" y="14163"/>
                </a:cubicBezTo>
              </a:path>
              <a:path w="3176" h="2531">
                <a:moveTo>
                  <a:pt x="10641" y="14139"/>
                </a:moveTo>
                <a:cubicBezTo>
                  <a:pt x="10641" y="14147"/>
                  <a:pt x="10641" y="14155"/>
                  <a:pt x="10641" y="14163"/>
                </a:cubicBezTo>
                <a:cubicBezTo>
                  <a:pt x="10641" y="14130"/>
                  <a:pt x="10641" y="14097"/>
                  <a:pt x="10641" y="14064"/>
                </a:cubicBezTo>
              </a:path>
              <a:path w="3176" h="2531">
                <a:moveTo>
                  <a:pt x="10641" y="14015"/>
                </a:moveTo>
                <a:lnTo>
                  <a:pt x="10641" y="14015"/>
                </a:lnTo>
                <a:lnTo>
                  <a:pt x="10641" y="14015"/>
                </a:lnTo>
                <a:lnTo>
                  <a:pt x="10641" y="14015"/>
                </a:lnTo>
                <a:lnTo>
                  <a:pt x="10641" y="14015"/>
                </a:lnTo>
                <a:lnTo>
                  <a:pt x="10641" y="14015"/>
                </a:lnTo>
                <a:lnTo>
                  <a:pt x="10641" y="14015"/>
                </a:lnTo>
                <a:lnTo>
                  <a:pt x="10641" y="14015"/>
                </a:lnTo>
                <a:lnTo>
                  <a:pt x="10641" y="14015"/>
                </a:lnTo>
              </a:path>
              <a:path w="3176" h="2531">
                <a:moveTo>
                  <a:pt x="10641" y="13866"/>
                </a:moveTo>
                <a:cubicBezTo>
                  <a:pt x="10641" y="13841"/>
                  <a:pt x="10641" y="13833"/>
                  <a:pt x="10641" y="13816"/>
                </a:cubicBezTo>
              </a:path>
              <a:path w="3176" h="2531">
                <a:moveTo>
                  <a:pt x="10616" y="13618"/>
                </a:moveTo>
                <a:cubicBezTo>
                  <a:pt x="10616" y="13593"/>
                  <a:pt x="10616" y="13568"/>
                  <a:pt x="10616" y="13543"/>
                </a:cubicBezTo>
              </a:path>
              <a:path w="3176" h="2531">
                <a:moveTo>
                  <a:pt x="10616" y="13419"/>
                </a:moveTo>
                <a:cubicBezTo>
                  <a:pt x="10594" y="13367"/>
                  <a:pt x="10592" y="13349"/>
                  <a:pt x="10592" y="13295"/>
                </a:cubicBezTo>
              </a:path>
              <a:path w="3176" h="2531">
                <a:moveTo>
                  <a:pt x="10592" y="13146"/>
                </a:moveTo>
                <a:cubicBezTo>
                  <a:pt x="10592" y="13097"/>
                  <a:pt x="10592" y="13047"/>
                  <a:pt x="10592" y="12998"/>
                </a:cubicBezTo>
              </a:path>
              <a:path w="3176" h="2531">
                <a:moveTo>
                  <a:pt x="10592" y="12898"/>
                </a:moveTo>
                <a:cubicBezTo>
                  <a:pt x="10592" y="12865"/>
                  <a:pt x="10592" y="12832"/>
                  <a:pt x="10592" y="12799"/>
                </a:cubicBezTo>
              </a:path>
              <a:path w="3176" h="2531">
                <a:moveTo>
                  <a:pt x="10592" y="12725"/>
                </a:moveTo>
                <a:cubicBezTo>
                  <a:pt x="10592" y="12684"/>
                  <a:pt x="10592" y="12642"/>
                  <a:pt x="10592" y="12601"/>
                </a:cubicBezTo>
              </a:path>
              <a:path w="3176" h="2531">
                <a:moveTo>
                  <a:pt x="10616" y="12502"/>
                </a:moveTo>
                <a:cubicBezTo>
                  <a:pt x="10595" y="12450"/>
                  <a:pt x="10592" y="12431"/>
                  <a:pt x="10592" y="12378"/>
                </a:cubicBezTo>
              </a:path>
              <a:path w="3176" h="2531">
                <a:moveTo>
                  <a:pt x="10592" y="12254"/>
                </a:moveTo>
                <a:cubicBezTo>
                  <a:pt x="10592" y="12212"/>
                  <a:pt x="10592" y="12204"/>
                  <a:pt x="10592" y="12179"/>
                </a:cubicBezTo>
              </a:path>
              <a:path w="3176" h="2531">
                <a:moveTo>
                  <a:pt x="11088" y="12898"/>
                </a:moveTo>
                <a:cubicBezTo>
                  <a:pt x="11081" y="12878"/>
                  <a:pt x="11043" y="12860"/>
                  <a:pt x="11063" y="12824"/>
                </a:cubicBezTo>
                <a:cubicBezTo>
                  <a:pt x="11092" y="12773"/>
                  <a:pt x="11135" y="12754"/>
                  <a:pt x="11187" y="12750"/>
                </a:cubicBezTo>
                <a:cubicBezTo>
                  <a:pt x="11265" y="12744"/>
                  <a:pt x="11275" y="12757"/>
                  <a:pt x="11311" y="12824"/>
                </a:cubicBezTo>
                <a:cubicBezTo>
                  <a:pt x="11351" y="12900"/>
                  <a:pt x="11344" y="12972"/>
                  <a:pt x="11311" y="13047"/>
                </a:cubicBezTo>
                <a:cubicBezTo>
                  <a:pt x="11281" y="13114"/>
                  <a:pt x="11261" y="13147"/>
                  <a:pt x="11261" y="13221"/>
                </a:cubicBezTo>
                <a:cubicBezTo>
                  <a:pt x="11261" y="13249"/>
                  <a:pt x="11263" y="13260"/>
                  <a:pt x="11286" y="13271"/>
                </a:cubicBezTo>
                <a:cubicBezTo>
                  <a:pt x="11342" y="13260"/>
                  <a:pt x="11392" y="13236"/>
                  <a:pt x="11435" y="13196"/>
                </a:cubicBezTo>
                <a:cubicBezTo>
                  <a:pt x="11487" y="13147"/>
                  <a:pt x="11514" y="13135"/>
                  <a:pt x="11584" y="13122"/>
                </a:cubicBezTo>
              </a:path>
              <a:path w="3176" h="2531">
                <a:moveTo>
                  <a:pt x="9401" y="14412"/>
                </a:moveTo>
                <a:cubicBezTo>
                  <a:pt x="9378" y="14434"/>
                  <a:pt x="9370" y="14439"/>
                  <a:pt x="9376" y="14461"/>
                </a:cubicBezTo>
                <a:cubicBezTo>
                  <a:pt x="9376" y="14390"/>
                  <a:pt x="9396" y="14404"/>
                  <a:pt x="9451" y="14362"/>
                </a:cubicBezTo>
                <a:cubicBezTo>
                  <a:pt x="9493" y="14330"/>
                  <a:pt x="9545" y="14318"/>
                  <a:pt x="9550" y="14387"/>
                </a:cubicBezTo>
                <a:cubicBezTo>
                  <a:pt x="9555" y="14459"/>
                  <a:pt x="9529" y="14495"/>
                  <a:pt x="9525" y="14560"/>
                </a:cubicBezTo>
                <a:cubicBezTo>
                  <a:pt x="9522" y="14613"/>
                  <a:pt x="9514" y="14664"/>
                  <a:pt x="9550" y="14684"/>
                </a:cubicBezTo>
                <a:cubicBezTo>
                  <a:pt x="9625" y="14725"/>
                  <a:pt x="9673" y="14709"/>
                  <a:pt x="9748" y="14684"/>
                </a:cubicBezTo>
                <a:cubicBezTo>
                  <a:pt x="9823" y="14660"/>
                  <a:pt x="9848" y="14652"/>
                  <a:pt x="9897" y="14635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19880" y="3062160"/>
            <a:ext cx="144360" cy="243000"/>
          </a:xfrm>
          <a:custGeom>
            <a:avLst/>
            <a:gdLst/>
            <a:ahLst/>
            <a:rect l="l" t="t" r="r" b="b"/>
            <a:pathLst>
              <a:path w="397" h="671">
                <a:moveTo>
                  <a:pt x="17859" y="8930"/>
                </a:moveTo>
                <a:cubicBezTo>
                  <a:pt x="17859" y="8880"/>
                  <a:pt x="17859" y="8831"/>
                  <a:pt x="17859" y="8781"/>
                </a:cubicBezTo>
                <a:cubicBezTo>
                  <a:pt x="17859" y="8894"/>
                  <a:pt x="17855" y="8994"/>
                  <a:pt x="17835" y="9103"/>
                </a:cubicBezTo>
                <a:cubicBezTo>
                  <a:pt x="17835" y="9136"/>
                  <a:pt x="17835" y="9153"/>
                  <a:pt x="17835" y="9178"/>
                </a:cubicBezTo>
              </a:path>
              <a:path w="397" h="671">
                <a:moveTo>
                  <a:pt x="17835" y="8830"/>
                </a:moveTo>
                <a:cubicBezTo>
                  <a:pt x="17835" y="8738"/>
                  <a:pt x="17840" y="8731"/>
                  <a:pt x="17884" y="8657"/>
                </a:cubicBezTo>
                <a:cubicBezTo>
                  <a:pt x="17917" y="8602"/>
                  <a:pt x="17990" y="8527"/>
                  <a:pt x="18058" y="8508"/>
                </a:cubicBezTo>
                <a:cubicBezTo>
                  <a:pt x="18151" y="8482"/>
                  <a:pt x="18177" y="8524"/>
                  <a:pt x="18182" y="8607"/>
                </a:cubicBezTo>
                <a:cubicBezTo>
                  <a:pt x="18187" y="8702"/>
                  <a:pt x="18173" y="8737"/>
                  <a:pt x="18107" y="8806"/>
                </a:cubicBezTo>
                <a:cubicBezTo>
                  <a:pt x="18075" y="8840"/>
                  <a:pt x="17988" y="8886"/>
                  <a:pt x="17983" y="8905"/>
                </a:cubicBezTo>
                <a:cubicBezTo>
                  <a:pt x="17983" y="8913"/>
                  <a:pt x="17983" y="8922"/>
                  <a:pt x="17983" y="8930"/>
                </a:cubicBezTo>
                <a:cubicBezTo>
                  <a:pt x="18036" y="8971"/>
                  <a:pt x="18096" y="8999"/>
                  <a:pt x="18157" y="9029"/>
                </a:cubicBezTo>
                <a:cubicBezTo>
                  <a:pt x="18217" y="9059"/>
                  <a:pt x="18231" y="9065"/>
                  <a:pt x="18231" y="9128"/>
                </a:cubicBezTo>
                <a:cubicBezTo>
                  <a:pt x="18231" y="9164"/>
                  <a:pt x="18171" y="9175"/>
                  <a:pt x="18132" y="9178"/>
                </a:cubicBezTo>
                <a:cubicBezTo>
                  <a:pt x="18076" y="9182"/>
                  <a:pt x="18002" y="9157"/>
                  <a:pt x="17983" y="9128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715080" y="3160800"/>
            <a:ext cx="19080" cy="90360"/>
          </a:xfrm>
          <a:custGeom>
            <a:avLst/>
            <a:gdLst/>
            <a:ahLst/>
            <a:rect l="l" t="t" r="r" b="b"/>
            <a:pathLst>
              <a:path w="51" h="249">
                <a:moveTo>
                  <a:pt x="18653" y="8806"/>
                </a:moveTo>
                <a:cubicBezTo>
                  <a:pt x="18653" y="8798"/>
                  <a:pt x="18653" y="8789"/>
                  <a:pt x="18653" y="8781"/>
                </a:cubicBezTo>
              </a:path>
              <a:path w="51" h="249">
                <a:moveTo>
                  <a:pt x="18653" y="8806"/>
                </a:moveTo>
                <a:cubicBezTo>
                  <a:pt x="18665" y="8870"/>
                  <a:pt x="18697" y="8947"/>
                  <a:pt x="18703" y="9004"/>
                </a:cubicBezTo>
                <a:cubicBezTo>
                  <a:pt x="18703" y="9012"/>
                  <a:pt x="18703" y="9021"/>
                  <a:pt x="18703" y="9029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000920" y="3133800"/>
            <a:ext cx="142920" cy="241200"/>
          </a:xfrm>
          <a:custGeom>
            <a:avLst/>
            <a:gdLst/>
            <a:ahLst/>
            <a:rect l="l" t="t" r="r" b="b"/>
            <a:pathLst>
              <a:path w="398" h="671">
                <a:moveTo>
                  <a:pt x="19447" y="8756"/>
                </a:moveTo>
                <a:cubicBezTo>
                  <a:pt x="19460" y="8716"/>
                  <a:pt x="19459" y="8746"/>
                  <a:pt x="19472" y="8706"/>
                </a:cubicBezTo>
                <a:cubicBezTo>
                  <a:pt x="19472" y="8774"/>
                  <a:pt x="19466" y="8839"/>
                  <a:pt x="19496" y="8905"/>
                </a:cubicBezTo>
                <a:cubicBezTo>
                  <a:pt x="19540" y="8970"/>
                  <a:pt x="19551" y="8984"/>
                  <a:pt x="19571" y="9029"/>
                </a:cubicBezTo>
                <a:cubicBezTo>
                  <a:pt x="19641" y="9012"/>
                  <a:pt x="19640" y="8971"/>
                  <a:pt x="19670" y="8905"/>
                </a:cubicBezTo>
                <a:cubicBezTo>
                  <a:pt x="19692" y="8861"/>
                  <a:pt x="19695" y="8849"/>
                  <a:pt x="19720" y="8830"/>
                </a:cubicBezTo>
                <a:cubicBezTo>
                  <a:pt x="19813" y="8884"/>
                  <a:pt x="19832" y="8969"/>
                  <a:pt x="19844" y="9079"/>
                </a:cubicBezTo>
                <a:cubicBezTo>
                  <a:pt x="19851" y="9145"/>
                  <a:pt x="19867" y="9309"/>
                  <a:pt x="19794" y="9351"/>
                </a:cubicBezTo>
                <a:cubicBezTo>
                  <a:pt x="19705" y="9402"/>
                  <a:pt x="19629" y="9366"/>
                  <a:pt x="19546" y="9327"/>
                </a:cubicBezTo>
                <a:cubicBezTo>
                  <a:pt x="19496" y="9302"/>
                  <a:pt x="19480" y="9294"/>
                  <a:pt x="19472" y="9252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313760" y="3143160"/>
            <a:ext cx="88920" cy="63720"/>
          </a:xfrm>
          <a:custGeom>
            <a:avLst/>
            <a:gdLst/>
            <a:ahLst/>
            <a:rect l="l" t="t" r="r" b="b"/>
            <a:pathLst>
              <a:path w="249" h="175">
                <a:moveTo>
                  <a:pt x="20489" y="8731"/>
                </a:moveTo>
                <a:cubicBezTo>
                  <a:pt x="20497" y="8731"/>
                  <a:pt x="20505" y="8731"/>
                  <a:pt x="20513" y="8731"/>
                </a:cubicBezTo>
                <a:cubicBezTo>
                  <a:pt x="20496" y="8785"/>
                  <a:pt x="20482" y="8732"/>
                  <a:pt x="20439" y="8756"/>
                </a:cubicBezTo>
                <a:cubicBezTo>
                  <a:pt x="20395" y="8780"/>
                  <a:pt x="20368" y="8781"/>
                  <a:pt x="20315" y="8781"/>
                </a:cubicBezTo>
              </a:path>
              <a:path w="249" h="175">
                <a:moveTo>
                  <a:pt x="20563" y="8880"/>
                </a:moveTo>
                <a:cubicBezTo>
                  <a:pt x="20511" y="8880"/>
                  <a:pt x="20491" y="8898"/>
                  <a:pt x="20439" y="8905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732800" y="2982960"/>
            <a:ext cx="920520" cy="268200"/>
          </a:xfrm>
          <a:custGeom>
            <a:avLst/>
            <a:gdLst/>
            <a:ahLst/>
            <a:rect l="l" t="t" r="r" b="b"/>
            <a:pathLst>
              <a:path w="2556" h="745">
                <a:moveTo>
                  <a:pt x="21530" y="8582"/>
                </a:moveTo>
                <a:cubicBezTo>
                  <a:pt x="21502" y="8582"/>
                  <a:pt x="21492" y="8580"/>
                  <a:pt x="21481" y="8558"/>
                </a:cubicBezTo>
                <a:cubicBezTo>
                  <a:pt x="21492" y="8515"/>
                  <a:pt x="21521" y="8491"/>
                  <a:pt x="21555" y="8458"/>
                </a:cubicBezTo>
                <a:cubicBezTo>
                  <a:pt x="21605" y="8409"/>
                  <a:pt x="21649" y="8391"/>
                  <a:pt x="21704" y="8434"/>
                </a:cubicBezTo>
                <a:cubicBezTo>
                  <a:pt x="21741" y="8463"/>
                  <a:pt x="21742" y="8562"/>
                  <a:pt x="21729" y="8607"/>
                </a:cubicBezTo>
                <a:cubicBezTo>
                  <a:pt x="21705" y="8694"/>
                  <a:pt x="21627" y="8750"/>
                  <a:pt x="21605" y="8830"/>
                </a:cubicBezTo>
                <a:cubicBezTo>
                  <a:pt x="21592" y="8875"/>
                  <a:pt x="21603" y="8923"/>
                  <a:pt x="21630" y="8954"/>
                </a:cubicBezTo>
                <a:cubicBezTo>
                  <a:pt x="21656" y="8984"/>
                  <a:pt x="21714" y="8991"/>
                  <a:pt x="21754" y="8979"/>
                </a:cubicBezTo>
                <a:cubicBezTo>
                  <a:pt x="21813" y="8962"/>
                  <a:pt x="21817" y="8930"/>
                  <a:pt x="21878" y="8930"/>
                </a:cubicBezTo>
                <a:cubicBezTo>
                  <a:pt x="21886" y="8930"/>
                  <a:pt x="21895" y="8930"/>
                  <a:pt x="21903" y="8930"/>
                </a:cubicBezTo>
              </a:path>
              <a:path w="2556" h="745">
                <a:moveTo>
                  <a:pt x="22002" y="8756"/>
                </a:moveTo>
                <a:cubicBezTo>
                  <a:pt x="22034" y="8713"/>
                  <a:pt x="22021" y="8706"/>
                  <a:pt x="22076" y="8706"/>
                </a:cubicBezTo>
                <a:cubicBezTo>
                  <a:pt x="22145" y="8706"/>
                  <a:pt x="22164" y="8720"/>
                  <a:pt x="22200" y="8781"/>
                </a:cubicBezTo>
                <a:cubicBezTo>
                  <a:pt x="22234" y="8839"/>
                  <a:pt x="22270" y="8909"/>
                  <a:pt x="22250" y="8979"/>
                </a:cubicBezTo>
                <a:cubicBezTo>
                  <a:pt x="22231" y="9047"/>
                  <a:pt x="22209" y="9029"/>
                  <a:pt x="22151" y="9029"/>
                </a:cubicBezTo>
              </a:path>
              <a:path w="2556" h="745">
                <a:moveTo>
                  <a:pt x="22299" y="8756"/>
                </a:moveTo>
                <a:cubicBezTo>
                  <a:pt x="22341" y="8756"/>
                  <a:pt x="22349" y="8756"/>
                  <a:pt x="22374" y="8756"/>
                </a:cubicBezTo>
                <a:cubicBezTo>
                  <a:pt x="22360" y="8811"/>
                  <a:pt x="22328" y="8816"/>
                  <a:pt x="22324" y="8880"/>
                </a:cubicBezTo>
                <a:cubicBezTo>
                  <a:pt x="22322" y="8920"/>
                  <a:pt x="22352" y="8990"/>
                  <a:pt x="22399" y="9004"/>
                </a:cubicBezTo>
                <a:cubicBezTo>
                  <a:pt x="22443" y="9004"/>
                  <a:pt x="22457" y="9007"/>
                  <a:pt x="22473" y="8979"/>
                </a:cubicBezTo>
              </a:path>
              <a:path w="2556" h="745">
                <a:moveTo>
                  <a:pt x="23044" y="8806"/>
                </a:moveTo>
                <a:cubicBezTo>
                  <a:pt x="23085" y="8806"/>
                  <a:pt x="23093" y="8806"/>
                  <a:pt x="23118" y="8806"/>
                </a:cubicBezTo>
                <a:cubicBezTo>
                  <a:pt x="23092" y="8857"/>
                  <a:pt x="23009" y="8871"/>
                  <a:pt x="22944" y="8880"/>
                </a:cubicBezTo>
                <a:cubicBezTo>
                  <a:pt x="22889" y="8888"/>
                  <a:pt x="22827" y="8880"/>
                  <a:pt x="22771" y="8880"/>
                </a:cubicBezTo>
              </a:path>
              <a:path w="2556" h="745">
                <a:moveTo>
                  <a:pt x="22870" y="8756"/>
                </a:moveTo>
                <a:cubicBezTo>
                  <a:pt x="22951" y="8733"/>
                  <a:pt x="22954" y="8766"/>
                  <a:pt x="22969" y="8855"/>
                </a:cubicBezTo>
                <a:cubicBezTo>
                  <a:pt x="22977" y="8902"/>
                  <a:pt x="22969" y="8956"/>
                  <a:pt x="22969" y="9004"/>
                </a:cubicBezTo>
              </a:path>
              <a:path w="2556" h="745">
                <a:moveTo>
                  <a:pt x="23416" y="8582"/>
                </a:moveTo>
                <a:cubicBezTo>
                  <a:pt x="23403" y="8532"/>
                  <a:pt x="23391" y="8519"/>
                  <a:pt x="23391" y="8458"/>
                </a:cubicBezTo>
                <a:cubicBezTo>
                  <a:pt x="23391" y="8403"/>
                  <a:pt x="23447" y="8359"/>
                  <a:pt x="23490" y="8334"/>
                </a:cubicBezTo>
                <a:cubicBezTo>
                  <a:pt x="23547" y="8301"/>
                  <a:pt x="23628" y="8251"/>
                  <a:pt x="23688" y="8310"/>
                </a:cubicBezTo>
                <a:cubicBezTo>
                  <a:pt x="23775" y="8397"/>
                  <a:pt x="23723" y="8471"/>
                  <a:pt x="23688" y="8558"/>
                </a:cubicBezTo>
                <a:cubicBezTo>
                  <a:pt x="23655" y="8639"/>
                  <a:pt x="23583" y="8721"/>
                  <a:pt x="23564" y="8806"/>
                </a:cubicBezTo>
                <a:cubicBezTo>
                  <a:pt x="23547" y="8883"/>
                  <a:pt x="23655" y="8914"/>
                  <a:pt x="23713" y="8905"/>
                </a:cubicBezTo>
                <a:cubicBezTo>
                  <a:pt x="23815" y="8889"/>
                  <a:pt x="23905" y="8807"/>
                  <a:pt x="23986" y="8756"/>
                </a:cubicBezTo>
                <a:cubicBezTo>
                  <a:pt x="24003" y="8748"/>
                  <a:pt x="24019" y="8739"/>
                  <a:pt x="24036" y="8731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03960" y="2616120"/>
            <a:ext cx="1724040" cy="241560"/>
          </a:xfrm>
          <a:custGeom>
            <a:avLst/>
            <a:gdLst/>
            <a:ahLst/>
            <a:rect l="l" t="t" r="r" b="b"/>
            <a:pathLst>
              <a:path w="4788" h="671">
                <a:moveTo>
                  <a:pt x="17512" y="7764"/>
                </a:moveTo>
                <a:cubicBezTo>
                  <a:pt x="17512" y="7806"/>
                  <a:pt x="17502" y="7802"/>
                  <a:pt x="17537" y="7813"/>
                </a:cubicBezTo>
                <a:cubicBezTo>
                  <a:pt x="17572" y="7767"/>
                  <a:pt x="17602" y="7718"/>
                  <a:pt x="17636" y="7665"/>
                </a:cubicBezTo>
                <a:cubicBezTo>
                  <a:pt x="17714" y="7546"/>
                  <a:pt x="17787" y="7421"/>
                  <a:pt x="17884" y="7317"/>
                </a:cubicBezTo>
                <a:cubicBezTo>
                  <a:pt x="17911" y="7288"/>
                  <a:pt x="17924" y="7277"/>
                  <a:pt x="17959" y="7268"/>
                </a:cubicBezTo>
                <a:cubicBezTo>
                  <a:pt x="17996" y="7332"/>
                  <a:pt x="18006" y="7412"/>
                  <a:pt x="18008" y="7491"/>
                </a:cubicBezTo>
                <a:cubicBezTo>
                  <a:pt x="18013" y="7640"/>
                  <a:pt x="18008" y="7789"/>
                  <a:pt x="18008" y="7938"/>
                </a:cubicBezTo>
              </a:path>
              <a:path w="4788" h="671">
                <a:moveTo>
                  <a:pt x="18058" y="7764"/>
                </a:moveTo>
                <a:cubicBezTo>
                  <a:pt x="18026" y="7660"/>
                  <a:pt x="18023" y="7644"/>
                  <a:pt x="17934" y="7590"/>
                </a:cubicBezTo>
                <a:cubicBezTo>
                  <a:pt x="17871" y="7552"/>
                  <a:pt x="17805" y="7565"/>
                  <a:pt x="17735" y="7565"/>
                </a:cubicBezTo>
              </a:path>
              <a:path w="4788" h="671">
                <a:moveTo>
                  <a:pt x="18628" y="7665"/>
                </a:moveTo>
                <a:cubicBezTo>
                  <a:pt x="18608" y="7624"/>
                  <a:pt x="18611" y="7607"/>
                  <a:pt x="18579" y="7615"/>
                </a:cubicBezTo>
              </a:path>
              <a:path w="4788" h="671">
                <a:moveTo>
                  <a:pt x="18604" y="7789"/>
                </a:moveTo>
                <a:cubicBezTo>
                  <a:pt x="18576" y="7825"/>
                  <a:pt x="18562" y="7824"/>
                  <a:pt x="18604" y="7838"/>
                </a:cubicBezTo>
              </a:path>
              <a:path w="4788" h="671">
                <a:moveTo>
                  <a:pt x="21406" y="7466"/>
                </a:moveTo>
                <a:cubicBezTo>
                  <a:pt x="21361" y="7466"/>
                  <a:pt x="21347" y="7445"/>
                  <a:pt x="21307" y="7441"/>
                </a:cubicBezTo>
                <a:cubicBezTo>
                  <a:pt x="21247" y="7434"/>
                  <a:pt x="21204" y="7456"/>
                  <a:pt x="21158" y="7466"/>
                </a:cubicBezTo>
                <a:cubicBezTo>
                  <a:pt x="21131" y="7472"/>
                  <a:pt x="21088" y="7466"/>
                  <a:pt x="21059" y="7466"/>
                </a:cubicBezTo>
              </a:path>
              <a:path w="4788" h="671">
                <a:moveTo>
                  <a:pt x="21853" y="7392"/>
                </a:moveTo>
                <a:cubicBezTo>
                  <a:pt x="21861" y="7384"/>
                  <a:pt x="21870" y="7375"/>
                  <a:pt x="21878" y="7367"/>
                </a:cubicBezTo>
                <a:cubicBezTo>
                  <a:pt x="21841" y="7376"/>
                  <a:pt x="21790" y="7393"/>
                  <a:pt x="21754" y="7417"/>
                </a:cubicBezTo>
                <a:cubicBezTo>
                  <a:pt x="21703" y="7451"/>
                  <a:pt x="21733" y="7475"/>
                  <a:pt x="21754" y="7491"/>
                </a:cubicBezTo>
                <a:cubicBezTo>
                  <a:pt x="21797" y="7523"/>
                  <a:pt x="21851" y="7539"/>
                  <a:pt x="21903" y="7565"/>
                </a:cubicBezTo>
                <a:cubicBezTo>
                  <a:pt x="21956" y="7591"/>
                  <a:pt x="22007" y="7655"/>
                  <a:pt x="22027" y="7714"/>
                </a:cubicBezTo>
                <a:cubicBezTo>
                  <a:pt x="22044" y="7766"/>
                  <a:pt x="22024" y="7819"/>
                  <a:pt x="22002" y="7838"/>
                </a:cubicBezTo>
                <a:cubicBezTo>
                  <a:pt x="21955" y="7879"/>
                  <a:pt x="21934" y="7864"/>
                  <a:pt x="21878" y="7838"/>
                </a:cubicBezTo>
                <a:cubicBezTo>
                  <a:pt x="21813" y="7807"/>
                  <a:pt x="21754" y="7788"/>
                  <a:pt x="21729" y="7714"/>
                </a:cubicBezTo>
                <a:cubicBezTo>
                  <a:pt x="21723" y="7695"/>
                  <a:pt x="21729" y="7660"/>
                  <a:pt x="21729" y="7640"/>
                </a:cubicBezTo>
              </a:path>
              <a:path w="4788" h="671">
                <a:moveTo>
                  <a:pt x="22275" y="7441"/>
                </a:moveTo>
                <a:cubicBezTo>
                  <a:pt x="22336" y="7441"/>
                  <a:pt x="22196" y="7418"/>
                  <a:pt x="22175" y="7417"/>
                </a:cubicBezTo>
                <a:cubicBezTo>
                  <a:pt x="22097" y="7414"/>
                  <a:pt x="22049" y="7416"/>
                  <a:pt x="21977" y="7392"/>
                </a:cubicBezTo>
              </a:path>
              <a:path w="4788" h="671">
                <a:moveTo>
                  <a:pt x="19348" y="7516"/>
                </a:moveTo>
                <a:cubicBezTo>
                  <a:pt x="19385" y="7486"/>
                  <a:pt x="19427" y="7446"/>
                  <a:pt x="19472" y="7441"/>
                </a:cubicBezTo>
                <a:cubicBezTo>
                  <a:pt x="19531" y="7434"/>
                  <a:pt x="19544" y="7499"/>
                  <a:pt x="19546" y="7541"/>
                </a:cubicBezTo>
                <a:cubicBezTo>
                  <a:pt x="19549" y="7590"/>
                  <a:pt x="19549" y="7641"/>
                  <a:pt x="19496" y="7665"/>
                </a:cubicBezTo>
                <a:cubicBezTo>
                  <a:pt x="19459" y="7682"/>
                  <a:pt x="19365" y="7665"/>
                  <a:pt x="19323" y="7665"/>
                </a:cubicBezTo>
              </a:path>
              <a:path w="4788" h="671">
                <a:moveTo>
                  <a:pt x="19596" y="7491"/>
                </a:moveTo>
                <a:cubicBezTo>
                  <a:pt x="19669" y="7454"/>
                  <a:pt x="19702" y="7466"/>
                  <a:pt x="19695" y="7417"/>
                </a:cubicBezTo>
                <a:cubicBezTo>
                  <a:pt x="19665" y="7441"/>
                  <a:pt x="19583" y="7474"/>
                  <a:pt x="19571" y="7516"/>
                </a:cubicBezTo>
                <a:cubicBezTo>
                  <a:pt x="19556" y="7567"/>
                  <a:pt x="19564" y="7657"/>
                  <a:pt x="19621" y="7665"/>
                </a:cubicBezTo>
                <a:cubicBezTo>
                  <a:pt x="19668" y="7672"/>
                  <a:pt x="19722" y="7665"/>
                  <a:pt x="19769" y="7665"/>
                </a:cubicBezTo>
              </a:path>
              <a:path w="4788" h="671">
                <a:moveTo>
                  <a:pt x="20414" y="7417"/>
                </a:moveTo>
                <a:cubicBezTo>
                  <a:pt x="20431" y="7417"/>
                  <a:pt x="20447" y="7417"/>
                  <a:pt x="20464" y="7417"/>
                </a:cubicBezTo>
                <a:cubicBezTo>
                  <a:pt x="20421" y="7385"/>
                  <a:pt x="20396" y="7372"/>
                  <a:pt x="20340" y="7367"/>
                </a:cubicBezTo>
                <a:cubicBezTo>
                  <a:pt x="20308" y="7364"/>
                  <a:pt x="20274" y="7367"/>
                  <a:pt x="20241" y="7367"/>
                </a:cubicBezTo>
              </a:path>
              <a:path w="4788" h="671">
                <a:moveTo>
                  <a:pt x="20513" y="7516"/>
                </a:moveTo>
                <a:cubicBezTo>
                  <a:pt x="20521" y="7524"/>
                  <a:pt x="20530" y="7533"/>
                  <a:pt x="20538" y="7541"/>
                </a:cubicBezTo>
                <a:cubicBezTo>
                  <a:pt x="20486" y="7541"/>
                  <a:pt x="20464" y="7556"/>
                  <a:pt x="20414" y="7565"/>
                </a:cubicBezTo>
                <a:cubicBezTo>
                  <a:pt x="20368" y="7573"/>
                  <a:pt x="20312" y="7565"/>
                  <a:pt x="20265" y="7565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742080" y="3517920"/>
            <a:ext cx="1536840" cy="1197000"/>
          </a:xfrm>
          <a:custGeom>
            <a:avLst/>
            <a:gdLst/>
            <a:ahLst/>
            <a:rect l="l" t="t" r="r" b="b"/>
            <a:pathLst>
              <a:path w="4267" h="3325">
                <a:moveTo>
                  <a:pt x="19521" y="9996"/>
                </a:moveTo>
                <a:cubicBezTo>
                  <a:pt x="19492" y="9958"/>
                  <a:pt x="19496" y="9945"/>
                  <a:pt x="19496" y="9897"/>
                </a:cubicBezTo>
                <a:cubicBezTo>
                  <a:pt x="19464" y="9952"/>
                  <a:pt x="19472" y="10004"/>
                  <a:pt x="19472" y="10071"/>
                </a:cubicBezTo>
                <a:cubicBezTo>
                  <a:pt x="19472" y="10126"/>
                  <a:pt x="19476" y="10245"/>
                  <a:pt x="19571" y="10220"/>
                </a:cubicBezTo>
                <a:cubicBezTo>
                  <a:pt x="19661" y="10196"/>
                  <a:pt x="19659" y="10075"/>
                  <a:pt x="19720" y="10021"/>
                </a:cubicBezTo>
                <a:cubicBezTo>
                  <a:pt x="19728" y="10021"/>
                  <a:pt x="19737" y="10021"/>
                  <a:pt x="19745" y="10021"/>
                </a:cubicBezTo>
                <a:cubicBezTo>
                  <a:pt x="19838" y="10102"/>
                  <a:pt x="19844" y="10218"/>
                  <a:pt x="19869" y="10344"/>
                </a:cubicBezTo>
                <a:cubicBezTo>
                  <a:pt x="19890" y="10449"/>
                  <a:pt x="19936" y="10596"/>
                  <a:pt x="19819" y="10666"/>
                </a:cubicBezTo>
                <a:cubicBezTo>
                  <a:pt x="19716" y="10727"/>
                  <a:pt x="19597" y="10674"/>
                  <a:pt x="19496" y="10641"/>
                </a:cubicBezTo>
                <a:cubicBezTo>
                  <a:pt x="19471" y="10633"/>
                  <a:pt x="19447" y="10624"/>
                  <a:pt x="19422" y="10616"/>
                </a:cubicBezTo>
              </a:path>
              <a:path w="4267" h="3325">
                <a:moveTo>
                  <a:pt x="20712" y="9971"/>
                </a:moveTo>
                <a:cubicBezTo>
                  <a:pt x="20712" y="9979"/>
                  <a:pt x="20712" y="9988"/>
                  <a:pt x="20712" y="9996"/>
                </a:cubicBezTo>
                <a:cubicBezTo>
                  <a:pt x="20649" y="9996"/>
                  <a:pt x="20622" y="9976"/>
                  <a:pt x="20563" y="9971"/>
                </a:cubicBezTo>
                <a:cubicBezTo>
                  <a:pt x="20523" y="9968"/>
                  <a:pt x="20509" y="9947"/>
                  <a:pt x="20464" y="9947"/>
                </a:cubicBezTo>
              </a:path>
              <a:path w="4267" h="3325">
                <a:moveTo>
                  <a:pt x="20687" y="10096"/>
                </a:moveTo>
                <a:cubicBezTo>
                  <a:pt x="20687" y="10140"/>
                  <a:pt x="20684" y="10154"/>
                  <a:pt x="20712" y="10170"/>
                </a:cubicBezTo>
                <a:cubicBezTo>
                  <a:pt x="20679" y="10195"/>
                  <a:pt x="20635" y="10209"/>
                  <a:pt x="20588" y="10195"/>
                </a:cubicBezTo>
                <a:cubicBezTo>
                  <a:pt x="20544" y="10173"/>
                  <a:pt x="20532" y="10170"/>
                  <a:pt x="20513" y="10145"/>
                </a:cubicBezTo>
              </a:path>
              <a:path w="4267" h="3325">
                <a:moveTo>
                  <a:pt x="21506" y="9773"/>
                </a:moveTo>
                <a:cubicBezTo>
                  <a:pt x="21479" y="9809"/>
                  <a:pt x="21448" y="9823"/>
                  <a:pt x="21481" y="9823"/>
                </a:cubicBezTo>
                <a:cubicBezTo>
                  <a:pt x="21542" y="9823"/>
                  <a:pt x="21656" y="9800"/>
                  <a:pt x="21704" y="9847"/>
                </a:cubicBezTo>
                <a:cubicBezTo>
                  <a:pt x="21751" y="9893"/>
                  <a:pt x="21789" y="10009"/>
                  <a:pt x="21779" y="10071"/>
                </a:cubicBezTo>
                <a:cubicBezTo>
                  <a:pt x="21766" y="10153"/>
                  <a:pt x="21729" y="10191"/>
                  <a:pt x="21654" y="10195"/>
                </a:cubicBezTo>
                <a:cubicBezTo>
                  <a:pt x="21553" y="10201"/>
                  <a:pt x="21526" y="10145"/>
                  <a:pt x="21456" y="10096"/>
                </a:cubicBezTo>
              </a:path>
              <a:path w="4267" h="3325">
                <a:moveTo>
                  <a:pt x="21952" y="9872"/>
                </a:moveTo>
                <a:cubicBezTo>
                  <a:pt x="22022" y="9803"/>
                  <a:pt x="22020" y="9762"/>
                  <a:pt x="21952" y="9823"/>
                </a:cubicBezTo>
                <a:cubicBezTo>
                  <a:pt x="21909" y="9862"/>
                  <a:pt x="21842" y="9932"/>
                  <a:pt x="21828" y="9996"/>
                </a:cubicBezTo>
                <a:cubicBezTo>
                  <a:pt x="21814" y="10060"/>
                  <a:pt x="21872" y="10142"/>
                  <a:pt x="21927" y="10170"/>
                </a:cubicBezTo>
                <a:cubicBezTo>
                  <a:pt x="22004" y="10209"/>
                  <a:pt x="22092" y="10195"/>
                  <a:pt x="22175" y="10195"/>
                </a:cubicBezTo>
                <a:cubicBezTo>
                  <a:pt x="22192" y="10195"/>
                  <a:pt x="22208" y="10195"/>
                  <a:pt x="22225" y="10195"/>
                </a:cubicBezTo>
              </a:path>
              <a:path w="4267" h="3325">
                <a:moveTo>
                  <a:pt x="18728" y="9996"/>
                </a:moveTo>
                <a:lnTo>
                  <a:pt x="18728" y="9996"/>
                </a:lnTo>
                <a:lnTo>
                  <a:pt x="18728" y="9996"/>
                </a:lnTo>
                <a:lnTo>
                  <a:pt x="18728" y="9996"/>
                </a:lnTo>
                <a:lnTo>
                  <a:pt x="18728" y="9996"/>
                </a:lnTo>
                <a:lnTo>
                  <a:pt x="18728" y="9996"/>
                </a:lnTo>
              </a:path>
              <a:path w="4267" h="3325">
                <a:moveTo>
                  <a:pt x="18752" y="10120"/>
                </a:moveTo>
                <a:cubicBezTo>
                  <a:pt x="18716" y="10170"/>
                  <a:pt x="18739" y="10166"/>
                  <a:pt x="18752" y="10220"/>
                </a:cubicBezTo>
              </a:path>
              <a:path w="4267" h="3325">
                <a:moveTo>
                  <a:pt x="19348" y="11435"/>
                </a:moveTo>
                <a:cubicBezTo>
                  <a:pt x="19312" y="11426"/>
                  <a:pt x="19281" y="11392"/>
                  <a:pt x="19248" y="11385"/>
                </a:cubicBezTo>
                <a:cubicBezTo>
                  <a:pt x="19189" y="11372"/>
                  <a:pt x="19137" y="11361"/>
                  <a:pt x="19075" y="11361"/>
                </a:cubicBezTo>
                <a:cubicBezTo>
                  <a:pt x="19050" y="11361"/>
                  <a:pt x="19042" y="11361"/>
                  <a:pt x="19025" y="11361"/>
                </a:cubicBezTo>
              </a:path>
              <a:path w="4267" h="3325">
                <a:moveTo>
                  <a:pt x="19745" y="10988"/>
                </a:moveTo>
                <a:cubicBezTo>
                  <a:pt x="19765" y="10948"/>
                  <a:pt x="19763" y="10932"/>
                  <a:pt x="19794" y="10939"/>
                </a:cubicBezTo>
                <a:cubicBezTo>
                  <a:pt x="19794" y="10992"/>
                  <a:pt x="19778" y="11012"/>
                  <a:pt x="19769" y="11063"/>
                </a:cubicBezTo>
                <a:cubicBezTo>
                  <a:pt x="19759" y="11119"/>
                  <a:pt x="19757" y="11162"/>
                  <a:pt x="19745" y="11212"/>
                </a:cubicBezTo>
              </a:path>
              <a:path w="4267" h="3325">
                <a:moveTo>
                  <a:pt x="19943" y="11261"/>
                </a:moveTo>
                <a:cubicBezTo>
                  <a:pt x="19951" y="11269"/>
                  <a:pt x="19960" y="11278"/>
                  <a:pt x="19968" y="11286"/>
                </a:cubicBezTo>
                <a:cubicBezTo>
                  <a:pt x="19904" y="11334"/>
                  <a:pt x="19872" y="11297"/>
                  <a:pt x="19794" y="11286"/>
                </a:cubicBezTo>
                <a:cubicBezTo>
                  <a:pt x="19711" y="11274"/>
                  <a:pt x="19621" y="11279"/>
                  <a:pt x="19546" y="11311"/>
                </a:cubicBezTo>
              </a:path>
              <a:path w="4267" h="3325">
                <a:moveTo>
                  <a:pt x="19670" y="11435"/>
                </a:moveTo>
                <a:cubicBezTo>
                  <a:pt x="19647" y="11458"/>
                  <a:pt x="19639" y="11462"/>
                  <a:pt x="19645" y="11485"/>
                </a:cubicBezTo>
                <a:cubicBezTo>
                  <a:pt x="19713" y="11485"/>
                  <a:pt x="19756" y="11495"/>
                  <a:pt x="19819" y="11509"/>
                </a:cubicBezTo>
                <a:cubicBezTo>
                  <a:pt x="19865" y="11519"/>
                  <a:pt x="19844" y="11584"/>
                  <a:pt x="19844" y="11633"/>
                </a:cubicBezTo>
                <a:cubicBezTo>
                  <a:pt x="19844" y="11691"/>
                  <a:pt x="19806" y="11719"/>
                  <a:pt x="19769" y="11757"/>
                </a:cubicBezTo>
                <a:cubicBezTo>
                  <a:pt x="19747" y="11780"/>
                  <a:pt x="19739" y="11785"/>
                  <a:pt x="19745" y="11807"/>
                </a:cubicBezTo>
                <a:cubicBezTo>
                  <a:pt x="19844" y="11807"/>
                  <a:pt x="19943" y="11807"/>
                  <a:pt x="20042" y="11807"/>
                </a:cubicBezTo>
              </a:path>
              <a:path w="4267" h="3325">
                <a:moveTo>
                  <a:pt x="20365" y="11460"/>
                </a:moveTo>
                <a:cubicBezTo>
                  <a:pt x="20358" y="11430"/>
                  <a:pt x="20347" y="11415"/>
                  <a:pt x="20340" y="11385"/>
                </a:cubicBezTo>
                <a:cubicBezTo>
                  <a:pt x="20389" y="11385"/>
                  <a:pt x="20419" y="11380"/>
                  <a:pt x="20464" y="11410"/>
                </a:cubicBezTo>
                <a:cubicBezTo>
                  <a:pt x="20508" y="11439"/>
                  <a:pt x="20550" y="11533"/>
                  <a:pt x="20538" y="11584"/>
                </a:cubicBezTo>
                <a:cubicBezTo>
                  <a:pt x="20523" y="11651"/>
                  <a:pt x="20515" y="11703"/>
                  <a:pt x="20439" y="11708"/>
                </a:cubicBezTo>
                <a:cubicBezTo>
                  <a:pt x="20387" y="11711"/>
                  <a:pt x="20293" y="11683"/>
                  <a:pt x="20265" y="11633"/>
                </a:cubicBezTo>
                <a:cubicBezTo>
                  <a:pt x="20265" y="11609"/>
                  <a:pt x="20265" y="11600"/>
                  <a:pt x="20265" y="11584"/>
                </a:cubicBezTo>
              </a:path>
              <a:path w="4267" h="3325">
                <a:moveTo>
                  <a:pt x="20712" y="11435"/>
                </a:moveTo>
                <a:cubicBezTo>
                  <a:pt x="20737" y="11418"/>
                  <a:pt x="20761" y="11402"/>
                  <a:pt x="20786" y="11385"/>
                </a:cubicBezTo>
                <a:cubicBezTo>
                  <a:pt x="20727" y="11385"/>
                  <a:pt x="20672" y="11366"/>
                  <a:pt x="20638" y="11435"/>
                </a:cubicBezTo>
                <a:cubicBezTo>
                  <a:pt x="20614" y="11483"/>
                  <a:pt x="20634" y="11638"/>
                  <a:pt x="20662" y="11683"/>
                </a:cubicBezTo>
                <a:cubicBezTo>
                  <a:pt x="20716" y="11770"/>
                  <a:pt x="20822" y="11775"/>
                  <a:pt x="20910" y="11782"/>
                </a:cubicBezTo>
              </a:path>
              <a:path w="4267" h="3325">
                <a:moveTo>
                  <a:pt x="21704" y="11485"/>
                </a:moveTo>
                <a:cubicBezTo>
                  <a:pt x="21704" y="11428"/>
                  <a:pt x="21680" y="11414"/>
                  <a:pt x="21630" y="11385"/>
                </a:cubicBezTo>
                <a:cubicBezTo>
                  <a:pt x="21584" y="11358"/>
                  <a:pt x="21484" y="11323"/>
                  <a:pt x="21431" y="11311"/>
                </a:cubicBezTo>
                <a:cubicBezTo>
                  <a:pt x="21379" y="11299"/>
                  <a:pt x="21320" y="11308"/>
                  <a:pt x="21282" y="11336"/>
                </a:cubicBezTo>
              </a:path>
              <a:path w="4267" h="3325">
                <a:moveTo>
                  <a:pt x="21406" y="11286"/>
                </a:moveTo>
                <a:cubicBezTo>
                  <a:pt x="21406" y="11245"/>
                  <a:pt x="21398" y="11229"/>
                  <a:pt x="21431" y="11237"/>
                </a:cubicBezTo>
                <a:cubicBezTo>
                  <a:pt x="21431" y="11303"/>
                  <a:pt x="21421" y="11372"/>
                  <a:pt x="21406" y="11435"/>
                </a:cubicBezTo>
                <a:cubicBezTo>
                  <a:pt x="21389" y="11503"/>
                  <a:pt x="21382" y="11540"/>
                  <a:pt x="21382" y="11609"/>
                </a:cubicBezTo>
              </a:path>
              <a:path w="4267" h="3325">
                <a:moveTo>
                  <a:pt x="22027" y="11261"/>
                </a:moveTo>
                <a:cubicBezTo>
                  <a:pt x="22009" y="11201"/>
                  <a:pt x="22017" y="11157"/>
                  <a:pt x="22101" y="11137"/>
                </a:cubicBezTo>
                <a:cubicBezTo>
                  <a:pt x="22148" y="11126"/>
                  <a:pt x="22313" y="11121"/>
                  <a:pt x="22349" y="11162"/>
                </a:cubicBezTo>
                <a:cubicBezTo>
                  <a:pt x="22414" y="11235"/>
                  <a:pt x="22361" y="11388"/>
                  <a:pt x="22324" y="11460"/>
                </a:cubicBezTo>
                <a:cubicBezTo>
                  <a:pt x="22278" y="11549"/>
                  <a:pt x="22186" y="11587"/>
                  <a:pt x="22175" y="11683"/>
                </a:cubicBezTo>
                <a:cubicBezTo>
                  <a:pt x="22164" y="11783"/>
                  <a:pt x="22293" y="11820"/>
                  <a:pt x="22374" y="11832"/>
                </a:cubicBezTo>
                <a:cubicBezTo>
                  <a:pt x="22474" y="11847"/>
                  <a:pt x="22600" y="11829"/>
                  <a:pt x="22696" y="11807"/>
                </a:cubicBezTo>
                <a:cubicBezTo>
                  <a:pt x="22764" y="11792"/>
                  <a:pt x="22836" y="11745"/>
                  <a:pt x="22895" y="11733"/>
                </a:cubicBezTo>
                <a:cubicBezTo>
                  <a:pt x="22925" y="11727"/>
                  <a:pt x="22963" y="11733"/>
                  <a:pt x="22994" y="11733"/>
                </a:cubicBezTo>
              </a:path>
              <a:path w="4267" h="3325">
                <a:moveTo>
                  <a:pt x="19124" y="12427"/>
                </a:moveTo>
                <a:cubicBezTo>
                  <a:pt x="19124" y="12360"/>
                  <a:pt x="19124" y="12511"/>
                  <a:pt x="19124" y="12526"/>
                </a:cubicBezTo>
                <a:cubicBezTo>
                  <a:pt x="19124" y="12598"/>
                  <a:pt x="19111" y="12654"/>
                  <a:pt x="19199" y="12675"/>
                </a:cubicBezTo>
                <a:cubicBezTo>
                  <a:pt x="19277" y="12693"/>
                  <a:pt x="19318" y="12579"/>
                  <a:pt x="19348" y="12526"/>
                </a:cubicBezTo>
                <a:cubicBezTo>
                  <a:pt x="19369" y="12483"/>
                  <a:pt x="19373" y="12471"/>
                  <a:pt x="19397" y="12452"/>
                </a:cubicBezTo>
                <a:cubicBezTo>
                  <a:pt x="19479" y="12485"/>
                  <a:pt x="19542" y="12587"/>
                  <a:pt x="19571" y="12675"/>
                </a:cubicBezTo>
                <a:cubicBezTo>
                  <a:pt x="19606" y="12783"/>
                  <a:pt x="19653" y="12942"/>
                  <a:pt x="19596" y="13047"/>
                </a:cubicBezTo>
                <a:cubicBezTo>
                  <a:pt x="19557" y="13120"/>
                  <a:pt x="19389" y="13109"/>
                  <a:pt x="19323" y="13097"/>
                </a:cubicBezTo>
                <a:cubicBezTo>
                  <a:pt x="19256" y="13085"/>
                  <a:pt x="19166" y="13065"/>
                  <a:pt x="19149" y="12998"/>
                </a:cubicBezTo>
              </a:path>
              <a:path w="4267" h="3325">
                <a:moveTo>
                  <a:pt x="20241" y="12576"/>
                </a:moveTo>
                <a:cubicBezTo>
                  <a:pt x="20296" y="12548"/>
                  <a:pt x="20200" y="12551"/>
                  <a:pt x="20166" y="12551"/>
                </a:cubicBezTo>
                <a:cubicBezTo>
                  <a:pt x="20103" y="12551"/>
                  <a:pt x="20058" y="12526"/>
                  <a:pt x="19993" y="12526"/>
                </a:cubicBezTo>
                <a:cubicBezTo>
                  <a:pt x="19968" y="12526"/>
                  <a:pt x="19960" y="12526"/>
                  <a:pt x="19943" y="12526"/>
                </a:cubicBezTo>
              </a:path>
              <a:path w="4267" h="3325">
                <a:moveTo>
                  <a:pt x="20265" y="12650"/>
                </a:moveTo>
                <a:cubicBezTo>
                  <a:pt x="20307" y="12650"/>
                  <a:pt x="20323" y="12642"/>
                  <a:pt x="20315" y="12675"/>
                </a:cubicBezTo>
                <a:cubicBezTo>
                  <a:pt x="20250" y="12675"/>
                  <a:pt x="20204" y="12654"/>
                  <a:pt x="20141" y="12650"/>
                </a:cubicBezTo>
                <a:cubicBezTo>
                  <a:pt x="20108" y="12648"/>
                  <a:pt x="20075" y="12650"/>
                  <a:pt x="20042" y="12650"/>
                </a:cubicBezTo>
              </a:path>
              <a:path w="4267" h="3325">
                <a:moveTo>
                  <a:pt x="20712" y="12551"/>
                </a:moveTo>
                <a:cubicBezTo>
                  <a:pt x="20661" y="12551"/>
                  <a:pt x="20743" y="12532"/>
                  <a:pt x="20762" y="12526"/>
                </a:cubicBezTo>
                <a:cubicBezTo>
                  <a:pt x="20821" y="12506"/>
                  <a:pt x="20922" y="12526"/>
                  <a:pt x="20985" y="12526"/>
                </a:cubicBezTo>
              </a:path>
              <a:path w="4267" h="3325">
                <a:moveTo>
                  <a:pt x="21555" y="12427"/>
                </a:moveTo>
                <a:cubicBezTo>
                  <a:pt x="21516" y="12388"/>
                  <a:pt x="21502" y="12374"/>
                  <a:pt x="21481" y="12353"/>
                </a:cubicBezTo>
                <a:cubicBezTo>
                  <a:pt x="21519" y="12315"/>
                  <a:pt x="21550" y="12290"/>
                  <a:pt x="21605" y="12278"/>
                </a:cubicBezTo>
                <a:cubicBezTo>
                  <a:pt x="21684" y="12260"/>
                  <a:pt x="21754" y="12290"/>
                  <a:pt x="21803" y="12353"/>
                </a:cubicBezTo>
                <a:cubicBezTo>
                  <a:pt x="21870" y="12441"/>
                  <a:pt x="21825" y="12569"/>
                  <a:pt x="21779" y="12650"/>
                </a:cubicBezTo>
                <a:cubicBezTo>
                  <a:pt x="21729" y="12737"/>
                  <a:pt x="21651" y="12804"/>
                  <a:pt x="21580" y="12874"/>
                </a:cubicBezTo>
                <a:cubicBezTo>
                  <a:pt x="21557" y="12896"/>
                  <a:pt x="21552" y="12904"/>
                  <a:pt x="21530" y="12898"/>
                </a:cubicBezTo>
                <a:cubicBezTo>
                  <a:pt x="21612" y="12887"/>
                  <a:pt x="21689" y="12857"/>
                  <a:pt x="21779" y="12849"/>
                </a:cubicBezTo>
                <a:cubicBezTo>
                  <a:pt x="21941" y="12835"/>
                  <a:pt x="22049" y="12877"/>
                  <a:pt x="22200" y="12923"/>
                </a:cubicBezTo>
                <a:cubicBezTo>
                  <a:pt x="22306" y="12956"/>
                  <a:pt x="22399" y="12998"/>
                  <a:pt x="22498" y="13047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357960" y="3527280"/>
            <a:ext cx="214200" cy="214560"/>
          </a:xfrm>
          <a:custGeom>
            <a:avLst/>
            <a:gdLst/>
            <a:ahLst/>
            <a:rect l="l" t="t" r="r" b="b"/>
            <a:pathLst>
              <a:path w="596" h="596">
                <a:moveTo>
                  <a:pt x="17711" y="9798"/>
                </a:moveTo>
                <a:cubicBezTo>
                  <a:pt x="17732" y="9835"/>
                  <a:pt x="17751" y="9860"/>
                  <a:pt x="17760" y="9897"/>
                </a:cubicBezTo>
                <a:cubicBezTo>
                  <a:pt x="17785" y="9897"/>
                  <a:pt x="17810" y="9897"/>
                  <a:pt x="17835" y="9897"/>
                </a:cubicBezTo>
              </a:path>
              <a:path w="596" h="596">
                <a:moveTo>
                  <a:pt x="18157" y="9971"/>
                </a:moveTo>
                <a:cubicBezTo>
                  <a:pt x="18204" y="9956"/>
                  <a:pt x="18162" y="9912"/>
                  <a:pt x="18132" y="9872"/>
                </a:cubicBezTo>
                <a:cubicBezTo>
                  <a:pt x="18095" y="9823"/>
                  <a:pt x="18066" y="9801"/>
                  <a:pt x="18008" y="9798"/>
                </a:cubicBezTo>
                <a:cubicBezTo>
                  <a:pt x="17940" y="9794"/>
                  <a:pt x="17871" y="9789"/>
                  <a:pt x="17810" y="9823"/>
                </a:cubicBezTo>
                <a:cubicBezTo>
                  <a:pt x="17746" y="9859"/>
                  <a:pt x="17713" y="9901"/>
                  <a:pt x="17686" y="9971"/>
                </a:cubicBezTo>
                <a:cubicBezTo>
                  <a:pt x="17657" y="10046"/>
                  <a:pt x="17637" y="10149"/>
                  <a:pt x="17686" y="10220"/>
                </a:cubicBezTo>
                <a:cubicBezTo>
                  <a:pt x="17732" y="10287"/>
                  <a:pt x="17855" y="10378"/>
                  <a:pt x="17934" y="10393"/>
                </a:cubicBezTo>
                <a:cubicBezTo>
                  <a:pt x="18033" y="10412"/>
                  <a:pt x="18154" y="10393"/>
                  <a:pt x="18256" y="10393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32680" y="3990960"/>
            <a:ext cx="447480" cy="617400"/>
          </a:xfrm>
          <a:custGeom>
            <a:avLst/>
            <a:gdLst/>
            <a:ahLst/>
            <a:rect l="l" t="t" r="r" b="b"/>
            <a:pathLst>
              <a:path w="1241" h="1712">
                <a:moveTo>
                  <a:pt x="17934" y="12154"/>
                </a:moveTo>
                <a:cubicBezTo>
                  <a:pt x="17921" y="12116"/>
                  <a:pt x="17904" y="12129"/>
                  <a:pt x="17859" y="12129"/>
                </a:cubicBezTo>
                <a:cubicBezTo>
                  <a:pt x="17778" y="12129"/>
                  <a:pt x="17646" y="12101"/>
                  <a:pt x="17587" y="12154"/>
                </a:cubicBezTo>
                <a:cubicBezTo>
                  <a:pt x="17544" y="12192"/>
                  <a:pt x="17507" y="12231"/>
                  <a:pt x="17487" y="12278"/>
                </a:cubicBezTo>
                <a:cubicBezTo>
                  <a:pt x="17463" y="12333"/>
                  <a:pt x="17422" y="12403"/>
                  <a:pt x="17388" y="12452"/>
                </a:cubicBezTo>
                <a:cubicBezTo>
                  <a:pt x="17349" y="12508"/>
                  <a:pt x="17329" y="12559"/>
                  <a:pt x="17314" y="12626"/>
                </a:cubicBezTo>
                <a:cubicBezTo>
                  <a:pt x="17304" y="12671"/>
                  <a:pt x="17311" y="12717"/>
                  <a:pt x="17338" y="12750"/>
                </a:cubicBezTo>
                <a:cubicBezTo>
                  <a:pt x="17383" y="12806"/>
                  <a:pt x="17418" y="12799"/>
                  <a:pt x="17487" y="12799"/>
                </a:cubicBezTo>
                <a:cubicBezTo>
                  <a:pt x="17554" y="12799"/>
                  <a:pt x="17607" y="12785"/>
                  <a:pt x="17661" y="12774"/>
                </a:cubicBezTo>
                <a:cubicBezTo>
                  <a:pt x="17703" y="12765"/>
                  <a:pt x="17747" y="12754"/>
                  <a:pt x="17785" y="12750"/>
                </a:cubicBezTo>
                <a:cubicBezTo>
                  <a:pt x="17823" y="12746"/>
                  <a:pt x="17810" y="12737"/>
                  <a:pt x="17810" y="12700"/>
                </a:cubicBezTo>
              </a:path>
              <a:path w="1241" h="1712">
                <a:moveTo>
                  <a:pt x="17760" y="12502"/>
                </a:moveTo>
                <a:cubicBezTo>
                  <a:pt x="17716" y="12476"/>
                  <a:pt x="17689" y="12477"/>
                  <a:pt x="17636" y="12477"/>
                </a:cubicBezTo>
                <a:cubicBezTo>
                  <a:pt x="17581" y="12477"/>
                  <a:pt x="17541" y="12495"/>
                  <a:pt x="17487" y="12502"/>
                </a:cubicBezTo>
              </a:path>
              <a:path w="1241" h="1712">
                <a:moveTo>
                  <a:pt x="18231" y="12452"/>
                </a:moveTo>
                <a:lnTo>
                  <a:pt x="18231" y="12452"/>
                </a:lnTo>
                <a:lnTo>
                  <a:pt x="18231" y="12452"/>
                </a:lnTo>
                <a:lnTo>
                  <a:pt x="18231" y="12452"/>
                </a:lnTo>
                <a:lnTo>
                  <a:pt x="18231" y="12452"/>
                </a:lnTo>
                <a:lnTo>
                  <a:pt x="18231" y="12452"/>
                </a:lnTo>
                <a:lnTo>
                  <a:pt x="18231" y="12452"/>
                </a:lnTo>
                <a:lnTo>
                  <a:pt x="18231" y="12452"/>
                </a:lnTo>
                <a:lnTo>
                  <a:pt x="18231" y="12452"/>
                </a:lnTo>
              </a:path>
              <a:path w="1241" h="1712">
                <a:moveTo>
                  <a:pt x="18207" y="12601"/>
                </a:moveTo>
                <a:cubicBezTo>
                  <a:pt x="18207" y="12645"/>
                  <a:pt x="18195" y="12662"/>
                  <a:pt x="18231" y="12675"/>
                </a:cubicBezTo>
              </a:path>
              <a:path w="1241" h="1712">
                <a:moveTo>
                  <a:pt x="17636" y="11162"/>
                </a:moveTo>
                <a:cubicBezTo>
                  <a:pt x="17636" y="11120"/>
                  <a:pt x="17636" y="11195"/>
                  <a:pt x="17636" y="11237"/>
                </a:cubicBezTo>
                <a:cubicBezTo>
                  <a:pt x="17636" y="11324"/>
                  <a:pt x="17615" y="11399"/>
                  <a:pt x="17611" y="11485"/>
                </a:cubicBezTo>
                <a:cubicBezTo>
                  <a:pt x="17607" y="11567"/>
                  <a:pt x="17611" y="11651"/>
                  <a:pt x="17611" y="11733"/>
                </a:cubicBezTo>
              </a:path>
              <a:path w="1241" h="1712">
                <a:moveTo>
                  <a:pt x="17636" y="11237"/>
                </a:moveTo>
                <a:cubicBezTo>
                  <a:pt x="17593" y="11180"/>
                  <a:pt x="17621" y="11193"/>
                  <a:pt x="17636" y="11162"/>
                </a:cubicBezTo>
                <a:cubicBezTo>
                  <a:pt x="17651" y="11131"/>
                  <a:pt x="17669" y="11097"/>
                  <a:pt x="17711" y="11088"/>
                </a:cubicBezTo>
                <a:cubicBezTo>
                  <a:pt x="17792" y="11071"/>
                  <a:pt x="17822" y="11099"/>
                  <a:pt x="17884" y="11137"/>
                </a:cubicBezTo>
                <a:cubicBezTo>
                  <a:pt x="17969" y="11189"/>
                  <a:pt x="18018" y="11283"/>
                  <a:pt x="18033" y="11385"/>
                </a:cubicBezTo>
                <a:cubicBezTo>
                  <a:pt x="18049" y="11495"/>
                  <a:pt x="18031" y="11577"/>
                  <a:pt x="17959" y="11658"/>
                </a:cubicBezTo>
                <a:cubicBezTo>
                  <a:pt x="17907" y="11716"/>
                  <a:pt x="17818" y="11774"/>
                  <a:pt x="17735" y="11757"/>
                </a:cubicBezTo>
                <a:cubicBezTo>
                  <a:pt x="17719" y="11749"/>
                  <a:pt x="17702" y="11741"/>
                  <a:pt x="17686" y="11733"/>
                </a:cubicBezTo>
              </a:path>
              <a:path w="1241" h="1712">
                <a:moveTo>
                  <a:pt x="18504" y="11311"/>
                </a:moveTo>
                <a:lnTo>
                  <a:pt x="18504" y="11311"/>
                </a:lnTo>
                <a:lnTo>
                  <a:pt x="18504" y="11311"/>
                </a:lnTo>
                <a:lnTo>
                  <a:pt x="18504" y="11311"/>
                </a:lnTo>
                <a:lnTo>
                  <a:pt x="18504" y="11311"/>
                </a:lnTo>
                <a:lnTo>
                  <a:pt x="18504" y="11311"/>
                </a:lnTo>
              </a:path>
              <a:path w="1241" h="1712">
                <a:moveTo>
                  <a:pt x="18529" y="11460"/>
                </a:moveTo>
                <a:cubicBezTo>
                  <a:pt x="18536" y="11508"/>
                  <a:pt x="18544" y="11518"/>
                  <a:pt x="18554" y="11559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321080" y="3527280"/>
            <a:ext cx="554040" cy="482760"/>
          </a:xfrm>
          <a:custGeom>
            <a:avLst/>
            <a:gdLst/>
            <a:ahLst/>
            <a:rect l="l" t="t" r="r" b="b"/>
            <a:pathLst>
              <a:path w="1539" h="1340">
                <a:moveTo>
                  <a:pt x="12005" y="10716"/>
                </a:moveTo>
                <a:cubicBezTo>
                  <a:pt x="12005" y="10740"/>
                  <a:pt x="12005" y="10748"/>
                  <a:pt x="12030" y="10740"/>
                </a:cubicBezTo>
              </a:path>
              <a:path w="1539" h="1340">
                <a:moveTo>
                  <a:pt x="12129" y="10691"/>
                </a:moveTo>
                <a:cubicBezTo>
                  <a:pt x="12152" y="10714"/>
                  <a:pt x="12156" y="10722"/>
                  <a:pt x="12179" y="10716"/>
                </a:cubicBezTo>
              </a:path>
              <a:path w="1539" h="1340">
                <a:moveTo>
                  <a:pt x="12278" y="10716"/>
                </a:moveTo>
                <a:cubicBezTo>
                  <a:pt x="12303" y="10716"/>
                  <a:pt x="12328" y="10716"/>
                  <a:pt x="12353" y="10716"/>
                </a:cubicBezTo>
              </a:path>
              <a:path w="1539" h="1340">
                <a:moveTo>
                  <a:pt x="12502" y="10740"/>
                </a:moveTo>
                <a:cubicBezTo>
                  <a:pt x="12545" y="10740"/>
                  <a:pt x="12541" y="10739"/>
                  <a:pt x="12576" y="10765"/>
                </a:cubicBezTo>
              </a:path>
              <a:path w="1539" h="1340">
                <a:moveTo>
                  <a:pt x="12675" y="10716"/>
                </a:moveTo>
                <a:cubicBezTo>
                  <a:pt x="12717" y="10716"/>
                  <a:pt x="12725" y="10716"/>
                  <a:pt x="12750" y="10716"/>
                </a:cubicBezTo>
              </a:path>
              <a:path w="1539" h="1340">
                <a:moveTo>
                  <a:pt x="12923" y="10716"/>
                </a:moveTo>
                <a:cubicBezTo>
                  <a:pt x="12968" y="10716"/>
                  <a:pt x="12982" y="10736"/>
                  <a:pt x="13022" y="10740"/>
                </a:cubicBezTo>
                <a:cubicBezTo>
                  <a:pt x="13047" y="10740"/>
                  <a:pt x="13055" y="10740"/>
                  <a:pt x="13072" y="10740"/>
                </a:cubicBezTo>
              </a:path>
              <a:path w="1539" h="1340">
                <a:moveTo>
                  <a:pt x="13171" y="10765"/>
                </a:moveTo>
                <a:cubicBezTo>
                  <a:pt x="13120" y="10765"/>
                  <a:pt x="13122" y="10767"/>
                  <a:pt x="13122" y="10716"/>
                </a:cubicBezTo>
              </a:path>
              <a:path w="1539" h="1340">
                <a:moveTo>
                  <a:pt x="13122" y="10641"/>
                </a:moveTo>
                <a:cubicBezTo>
                  <a:pt x="13130" y="10641"/>
                  <a:pt x="13138" y="10641"/>
                  <a:pt x="13146" y="10641"/>
                </a:cubicBezTo>
              </a:path>
              <a:path w="1539" h="1340">
                <a:moveTo>
                  <a:pt x="13146" y="10542"/>
                </a:moveTo>
                <a:cubicBezTo>
                  <a:pt x="13146" y="10517"/>
                  <a:pt x="13146" y="10509"/>
                  <a:pt x="13146" y="10492"/>
                </a:cubicBezTo>
              </a:path>
              <a:path w="1539" h="1340">
                <a:moveTo>
                  <a:pt x="13146" y="10418"/>
                </a:moveTo>
                <a:cubicBezTo>
                  <a:pt x="13138" y="10410"/>
                  <a:pt x="13130" y="10401"/>
                  <a:pt x="13122" y="10393"/>
                </a:cubicBezTo>
              </a:path>
              <a:path w="1539" h="1340">
                <a:moveTo>
                  <a:pt x="13097" y="10294"/>
                </a:moveTo>
                <a:cubicBezTo>
                  <a:pt x="13097" y="10269"/>
                  <a:pt x="13097" y="10261"/>
                  <a:pt x="13097" y="10244"/>
                </a:cubicBezTo>
              </a:path>
              <a:path w="1539" h="1340">
                <a:moveTo>
                  <a:pt x="13072" y="10145"/>
                </a:moveTo>
                <a:cubicBezTo>
                  <a:pt x="13072" y="10104"/>
                  <a:pt x="13060" y="10132"/>
                  <a:pt x="13047" y="10096"/>
                </a:cubicBezTo>
              </a:path>
              <a:path w="1539" h="1340">
                <a:moveTo>
                  <a:pt x="13047" y="9996"/>
                </a:moveTo>
                <a:lnTo>
                  <a:pt x="13047" y="9996"/>
                </a:lnTo>
                <a:lnTo>
                  <a:pt x="13047" y="9996"/>
                </a:lnTo>
                <a:lnTo>
                  <a:pt x="13047" y="9996"/>
                </a:lnTo>
                <a:lnTo>
                  <a:pt x="13047" y="9996"/>
                </a:lnTo>
              </a:path>
              <a:path w="1539" h="1340">
                <a:moveTo>
                  <a:pt x="13047" y="9872"/>
                </a:moveTo>
                <a:cubicBezTo>
                  <a:pt x="13047" y="9847"/>
                  <a:pt x="13047" y="9823"/>
                  <a:pt x="13047" y="9798"/>
                </a:cubicBezTo>
              </a:path>
              <a:path w="1539" h="1340">
                <a:moveTo>
                  <a:pt x="12427" y="10964"/>
                </a:moveTo>
                <a:cubicBezTo>
                  <a:pt x="12427" y="10939"/>
                  <a:pt x="12427" y="10931"/>
                  <a:pt x="12427" y="10914"/>
                </a:cubicBezTo>
                <a:cubicBezTo>
                  <a:pt x="12427" y="10979"/>
                  <a:pt x="12441" y="11035"/>
                  <a:pt x="12452" y="11088"/>
                </a:cubicBezTo>
                <a:cubicBezTo>
                  <a:pt x="12452" y="11104"/>
                  <a:pt x="12452" y="11121"/>
                  <a:pt x="12452" y="11137"/>
                </a:cubicBezTo>
              </a:path>
              <a:path w="1539" h="1340">
                <a:moveTo>
                  <a:pt x="13519" y="10096"/>
                </a:moveTo>
                <a:cubicBezTo>
                  <a:pt x="13519" y="10028"/>
                  <a:pt x="13519" y="10181"/>
                  <a:pt x="13519" y="10195"/>
                </a:cubicBezTo>
                <a:cubicBezTo>
                  <a:pt x="13519" y="10248"/>
                  <a:pt x="13535" y="10293"/>
                  <a:pt x="13543" y="10344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384200" y="3429000"/>
            <a:ext cx="490680" cy="71280"/>
          </a:xfrm>
          <a:custGeom>
            <a:avLst/>
            <a:gdLst/>
            <a:ahLst/>
            <a:rect l="l" t="t" r="r" b="b"/>
            <a:pathLst>
              <a:path w="1365" h="199">
                <a:moveTo>
                  <a:pt x="3845" y="9575"/>
                </a:moveTo>
                <a:cubicBezTo>
                  <a:pt x="3845" y="9583"/>
                  <a:pt x="3845" y="9591"/>
                  <a:pt x="3845" y="9599"/>
                </a:cubicBezTo>
                <a:cubicBezTo>
                  <a:pt x="3887" y="9599"/>
                  <a:pt x="3883" y="9589"/>
                  <a:pt x="3894" y="9624"/>
                </a:cubicBezTo>
                <a:cubicBezTo>
                  <a:pt x="3919" y="9624"/>
                  <a:pt x="3927" y="9624"/>
                  <a:pt x="3944" y="9624"/>
                </a:cubicBezTo>
              </a:path>
              <a:path w="1365" h="199">
                <a:moveTo>
                  <a:pt x="4018" y="9599"/>
                </a:moveTo>
                <a:cubicBezTo>
                  <a:pt x="4041" y="9622"/>
                  <a:pt x="4045" y="9630"/>
                  <a:pt x="4068" y="9624"/>
                </a:cubicBezTo>
              </a:path>
              <a:path w="1365" h="199">
                <a:moveTo>
                  <a:pt x="4142" y="9624"/>
                </a:moveTo>
                <a:cubicBezTo>
                  <a:pt x="4150" y="9624"/>
                  <a:pt x="4159" y="9624"/>
                  <a:pt x="4167" y="9624"/>
                </a:cubicBezTo>
              </a:path>
              <a:path w="1365" h="199">
                <a:moveTo>
                  <a:pt x="4390" y="9575"/>
                </a:moveTo>
                <a:cubicBezTo>
                  <a:pt x="4415" y="9575"/>
                  <a:pt x="4423" y="9575"/>
                  <a:pt x="4440" y="9575"/>
                </a:cubicBezTo>
              </a:path>
              <a:path w="1365" h="199">
                <a:moveTo>
                  <a:pt x="4589" y="9550"/>
                </a:moveTo>
                <a:cubicBezTo>
                  <a:pt x="4680" y="9550"/>
                  <a:pt x="4771" y="9550"/>
                  <a:pt x="4862" y="9550"/>
                </a:cubicBezTo>
                <a:cubicBezTo>
                  <a:pt x="4875" y="9588"/>
                  <a:pt x="4891" y="9575"/>
                  <a:pt x="4936" y="9575"/>
                </a:cubicBezTo>
                <a:cubicBezTo>
                  <a:pt x="4975" y="9575"/>
                  <a:pt x="4991" y="9599"/>
                  <a:pt x="5035" y="9599"/>
                </a:cubicBezTo>
              </a:path>
              <a:path w="1365" h="199">
                <a:moveTo>
                  <a:pt x="5110" y="9599"/>
                </a:moveTo>
                <a:cubicBezTo>
                  <a:pt x="5145" y="9626"/>
                  <a:pt x="5140" y="9624"/>
                  <a:pt x="5184" y="9624"/>
                </a:cubicBezTo>
                <a:cubicBezTo>
                  <a:pt x="5184" y="9649"/>
                  <a:pt x="5184" y="9657"/>
                  <a:pt x="5209" y="9649"/>
                </a:cubicBezTo>
              </a:path>
              <a:path w="1365" h="199">
                <a:moveTo>
                  <a:pt x="5035" y="9649"/>
                </a:moveTo>
                <a:cubicBezTo>
                  <a:pt x="5087" y="9671"/>
                  <a:pt x="5098" y="9663"/>
                  <a:pt x="5110" y="9699"/>
                </a:cubicBezTo>
                <a:cubicBezTo>
                  <a:pt x="5064" y="9653"/>
                  <a:pt x="5026" y="9622"/>
                  <a:pt x="4986" y="9575"/>
                </a:cubicBezTo>
                <a:cubicBezTo>
                  <a:pt x="4978" y="9567"/>
                  <a:pt x="4969" y="9558"/>
                  <a:pt x="4961" y="9550"/>
                </a:cubicBezTo>
                <a:cubicBezTo>
                  <a:pt x="4961" y="9607"/>
                  <a:pt x="4981" y="9646"/>
                  <a:pt x="4986" y="9699"/>
                </a:cubicBezTo>
                <a:cubicBezTo>
                  <a:pt x="4986" y="9707"/>
                  <a:pt x="4986" y="9715"/>
                  <a:pt x="4986" y="9723"/>
                </a:cubicBezTo>
                <a:cubicBezTo>
                  <a:pt x="4936" y="9711"/>
                  <a:pt x="4879" y="9659"/>
                  <a:pt x="4837" y="9624"/>
                </a:cubicBezTo>
                <a:cubicBezTo>
                  <a:pt x="4791" y="9586"/>
                  <a:pt x="4767" y="9539"/>
                  <a:pt x="4713" y="9525"/>
                </a:cubicBezTo>
                <a:cubicBezTo>
                  <a:pt x="4713" y="9564"/>
                  <a:pt x="4729" y="9594"/>
                  <a:pt x="4688" y="9599"/>
                </a:cubicBezTo>
                <a:cubicBezTo>
                  <a:pt x="4631" y="9606"/>
                  <a:pt x="4591" y="9583"/>
                  <a:pt x="4539" y="9575"/>
                </a:cubicBezTo>
                <a:cubicBezTo>
                  <a:pt x="4480" y="9565"/>
                  <a:pt x="4424" y="9570"/>
                  <a:pt x="4390" y="9624"/>
                </a:cubicBezTo>
                <a:cubicBezTo>
                  <a:pt x="4360" y="9672"/>
                  <a:pt x="4379" y="9716"/>
                  <a:pt x="4316" y="9723"/>
                </a:cubicBezTo>
                <a:cubicBezTo>
                  <a:pt x="4253" y="9730"/>
                  <a:pt x="4246" y="9690"/>
                  <a:pt x="4217" y="9649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.O. Revise for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95280" y="2565360"/>
            <a:ext cx="2160720" cy="4292640"/>
            <a:chOff x="395280" y="2565360"/>
            <a:chExt cx="2160720" cy="4292640"/>
          </a:xfrm>
        </p:grpSpPr>
        <p:sp>
          <p:nvSpPr>
            <p:cNvPr id="183" name=""/>
            <p:cNvSpPr/>
            <p:nvPr/>
          </p:nvSpPr>
          <p:spPr>
            <a:xfrm>
              <a:off x="39528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2692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26036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69236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69056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12256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5600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2987640" y="2565360"/>
            <a:ext cx="0" cy="429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419640" y="2565360"/>
            <a:ext cx="0" cy="429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851280" y="2565360"/>
            <a:ext cx="0" cy="429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4284720" y="2565360"/>
            <a:ext cx="4319640" cy="4292640"/>
            <a:chOff x="4284720" y="2565360"/>
            <a:chExt cx="4319640" cy="4292640"/>
          </a:xfrm>
        </p:grpSpPr>
        <p:sp>
          <p:nvSpPr>
            <p:cNvPr id="194" name=""/>
            <p:cNvSpPr/>
            <p:nvPr/>
          </p:nvSpPr>
          <p:spPr>
            <a:xfrm>
              <a:off x="428472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71636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71492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14656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58000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01200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71492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14836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58000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01200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44364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87708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30872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30728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73892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17236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60436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0" y="2565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2997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3860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292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5157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5589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6021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6453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987640" y="2565360"/>
            <a:ext cx="0" cy="4292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5157720"/>
            <a:ext cx="5940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012000" y="2421000"/>
            <a:ext cx="3132000" cy="443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940000" y="1600200"/>
            <a:ext cx="27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raw the li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y = 2x – 1 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2y = 3x +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se them to solve the simultaneous equ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y = 2x – 1 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2y = 3x +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98320" y="1214280"/>
            <a:ext cx="312840" cy="169920"/>
          </a:xfrm>
          <a:custGeom>
            <a:avLst/>
            <a:gdLst/>
            <a:ahLst/>
            <a:rect l="l" t="t" r="r" b="b"/>
            <a:pathLst>
              <a:path w="869" h="473">
                <a:moveTo>
                  <a:pt x="1736" y="3473"/>
                </a:moveTo>
                <a:cubicBezTo>
                  <a:pt x="1736" y="3440"/>
                  <a:pt x="1736" y="3406"/>
                  <a:pt x="1736" y="3373"/>
                </a:cubicBezTo>
                <a:cubicBezTo>
                  <a:pt x="1692" y="3373"/>
                  <a:pt x="1665" y="3371"/>
                  <a:pt x="1662" y="3423"/>
                </a:cubicBezTo>
                <a:cubicBezTo>
                  <a:pt x="1658" y="3496"/>
                  <a:pt x="1709" y="3599"/>
                  <a:pt x="1786" y="3621"/>
                </a:cubicBezTo>
                <a:cubicBezTo>
                  <a:pt x="1855" y="3641"/>
                  <a:pt x="1915" y="3534"/>
                  <a:pt x="1960" y="3497"/>
                </a:cubicBezTo>
                <a:cubicBezTo>
                  <a:pt x="2037" y="3433"/>
                  <a:pt x="2086" y="3563"/>
                  <a:pt x="2108" y="3621"/>
                </a:cubicBezTo>
                <a:cubicBezTo>
                  <a:pt x="2143" y="3713"/>
                  <a:pt x="2119" y="3814"/>
                  <a:pt x="2009" y="3845"/>
                </a:cubicBezTo>
                <a:cubicBezTo>
                  <a:pt x="1939" y="3865"/>
                  <a:pt x="1835" y="3845"/>
                  <a:pt x="1761" y="3845"/>
                </a:cubicBezTo>
              </a:path>
              <a:path w="869" h="473">
                <a:moveTo>
                  <a:pt x="2456" y="3398"/>
                </a:moveTo>
                <a:cubicBezTo>
                  <a:pt x="2472" y="3390"/>
                  <a:pt x="2489" y="3381"/>
                  <a:pt x="2505" y="3373"/>
                </a:cubicBezTo>
                <a:cubicBezTo>
                  <a:pt x="2439" y="3373"/>
                  <a:pt x="2373" y="3373"/>
                  <a:pt x="2307" y="3373"/>
                </a:cubicBezTo>
              </a:path>
              <a:path w="869" h="473">
                <a:moveTo>
                  <a:pt x="2406" y="3448"/>
                </a:moveTo>
                <a:cubicBezTo>
                  <a:pt x="2482" y="3448"/>
                  <a:pt x="2481" y="3436"/>
                  <a:pt x="2530" y="3473"/>
                </a:cubicBezTo>
                <a:cubicBezTo>
                  <a:pt x="2514" y="3519"/>
                  <a:pt x="2480" y="3504"/>
                  <a:pt x="2431" y="3522"/>
                </a:cubicBezTo>
                <a:cubicBezTo>
                  <a:pt x="2386" y="3538"/>
                  <a:pt x="2351" y="3553"/>
                  <a:pt x="2307" y="3572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009800" y="1098720"/>
            <a:ext cx="276120" cy="160200"/>
          </a:xfrm>
          <a:custGeom>
            <a:avLst/>
            <a:gdLst/>
            <a:ahLst/>
            <a:rect l="l" t="t" r="r" b="b"/>
            <a:pathLst>
              <a:path w="770" h="447">
                <a:moveTo>
                  <a:pt x="2828" y="3175"/>
                </a:moveTo>
                <a:cubicBezTo>
                  <a:pt x="2805" y="3152"/>
                  <a:pt x="2797" y="3148"/>
                  <a:pt x="2803" y="3125"/>
                </a:cubicBezTo>
                <a:cubicBezTo>
                  <a:pt x="2842" y="3097"/>
                  <a:pt x="2902" y="3066"/>
                  <a:pt x="2952" y="3051"/>
                </a:cubicBezTo>
                <a:cubicBezTo>
                  <a:pt x="2993" y="3038"/>
                  <a:pt x="3044" y="3120"/>
                  <a:pt x="3051" y="3150"/>
                </a:cubicBezTo>
                <a:cubicBezTo>
                  <a:pt x="3066" y="3214"/>
                  <a:pt x="3004" y="3294"/>
                  <a:pt x="2977" y="3349"/>
                </a:cubicBezTo>
                <a:cubicBezTo>
                  <a:pt x="2956" y="3391"/>
                  <a:pt x="2922" y="3463"/>
                  <a:pt x="2977" y="3497"/>
                </a:cubicBezTo>
                <a:cubicBezTo>
                  <a:pt x="3012" y="3519"/>
                  <a:pt x="3074" y="3478"/>
                  <a:pt x="3101" y="3473"/>
                </a:cubicBezTo>
                <a:cubicBezTo>
                  <a:pt x="3117" y="3473"/>
                  <a:pt x="3134" y="3473"/>
                  <a:pt x="3150" y="3473"/>
                </a:cubicBezTo>
              </a:path>
              <a:path w="770" h="447">
                <a:moveTo>
                  <a:pt x="3249" y="3373"/>
                </a:moveTo>
                <a:cubicBezTo>
                  <a:pt x="3229" y="3333"/>
                  <a:pt x="3221" y="3326"/>
                  <a:pt x="3225" y="3299"/>
                </a:cubicBezTo>
                <a:cubicBezTo>
                  <a:pt x="3275" y="3299"/>
                  <a:pt x="3283" y="3300"/>
                  <a:pt x="3324" y="3324"/>
                </a:cubicBezTo>
                <a:cubicBezTo>
                  <a:pt x="3395" y="3365"/>
                  <a:pt x="3398" y="3366"/>
                  <a:pt x="3398" y="3448"/>
                </a:cubicBezTo>
                <a:cubicBezTo>
                  <a:pt x="3398" y="3511"/>
                  <a:pt x="3347" y="3497"/>
                  <a:pt x="3299" y="3497"/>
                </a:cubicBezTo>
                <a:cubicBezTo>
                  <a:pt x="3211" y="3497"/>
                  <a:pt x="3273" y="3455"/>
                  <a:pt x="3324" y="3448"/>
                </a:cubicBezTo>
              </a:path>
              <a:path w="770" h="447">
                <a:moveTo>
                  <a:pt x="3497" y="3299"/>
                </a:moveTo>
                <a:cubicBezTo>
                  <a:pt x="3505" y="3291"/>
                  <a:pt x="3514" y="3282"/>
                  <a:pt x="3522" y="3274"/>
                </a:cubicBezTo>
                <a:cubicBezTo>
                  <a:pt x="3486" y="3292"/>
                  <a:pt x="3457" y="3348"/>
                  <a:pt x="3448" y="3398"/>
                </a:cubicBezTo>
                <a:cubicBezTo>
                  <a:pt x="3439" y="3451"/>
                  <a:pt x="3471" y="3494"/>
                  <a:pt x="3522" y="3497"/>
                </a:cubicBezTo>
                <a:cubicBezTo>
                  <a:pt x="3539" y="3497"/>
                  <a:pt x="3555" y="3497"/>
                  <a:pt x="3572" y="3497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93920" y="1224000"/>
            <a:ext cx="88920" cy="17280"/>
          </a:xfrm>
          <a:custGeom>
            <a:avLst/>
            <a:gdLst/>
            <a:ahLst/>
            <a:rect l="l" t="t" r="r" b="b"/>
            <a:pathLst>
              <a:path w="249" h="51">
                <a:moveTo>
                  <a:pt x="3894" y="3448"/>
                </a:moveTo>
                <a:cubicBezTo>
                  <a:pt x="3886" y="3440"/>
                  <a:pt x="3878" y="3431"/>
                  <a:pt x="3870" y="3423"/>
                </a:cubicBezTo>
                <a:cubicBezTo>
                  <a:pt x="3912" y="3423"/>
                  <a:pt x="3907" y="3433"/>
                  <a:pt x="3919" y="3398"/>
                </a:cubicBezTo>
                <a:cubicBezTo>
                  <a:pt x="3985" y="3398"/>
                  <a:pt x="4052" y="3398"/>
                  <a:pt x="4118" y="3398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598760" y="1108080"/>
            <a:ext cx="44280" cy="133200"/>
          </a:xfrm>
          <a:custGeom>
            <a:avLst/>
            <a:gdLst/>
            <a:ahLst/>
            <a:rect l="l" t="t" r="r" b="b"/>
            <a:pathLst>
              <a:path w="125" h="373">
                <a:moveTo>
                  <a:pt x="4440" y="3125"/>
                </a:moveTo>
                <a:cubicBezTo>
                  <a:pt x="4440" y="3084"/>
                  <a:pt x="4432" y="3068"/>
                  <a:pt x="4465" y="3076"/>
                </a:cubicBezTo>
                <a:cubicBezTo>
                  <a:pt x="4465" y="3167"/>
                  <a:pt x="4465" y="3237"/>
                  <a:pt x="4490" y="3324"/>
                </a:cubicBezTo>
                <a:cubicBezTo>
                  <a:pt x="4513" y="3396"/>
                  <a:pt x="4520" y="3419"/>
                  <a:pt x="4564" y="3448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367080" y="1116000"/>
            <a:ext cx="276120" cy="223920"/>
          </a:xfrm>
          <a:custGeom>
            <a:avLst/>
            <a:gdLst/>
            <a:ahLst/>
            <a:rect l="l" t="t" r="r" b="b"/>
            <a:pathLst>
              <a:path w="770" h="621">
                <a:moveTo>
                  <a:pt x="9401" y="3200"/>
                </a:moveTo>
                <a:cubicBezTo>
                  <a:pt x="9367" y="3192"/>
                  <a:pt x="9314" y="3156"/>
                  <a:pt x="9376" y="3125"/>
                </a:cubicBezTo>
                <a:cubicBezTo>
                  <a:pt x="9415" y="3106"/>
                  <a:pt x="9452" y="3101"/>
                  <a:pt x="9500" y="3101"/>
                </a:cubicBezTo>
                <a:cubicBezTo>
                  <a:pt x="9575" y="3101"/>
                  <a:pt x="9595" y="3129"/>
                  <a:pt x="9599" y="3200"/>
                </a:cubicBezTo>
                <a:cubicBezTo>
                  <a:pt x="9603" y="3273"/>
                  <a:pt x="9557" y="3334"/>
                  <a:pt x="9525" y="3398"/>
                </a:cubicBezTo>
                <a:cubicBezTo>
                  <a:pt x="9503" y="3442"/>
                  <a:pt x="9433" y="3506"/>
                  <a:pt x="9500" y="3547"/>
                </a:cubicBezTo>
                <a:cubicBezTo>
                  <a:pt x="9559" y="3584"/>
                  <a:pt x="9585" y="3514"/>
                  <a:pt x="9624" y="3497"/>
                </a:cubicBezTo>
                <a:cubicBezTo>
                  <a:pt x="9652" y="3484"/>
                  <a:pt x="9717" y="3497"/>
                  <a:pt x="9748" y="3497"/>
                </a:cubicBezTo>
              </a:path>
              <a:path w="770" h="621">
                <a:moveTo>
                  <a:pt x="9823" y="3299"/>
                </a:moveTo>
                <a:cubicBezTo>
                  <a:pt x="9831" y="3341"/>
                  <a:pt x="9851" y="3402"/>
                  <a:pt x="9897" y="3423"/>
                </a:cubicBezTo>
                <a:cubicBezTo>
                  <a:pt x="9960" y="3451"/>
                  <a:pt x="9955" y="3371"/>
                  <a:pt x="9996" y="3349"/>
                </a:cubicBezTo>
                <a:cubicBezTo>
                  <a:pt x="10065" y="3312"/>
                  <a:pt x="10085" y="3439"/>
                  <a:pt x="10096" y="3473"/>
                </a:cubicBezTo>
                <a:cubicBezTo>
                  <a:pt x="10121" y="3547"/>
                  <a:pt x="10148" y="3641"/>
                  <a:pt x="10071" y="3696"/>
                </a:cubicBezTo>
                <a:cubicBezTo>
                  <a:pt x="9998" y="3748"/>
                  <a:pt x="9913" y="3718"/>
                  <a:pt x="9847" y="3671"/>
                </a:cubicBezTo>
                <a:cubicBezTo>
                  <a:pt x="9839" y="3663"/>
                  <a:pt x="9831" y="3654"/>
                  <a:pt x="9823" y="36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768840" y="1160640"/>
            <a:ext cx="54000" cy="53640"/>
          </a:xfrm>
          <a:custGeom>
            <a:avLst/>
            <a:gdLst/>
            <a:ahLst/>
            <a:rect l="l" t="t" r="r" b="b"/>
            <a:pathLst>
              <a:path w="149" h="149">
                <a:moveTo>
                  <a:pt x="10592" y="3225"/>
                </a:moveTo>
                <a:cubicBezTo>
                  <a:pt x="10600" y="3225"/>
                  <a:pt x="10608" y="3225"/>
                  <a:pt x="10616" y="3225"/>
                </a:cubicBezTo>
                <a:cubicBezTo>
                  <a:pt x="10567" y="3225"/>
                  <a:pt x="10517" y="3225"/>
                  <a:pt x="10468" y="3225"/>
                </a:cubicBezTo>
              </a:path>
              <a:path w="149" h="149">
                <a:moveTo>
                  <a:pt x="10567" y="3299"/>
                </a:moveTo>
                <a:cubicBezTo>
                  <a:pt x="10608" y="3299"/>
                  <a:pt x="10624" y="3291"/>
                  <a:pt x="10616" y="3324"/>
                </a:cubicBezTo>
                <a:cubicBezTo>
                  <a:pt x="10607" y="3352"/>
                  <a:pt x="10583" y="3370"/>
                  <a:pt x="10542" y="3373"/>
                </a:cubicBezTo>
                <a:cubicBezTo>
                  <a:pt x="10525" y="3373"/>
                  <a:pt x="10509" y="3373"/>
                  <a:pt x="10492" y="33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929040" y="1044720"/>
            <a:ext cx="536760" cy="179280"/>
          </a:xfrm>
          <a:custGeom>
            <a:avLst/>
            <a:gdLst/>
            <a:ahLst/>
            <a:rect l="l" t="t" r="r" b="b"/>
            <a:pathLst>
              <a:path w="1489" h="497">
                <a:moveTo>
                  <a:pt x="11013" y="3026"/>
                </a:moveTo>
                <a:cubicBezTo>
                  <a:pt x="10956" y="3007"/>
                  <a:pt x="10949" y="2998"/>
                  <a:pt x="10914" y="3001"/>
                </a:cubicBezTo>
                <a:cubicBezTo>
                  <a:pt x="10933" y="2928"/>
                  <a:pt x="10978" y="2947"/>
                  <a:pt x="11038" y="2927"/>
                </a:cubicBezTo>
                <a:cubicBezTo>
                  <a:pt x="11087" y="2911"/>
                  <a:pt x="11177" y="2882"/>
                  <a:pt x="11212" y="2952"/>
                </a:cubicBezTo>
                <a:cubicBezTo>
                  <a:pt x="11227" y="2982"/>
                  <a:pt x="11210" y="3080"/>
                  <a:pt x="11187" y="3101"/>
                </a:cubicBezTo>
                <a:cubicBezTo>
                  <a:pt x="11141" y="3143"/>
                  <a:pt x="11103" y="3135"/>
                  <a:pt x="11088" y="3200"/>
                </a:cubicBezTo>
                <a:cubicBezTo>
                  <a:pt x="11129" y="3225"/>
                  <a:pt x="11208" y="3262"/>
                  <a:pt x="11261" y="3274"/>
                </a:cubicBezTo>
                <a:cubicBezTo>
                  <a:pt x="11321" y="3287"/>
                  <a:pt x="11345" y="3284"/>
                  <a:pt x="11361" y="3349"/>
                </a:cubicBezTo>
                <a:cubicBezTo>
                  <a:pt x="11285" y="3391"/>
                  <a:pt x="11252" y="3398"/>
                  <a:pt x="11162" y="3398"/>
                </a:cubicBezTo>
                <a:cubicBezTo>
                  <a:pt x="11145" y="3398"/>
                  <a:pt x="11129" y="3398"/>
                  <a:pt x="11112" y="3398"/>
                </a:cubicBezTo>
              </a:path>
              <a:path w="1489" h="497">
                <a:moveTo>
                  <a:pt x="11485" y="3225"/>
                </a:moveTo>
                <a:cubicBezTo>
                  <a:pt x="11530" y="3209"/>
                  <a:pt x="11484" y="3179"/>
                  <a:pt x="11534" y="3175"/>
                </a:cubicBezTo>
                <a:cubicBezTo>
                  <a:pt x="11597" y="3170"/>
                  <a:pt x="11641" y="3176"/>
                  <a:pt x="11658" y="3249"/>
                </a:cubicBezTo>
                <a:cubicBezTo>
                  <a:pt x="11675" y="3322"/>
                  <a:pt x="11657" y="3374"/>
                  <a:pt x="11584" y="3398"/>
                </a:cubicBezTo>
                <a:cubicBezTo>
                  <a:pt x="11551" y="3398"/>
                  <a:pt x="11534" y="3398"/>
                  <a:pt x="11509" y="3398"/>
                </a:cubicBezTo>
              </a:path>
              <a:path w="1489" h="497">
                <a:moveTo>
                  <a:pt x="11733" y="3150"/>
                </a:moveTo>
                <a:cubicBezTo>
                  <a:pt x="11772" y="3111"/>
                  <a:pt x="11773" y="3095"/>
                  <a:pt x="11807" y="3101"/>
                </a:cubicBezTo>
                <a:cubicBezTo>
                  <a:pt x="11793" y="3167"/>
                  <a:pt x="11751" y="3206"/>
                  <a:pt x="11733" y="3274"/>
                </a:cubicBezTo>
                <a:cubicBezTo>
                  <a:pt x="11723" y="3311"/>
                  <a:pt x="11762" y="3385"/>
                  <a:pt x="11807" y="3373"/>
                </a:cubicBezTo>
                <a:cubicBezTo>
                  <a:pt x="11851" y="3352"/>
                  <a:pt x="11863" y="3349"/>
                  <a:pt x="11881" y="3324"/>
                </a:cubicBezTo>
              </a:path>
              <a:path w="1489" h="497">
                <a:moveTo>
                  <a:pt x="12402" y="3274"/>
                </a:moveTo>
                <a:cubicBezTo>
                  <a:pt x="12389" y="3233"/>
                  <a:pt x="12354" y="3249"/>
                  <a:pt x="12303" y="3249"/>
                </a:cubicBezTo>
                <a:cubicBezTo>
                  <a:pt x="12247" y="3249"/>
                  <a:pt x="12145" y="3226"/>
                  <a:pt x="12129" y="3274"/>
                </a:cubicBezTo>
              </a:path>
              <a:path w="1489" h="497">
                <a:moveTo>
                  <a:pt x="12278" y="3200"/>
                </a:moveTo>
                <a:cubicBezTo>
                  <a:pt x="12286" y="3192"/>
                  <a:pt x="12295" y="3183"/>
                  <a:pt x="12303" y="3175"/>
                </a:cubicBezTo>
                <a:cubicBezTo>
                  <a:pt x="12303" y="3243"/>
                  <a:pt x="12293" y="3286"/>
                  <a:pt x="12278" y="3349"/>
                </a:cubicBezTo>
                <a:cubicBezTo>
                  <a:pt x="12278" y="3357"/>
                  <a:pt x="12278" y="3365"/>
                  <a:pt x="12278" y="33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626000" y="1035000"/>
            <a:ext cx="27000" cy="152280"/>
          </a:xfrm>
          <a:custGeom>
            <a:avLst/>
            <a:gdLst/>
            <a:ahLst/>
            <a:rect l="l" t="t" r="r" b="b"/>
            <a:pathLst>
              <a:path w="75" h="423">
                <a:moveTo>
                  <a:pt x="12849" y="2952"/>
                </a:moveTo>
                <a:cubicBezTo>
                  <a:pt x="12874" y="2927"/>
                  <a:pt x="12898" y="2902"/>
                  <a:pt x="12923" y="2877"/>
                </a:cubicBezTo>
                <a:cubicBezTo>
                  <a:pt x="12909" y="2949"/>
                  <a:pt x="12882" y="3025"/>
                  <a:pt x="12874" y="3101"/>
                </a:cubicBezTo>
                <a:cubicBezTo>
                  <a:pt x="12867" y="3165"/>
                  <a:pt x="12874" y="3234"/>
                  <a:pt x="12874" y="32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81040" y="1581120"/>
            <a:ext cx="160200" cy="106560"/>
          </a:xfrm>
          <a:custGeom>
            <a:avLst/>
            <a:gdLst/>
            <a:ahLst/>
            <a:rect l="l" t="t" r="r" b="b"/>
            <a:pathLst>
              <a:path w="448" h="299">
                <a:moveTo>
                  <a:pt x="1687" y="4490"/>
                </a:moveTo>
                <a:cubicBezTo>
                  <a:pt x="1643" y="4490"/>
                  <a:pt x="1647" y="4491"/>
                  <a:pt x="1612" y="4465"/>
                </a:cubicBezTo>
                <a:cubicBezTo>
                  <a:pt x="1622" y="4424"/>
                  <a:pt x="1641" y="4395"/>
                  <a:pt x="1687" y="4390"/>
                </a:cubicBezTo>
                <a:cubicBezTo>
                  <a:pt x="1744" y="4384"/>
                  <a:pt x="1780" y="4419"/>
                  <a:pt x="1811" y="4465"/>
                </a:cubicBezTo>
                <a:cubicBezTo>
                  <a:pt x="1848" y="4520"/>
                  <a:pt x="1850" y="4590"/>
                  <a:pt x="1811" y="4638"/>
                </a:cubicBezTo>
                <a:cubicBezTo>
                  <a:pt x="1769" y="4689"/>
                  <a:pt x="1722" y="4688"/>
                  <a:pt x="1662" y="4688"/>
                </a:cubicBezTo>
              </a:path>
              <a:path w="448" h="299">
                <a:moveTo>
                  <a:pt x="1910" y="4440"/>
                </a:moveTo>
                <a:cubicBezTo>
                  <a:pt x="1927" y="4423"/>
                  <a:pt x="1943" y="4407"/>
                  <a:pt x="1960" y="4390"/>
                </a:cubicBezTo>
                <a:cubicBezTo>
                  <a:pt x="1925" y="4425"/>
                  <a:pt x="1872" y="4463"/>
                  <a:pt x="1860" y="4514"/>
                </a:cubicBezTo>
                <a:cubicBezTo>
                  <a:pt x="1846" y="4571"/>
                  <a:pt x="1907" y="4647"/>
                  <a:pt x="1960" y="4663"/>
                </a:cubicBezTo>
                <a:cubicBezTo>
                  <a:pt x="2009" y="4663"/>
                  <a:pt x="2026" y="4663"/>
                  <a:pt x="2059" y="4663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74800" y="1581120"/>
            <a:ext cx="71280" cy="71640"/>
          </a:xfrm>
          <a:custGeom>
            <a:avLst/>
            <a:gdLst/>
            <a:ahLst/>
            <a:rect l="l" t="t" r="r" b="b"/>
            <a:pathLst>
              <a:path w="199" h="200">
                <a:moveTo>
                  <a:pt x="2555" y="4415"/>
                </a:moveTo>
                <a:cubicBezTo>
                  <a:pt x="2594" y="4402"/>
                  <a:pt x="2565" y="4403"/>
                  <a:pt x="2604" y="4390"/>
                </a:cubicBezTo>
                <a:cubicBezTo>
                  <a:pt x="2545" y="4390"/>
                  <a:pt x="2505" y="4400"/>
                  <a:pt x="2456" y="4415"/>
                </a:cubicBezTo>
                <a:cubicBezTo>
                  <a:pt x="2431" y="4415"/>
                  <a:pt x="2423" y="4415"/>
                  <a:pt x="2431" y="4440"/>
                </a:cubicBezTo>
              </a:path>
              <a:path w="199" h="200">
                <a:moveTo>
                  <a:pt x="2629" y="4539"/>
                </a:moveTo>
                <a:cubicBezTo>
                  <a:pt x="2569" y="4539"/>
                  <a:pt x="2500" y="4524"/>
                  <a:pt x="2456" y="4564"/>
                </a:cubicBezTo>
                <a:cubicBezTo>
                  <a:pt x="2448" y="4572"/>
                  <a:pt x="2439" y="4581"/>
                  <a:pt x="2431" y="4589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125360" y="1490760"/>
            <a:ext cx="241560" cy="179280"/>
          </a:xfrm>
          <a:custGeom>
            <a:avLst/>
            <a:gdLst/>
            <a:ahLst/>
            <a:rect l="l" t="t" r="r" b="b"/>
            <a:pathLst>
              <a:path w="671" h="497">
                <a:moveTo>
                  <a:pt x="3249" y="4217"/>
                </a:moveTo>
                <a:cubicBezTo>
                  <a:pt x="3249" y="4247"/>
                  <a:pt x="3241" y="4283"/>
                  <a:pt x="3225" y="4291"/>
                </a:cubicBezTo>
                <a:cubicBezTo>
                  <a:pt x="3200" y="4291"/>
                  <a:pt x="3192" y="4291"/>
                  <a:pt x="3200" y="4316"/>
                </a:cubicBezTo>
                <a:cubicBezTo>
                  <a:pt x="3160" y="4303"/>
                  <a:pt x="3175" y="4268"/>
                  <a:pt x="3175" y="4217"/>
                </a:cubicBezTo>
                <a:cubicBezTo>
                  <a:pt x="3175" y="4176"/>
                  <a:pt x="3210" y="4145"/>
                  <a:pt x="3249" y="4142"/>
                </a:cubicBezTo>
                <a:cubicBezTo>
                  <a:pt x="3336" y="4136"/>
                  <a:pt x="3401" y="4160"/>
                  <a:pt x="3448" y="4242"/>
                </a:cubicBezTo>
                <a:cubicBezTo>
                  <a:pt x="3485" y="4307"/>
                  <a:pt x="3529" y="4445"/>
                  <a:pt x="3473" y="4514"/>
                </a:cubicBezTo>
                <a:cubicBezTo>
                  <a:pt x="3431" y="4565"/>
                  <a:pt x="3307" y="4578"/>
                  <a:pt x="3249" y="4564"/>
                </a:cubicBezTo>
                <a:cubicBezTo>
                  <a:pt x="3181" y="4548"/>
                  <a:pt x="3135" y="4427"/>
                  <a:pt x="3125" y="4366"/>
                </a:cubicBezTo>
                <a:cubicBezTo>
                  <a:pt x="3125" y="4298"/>
                  <a:pt x="3122" y="4279"/>
                  <a:pt x="3150" y="4242"/>
                </a:cubicBezTo>
              </a:path>
              <a:path w="671" h="497">
                <a:moveTo>
                  <a:pt x="3746" y="4539"/>
                </a:moveTo>
                <a:cubicBezTo>
                  <a:pt x="3762" y="4539"/>
                  <a:pt x="3779" y="4539"/>
                  <a:pt x="3795" y="4539"/>
                </a:cubicBezTo>
                <a:cubicBezTo>
                  <a:pt x="3756" y="4579"/>
                  <a:pt x="3714" y="4604"/>
                  <a:pt x="3671" y="4638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571760" y="1500120"/>
            <a:ext cx="134640" cy="187560"/>
          </a:xfrm>
          <a:custGeom>
            <a:avLst/>
            <a:gdLst/>
            <a:ahLst/>
            <a:rect l="l" t="t" r="r" b="b"/>
            <a:pathLst>
              <a:path w="373" h="522">
                <a:moveTo>
                  <a:pt x="4390" y="4242"/>
                </a:moveTo>
                <a:cubicBezTo>
                  <a:pt x="4371" y="4216"/>
                  <a:pt x="4366" y="4146"/>
                  <a:pt x="4366" y="4192"/>
                </a:cubicBezTo>
                <a:cubicBezTo>
                  <a:pt x="4366" y="4264"/>
                  <a:pt x="4359" y="4352"/>
                  <a:pt x="4440" y="4390"/>
                </a:cubicBezTo>
                <a:cubicBezTo>
                  <a:pt x="4457" y="4390"/>
                  <a:pt x="4473" y="4390"/>
                  <a:pt x="4490" y="4390"/>
                </a:cubicBezTo>
                <a:cubicBezTo>
                  <a:pt x="4533" y="4336"/>
                  <a:pt x="4546" y="4258"/>
                  <a:pt x="4614" y="4242"/>
                </a:cubicBezTo>
                <a:cubicBezTo>
                  <a:pt x="4687" y="4305"/>
                  <a:pt x="4723" y="4409"/>
                  <a:pt x="4738" y="4514"/>
                </a:cubicBezTo>
                <a:cubicBezTo>
                  <a:pt x="4757" y="4646"/>
                  <a:pt x="4675" y="4683"/>
                  <a:pt x="4564" y="4688"/>
                </a:cubicBezTo>
                <a:cubicBezTo>
                  <a:pt x="4513" y="4690"/>
                  <a:pt x="4439" y="4667"/>
                  <a:pt x="4415" y="4614"/>
                </a:cubicBezTo>
                <a:cubicBezTo>
                  <a:pt x="4397" y="4574"/>
                  <a:pt x="4423" y="4543"/>
                  <a:pt x="4440" y="4514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803240" y="1482840"/>
            <a:ext cx="63720" cy="44280"/>
          </a:xfrm>
          <a:custGeom>
            <a:avLst/>
            <a:gdLst/>
            <a:ahLst/>
            <a:rect l="l" t="t" r="r" b="b"/>
            <a:pathLst>
              <a:path w="174" h="125">
                <a:moveTo>
                  <a:pt x="5159" y="4142"/>
                </a:moveTo>
                <a:cubicBezTo>
                  <a:pt x="5120" y="4132"/>
                  <a:pt x="5104" y="4118"/>
                  <a:pt x="5060" y="4118"/>
                </a:cubicBezTo>
                <a:cubicBezTo>
                  <a:pt x="5018" y="4118"/>
                  <a:pt x="5022" y="4108"/>
                  <a:pt x="5011" y="4142"/>
                </a:cubicBezTo>
              </a:path>
              <a:path w="174" h="125">
                <a:moveTo>
                  <a:pt x="5159" y="4192"/>
                </a:moveTo>
                <a:cubicBezTo>
                  <a:pt x="5182" y="4215"/>
                  <a:pt x="5190" y="4219"/>
                  <a:pt x="5184" y="4242"/>
                </a:cubicBezTo>
                <a:cubicBezTo>
                  <a:pt x="5151" y="4242"/>
                  <a:pt x="5118" y="4242"/>
                  <a:pt x="5085" y="4242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62080" y="1527120"/>
            <a:ext cx="125640" cy="17640"/>
          </a:xfrm>
          <a:custGeom>
            <a:avLst/>
            <a:gdLst/>
            <a:ahLst/>
            <a:rect l="l" t="t" r="r" b="b"/>
            <a:pathLst>
              <a:path w="348" h="50">
                <a:moveTo>
                  <a:pt x="6028" y="4266"/>
                </a:moveTo>
                <a:cubicBezTo>
                  <a:pt x="6052" y="4266"/>
                  <a:pt x="6061" y="4266"/>
                  <a:pt x="6077" y="4266"/>
                </a:cubicBezTo>
                <a:cubicBezTo>
                  <a:pt x="6032" y="4266"/>
                  <a:pt x="6018" y="4245"/>
                  <a:pt x="5978" y="4242"/>
                </a:cubicBezTo>
                <a:cubicBezTo>
                  <a:pt x="5920" y="4238"/>
                  <a:pt x="5829" y="4243"/>
                  <a:pt x="5779" y="4266"/>
                </a:cubicBezTo>
                <a:cubicBezTo>
                  <a:pt x="5757" y="4289"/>
                  <a:pt x="5752" y="4297"/>
                  <a:pt x="5730" y="4291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313000" y="1411200"/>
            <a:ext cx="17280" cy="152640"/>
          </a:xfrm>
          <a:custGeom>
            <a:avLst/>
            <a:gdLst/>
            <a:ahLst/>
            <a:rect l="l" t="t" r="r" b="b"/>
            <a:pathLst>
              <a:path w="51" h="423">
                <a:moveTo>
                  <a:pt x="6424" y="3944"/>
                </a:moveTo>
                <a:cubicBezTo>
                  <a:pt x="6441" y="3936"/>
                  <a:pt x="6457" y="3927"/>
                  <a:pt x="6474" y="3919"/>
                </a:cubicBezTo>
                <a:cubicBezTo>
                  <a:pt x="6474" y="4060"/>
                  <a:pt x="6474" y="4200"/>
                  <a:pt x="6474" y="4341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054240" y="1465200"/>
            <a:ext cx="125640" cy="133560"/>
          </a:xfrm>
          <a:custGeom>
            <a:avLst/>
            <a:gdLst/>
            <a:ahLst/>
            <a:rect l="l" t="t" r="r" b="b"/>
            <a:pathLst>
              <a:path w="348" h="373">
                <a:moveTo>
                  <a:pt x="8558" y="4217"/>
                </a:moveTo>
                <a:cubicBezTo>
                  <a:pt x="8512" y="4217"/>
                  <a:pt x="8489" y="4219"/>
                  <a:pt x="8483" y="4167"/>
                </a:cubicBezTo>
                <a:cubicBezTo>
                  <a:pt x="8483" y="4142"/>
                  <a:pt x="8483" y="4134"/>
                  <a:pt x="8483" y="4118"/>
                </a:cubicBezTo>
                <a:cubicBezTo>
                  <a:pt x="8539" y="4118"/>
                  <a:pt x="8590" y="4105"/>
                  <a:pt x="8632" y="4142"/>
                </a:cubicBezTo>
                <a:cubicBezTo>
                  <a:pt x="8672" y="4177"/>
                  <a:pt x="8702" y="4211"/>
                  <a:pt x="8706" y="4266"/>
                </a:cubicBezTo>
                <a:cubicBezTo>
                  <a:pt x="8711" y="4338"/>
                  <a:pt x="8679" y="4369"/>
                  <a:pt x="8632" y="4415"/>
                </a:cubicBezTo>
                <a:cubicBezTo>
                  <a:pt x="8602" y="4445"/>
                  <a:pt x="8598" y="4440"/>
                  <a:pt x="8558" y="4440"/>
                </a:cubicBezTo>
              </a:path>
              <a:path w="348" h="373">
                <a:moveTo>
                  <a:pt x="8657" y="4217"/>
                </a:moveTo>
                <a:cubicBezTo>
                  <a:pt x="8704" y="4170"/>
                  <a:pt x="8734" y="4021"/>
                  <a:pt x="8781" y="4068"/>
                </a:cubicBezTo>
                <a:cubicBezTo>
                  <a:pt x="8793" y="4080"/>
                  <a:pt x="8732" y="4193"/>
                  <a:pt x="8731" y="4217"/>
                </a:cubicBezTo>
                <a:cubicBezTo>
                  <a:pt x="8728" y="4270"/>
                  <a:pt x="8723" y="4328"/>
                  <a:pt x="8781" y="4341"/>
                </a:cubicBezTo>
                <a:cubicBezTo>
                  <a:pt x="8809" y="4341"/>
                  <a:pt x="8820" y="4339"/>
                  <a:pt x="8830" y="43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86080" y="1411200"/>
            <a:ext cx="303120" cy="187560"/>
          </a:xfrm>
          <a:custGeom>
            <a:avLst/>
            <a:gdLst/>
            <a:ahLst/>
            <a:rect l="l" t="t" r="r" b="b"/>
            <a:pathLst>
              <a:path w="844" h="522">
                <a:moveTo>
                  <a:pt x="9252" y="4192"/>
                </a:moveTo>
                <a:cubicBezTo>
                  <a:pt x="9277" y="4192"/>
                  <a:pt x="9285" y="4192"/>
                  <a:pt x="9302" y="4192"/>
                </a:cubicBezTo>
                <a:cubicBezTo>
                  <a:pt x="9249" y="4192"/>
                  <a:pt x="9232" y="4172"/>
                  <a:pt x="9178" y="4167"/>
                </a:cubicBezTo>
                <a:cubicBezTo>
                  <a:pt x="9150" y="4167"/>
                  <a:pt x="9139" y="4169"/>
                  <a:pt x="9128" y="4192"/>
                </a:cubicBezTo>
              </a:path>
              <a:path w="844" h="522">
                <a:moveTo>
                  <a:pt x="9277" y="4266"/>
                </a:moveTo>
                <a:cubicBezTo>
                  <a:pt x="9305" y="4266"/>
                  <a:pt x="9316" y="4268"/>
                  <a:pt x="9327" y="4291"/>
                </a:cubicBezTo>
                <a:cubicBezTo>
                  <a:pt x="9277" y="4304"/>
                  <a:pt x="9263" y="4316"/>
                  <a:pt x="9203" y="4316"/>
                </a:cubicBezTo>
                <a:cubicBezTo>
                  <a:pt x="9178" y="4316"/>
                  <a:pt x="9170" y="4316"/>
                  <a:pt x="9153" y="4316"/>
                </a:cubicBezTo>
              </a:path>
              <a:path w="844" h="522">
                <a:moveTo>
                  <a:pt x="9550" y="4093"/>
                </a:moveTo>
                <a:cubicBezTo>
                  <a:pt x="9537" y="4055"/>
                  <a:pt x="9525" y="4072"/>
                  <a:pt x="9525" y="4018"/>
                </a:cubicBezTo>
                <a:cubicBezTo>
                  <a:pt x="9525" y="3982"/>
                  <a:pt x="9531" y="3932"/>
                  <a:pt x="9575" y="3919"/>
                </a:cubicBezTo>
                <a:cubicBezTo>
                  <a:pt x="9647" y="3898"/>
                  <a:pt x="9715" y="3911"/>
                  <a:pt x="9748" y="3969"/>
                </a:cubicBezTo>
                <a:cubicBezTo>
                  <a:pt x="9784" y="4032"/>
                  <a:pt x="9825" y="4117"/>
                  <a:pt x="9798" y="4192"/>
                </a:cubicBezTo>
                <a:cubicBezTo>
                  <a:pt x="9783" y="4235"/>
                  <a:pt x="9699" y="4295"/>
                  <a:pt x="9649" y="4266"/>
                </a:cubicBezTo>
                <a:cubicBezTo>
                  <a:pt x="9583" y="4228"/>
                  <a:pt x="9554" y="4163"/>
                  <a:pt x="9550" y="4093"/>
                </a:cubicBezTo>
                <a:cubicBezTo>
                  <a:pt x="9546" y="4013"/>
                  <a:pt x="9562" y="3980"/>
                  <a:pt x="9624" y="3969"/>
                </a:cubicBezTo>
              </a:path>
              <a:path w="844" h="522">
                <a:moveTo>
                  <a:pt x="9947" y="4242"/>
                </a:moveTo>
                <a:cubicBezTo>
                  <a:pt x="9975" y="4261"/>
                  <a:pt x="9985" y="4338"/>
                  <a:pt x="9971" y="4390"/>
                </a:cubicBezTo>
                <a:cubicBezTo>
                  <a:pt x="9963" y="4407"/>
                  <a:pt x="9955" y="4423"/>
                  <a:pt x="9947" y="44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875040" y="1455840"/>
            <a:ext cx="142920" cy="169920"/>
          </a:xfrm>
          <a:custGeom>
            <a:avLst/>
            <a:gdLst/>
            <a:ahLst/>
            <a:rect l="l" t="t" r="r" b="b"/>
            <a:pathLst>
              <a:path w="398" h="472">
                <a:moveTo>
                  <a:pt x="10765" y="4068"/>
                </a:moveTo>
                <a:cubicBezTo>
                  <a:pt x="10765" y="4027"/>
                  <a:pt x="10765" y="4101"/>
                  <a:pt x="10765" y="4142"/>
                </a:cubicBezTo>
                <a:cubicBezTo>
                  <a:pt x="10765" y="4207"/>
                  <a:pt x="10802" y="4261"/>
                  <a:pt x="10864" y="4217"/>
                </a:cubicBezTo>
                <a:cubicBezTo>
                  <a:pt x="10907" y="4187"/>
                  <a:pt x="10955" y="4128"/>
                  <a:pt x="11013" y="4142"/>
                </a:cubicBezTo>
                <a:cubicBezTo>
                  <a:pt x="11103" y="4163"/>
                  <a:pt x="11150" y="4310"/>
                  <a:pt x="11162" y="4390"/>
                </a:cubicBezTo>
                <a:cubicBezTo>
                  <a:pt x="11182" y="4524"/>
                  <a:pt x="11117" y="4514"/>
                  <a:pt x="11013" y="4514"/>
                </a:cubicBezTo>
                <a:cubicBezTo>
                  <a:pt x="10952" y="4514"/>
                  <a:pt x="10918" y="4492"/>
                  <a:pt x="10864" y="44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116240" y="1411200"/>
            <a:ext cx="63720" cy="61920"/>
          </a:xfrm>
          <a:custGeom>
            <a:avLst/>
            <a:gdLst/>
            <a:ahLst/>
            <a:rect l="l" t="t" r="r" b="b"/>
            <a:pathLst>
              <a:path w="175" h="175">
                <a:moveTo>
                  <a:pt x="11584" y="3919"/>
                </a:moveTo>
                <a:cubicBezTo>
                  <a:pt x="11534" y="3919"/>
                  <a:pt x="11525" y="3930"/>
                  <a:pt x="11485" y="3944"/>
                </a:cubicBezTo>
                <a:cubicBezTo>
                  <a:pt x="11460" y="3944"/>
                  <a:pt x="11452" y="3944"/>
                  <a:pt x="11435" y="3944"/>
                </a:cubicBezTo>
              </a:path>
              <a:path w="175" h="175">
                <a:moveTo>
                  <a:pt x="11584" y="4018"/>
                </a:moveTo>
                <a:cubicBezTo>
                  <a:pt x="11592" y="4026"/>
                  <a:pt x="11601" y="4035"/>
                  <a:pt x="11609" y="4043"/>
                </a:cubicBezTo>
                <a:cubicBezTo>
                  <a:pt x="11568" y="4068"/>
                  <a:pt x="11521" y="4048"/>
                  <a:pt x="11485" y="4068"/>
                </a:cubicBezTo>
                <a:cubicBezTo>
                  <a:pt x="11477" y="4076"/>
                  <a:pt x="11468" y="4085"/>
                  <a:pt x="11460" y="40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48080" y="1295280"/>
            <a:ext cx="169920" cy="249480"/>
          </a:xfrm>
          <a:custGeom>
            <a:avLst/>
            <a:gdLst/>
            <a:ahLst/>
            <a:rect l="l" t="t" r="r" b="b"/>
            <a:pathLst>
              <a:path w="472" h="695">
                <a:moveTo>
                  <a:pt x="12105" y="3597"/>
                </a:moveTo>
                <a:cubicBezTo>
                  <a:pt x="12105" y="3671"/>
                  <a:pt x="12113" y="3725"/>
                  <a:pt x="12129" y="3795"/>
                </a:cubicBezTo>
                <a:cubicBezTo>
                  <a:pt x="12129" y="3820"/>
                  <a:pt x="12129" y="3828"/>
                  <a:pt x="12129" y="3845"/>
                </a:cubicBezTo>
              </a:path>
              <a:path w="472" h="695">
                <a:moveTo>
                  <a:pt x="12303" y="3870"/>
                </a:moveTo>
                <a:cubicBezTo>
                  <a:pt x="12303" y="3878"/>
                  <a:pt x="12303" y="3886"/>
                  <a:pt x="12303" y="3894"/>
                </a:cubicBezTo>
                <a:cubicBezTo>
                  <a:pt x="12271" y="3902"/>
                  <a:pt x="12208" y="3904"/>
                  <a:pt x="12179" y="3919"/>
                </a:cubicBezTo>
                <a:cubicBezTo>
                  <a:pt x="12146" y="3935"/>
                  <a:pt x="12103" y="3915"/>
                  <a:pt x="12080" y="3944"/>
                </a:cubicBezTo>
                <a:cubicBezTo>
                  <a:pt x="12080" y="3952"/>
                  <a:pt x="12080" y="3961"/>
                  <a:pt x="12080" y="3969"/>
                </a:cubicBezTo>
              </a:path>
              <a:path w="472" h="695">
                <a:moveTo>
                  <a:pt x="12179" y="4018"/>
                </a:moveTo>
                <a:cubicBezTo>
                  <a:pt x="12179" y="4043"/>
                  <a:pt x="12179" y="4051"/>
                  <a:pt x="12179" y="4068"/>
                </a:cubicBezTo>
                <a:cubicBezTo>
                  <a:pt x="12245" y="4068"/>
                  <a:pt x="12322" y="4057"/>
                  <a:pt x="12353" y="4093"/>
                </a:cubicBezTo>
                <a:cubicBezTo>
                  <a:pt x="12406" y="4154"/>
                  <a:pt x="12352" y="4137"/>
                  <a:pt x="12328" y="4192"/>
                </a:cubicBezTo>
                <a:cubicBezTo>
                  <a:pt x="12315" y="4221"/>
                  <a:pt x="12279" y="4267"/>
                  <a:pt x="12328" y="4291"/>
                </a:cubicBezTo>
                <a:cubicBezTo>
                  <a:pt x="12369" y="4312"/>
                  <a:pt x="12399" y="4272"/>
                  <a:pt x="12427" y="4266"/>
                </a:cubicBezTo>
                <a:cubicBezTo>
                  <a:pt x="12484" y="4254"/>
                  <a:pt x="12505" y="4252"/>
                  <a:pt x="12551" y="42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44680" y="1893960"/>
            <a:ext cx="366480" cy="133200"/>
          </a:xfrm>
          <a:custGeom>
            <a:avLst/>
            <a:gdLst/>
            <a:ahLst/>
            <a:rect l="l" t="t" r="r" b="b"/>
            <a:pathLst>
              <a:path w="1018" h="373">
                <a:moveTo>
                  <a:pt x="1538" y="5383"/>
                </a:moveTo>
                <a:cubicBezTo>
                  <a:pt x="1530" y="5391"/>
                  <a:pt x="1521" y="5399"/>
                  <a:pt x="1513" y="5407"/>
                </a:cubicBezTo>
                <a:cubicBezTo>
                  <a:pt x="1547" y="5363"/>
                  <a:pt x="1546" y="5350"/>
                  <a:pt x="1612" y="5333"/>
                </a:cubicBezTo>
                <a:cubicBezTo>
                  <a:pt x="1652" y="5323"/>
                  <a:pt x="1738" y="5375"/>
                  <a:pt x="1761" y="5407"/>
                </a:cubicBezTo>
                <a:cubicBezTo>
                  <a:pt x="1781" y="5434"/>
                  <a:pt x="1833" y="5517"/>
                  <a:pt x="1811" y="5556"/>
                </a:cubicBezTo>
                <a:cubicBezTo>
                  <a:pt x="1787" y="5600"/>
                  <a:pt x="1733" y="5626"/>
                  <a:pt x="1687" y="5631"/>
                </a:cubicBezTo>
                <a:cubicBezTo>
                  <a:pt x="1662" y="5631"/>
                  <a:pt x="1654" y="5631"/>
                  <a:pt x="1637" y="5631"/>
                </a:cubicBezTo>
              </a:path>
              <a:path w="1018" h="373">
                <a:moveTo>
                  <a:pt x="1811" y="5407"/>
                </a:moveTo>
                <a:cubicBezTo>
                  <a:pt x="1870" y="5342"/>
                  <a:pt x="1894" y="5336"/>
                  <a:pt x="1910" y="5259"/>
                </a:cubicBezTo>
                <a:cubicBezTo>
                  <a:pt x="1870" y="5279"/>
                  <a:pt x="1823" y="5352"/>
                  <a:pt x="1811" y="5407"/>
                </a:cubicBezTo>
                <a:cubicBezTo>
                  <a:pt x="1796" y="5474"/>
                  <a:pt x="1820" y="5596"/>
                  <a:pt x="1885" y="5631"/>
                </a:cubicBezTo>
                <a:cubicBezTo>
                  <a:pt x="1943" y="5662"/>
                  <a:pt x="2018" y="5614"/>
                  <a:pt x="2059" y="5581"/>
                </a:cubicBezTo>
              </a:path>
              <a:path w="1018" h="373">
                <a:moveTo>
                  <a:pt x="2480" y="5308"/>
                </a:moveTo>
                <a:cubicBezTo>
                  <a:pt x="2497" y="5308"/>
                  <a:pt x="2513" y="5308"/>
                  <a:pt x="2530" y="5308"/>
                </a:cubicBezTo>
                <a:cubicBezTo>
                  <a:pt x="2500" y="5316"/>
                  <a:pt x="2435" y="5321"/>
                  <a:pt x="2406" y="5333"/>
                </a:cubicBezTo>
                <a:cubicBezTo>
                  <a:pt x="2367" y="5349"/>
                  <a:pt x="2378" y="5358"/>
                  <a:pt x="2332" y="5358"/>
                </a:cubicBezTo>
              </a:path>
              <a:path w="1018" h="373">
                <a:moveTo>
                  <a:pt x="2456" y="5407"/>
                </a:moveTo>
                <a:cubicBezTo>
                  <a:pt x="2464" y="5407"/>
                  <a:pt x="2472" y="5407"/>
                  <a:pt x="2480" y="5407"/>
                </a:cubicBezTo>
                <a:cubicBezTo>
                  <a:pt x="2468" y="5443"/>
                  <a:pt x="2445" y="5440"/>
                  <a:pt x="2406" y="5457"/>
                </a:cubicBezTo>
                <a:cubicBezTo>
                  <a:pt x="2389" y="5465"/>
                  <a:pt x="2373" y="5474"/>
                  <a:pt x="2356" y="5482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133640" y="1839960"/>
            <a:ext cx="28440" cy="142920"/>
          </a:xfrm>
          <a:custGeom>
            <a:avLst/>
            <a:gdLst/>
            <a:ahLst/>
            <a:rect l="l" t="t" r="r" b="b"/>
            <a:pathLst>
              <a:path w="76" h="398">
                <a:moveTo>
                  <a:pt x="3150" y="5135"/>
                </a:moveTo>
                <a:cubicBezTo>
                  <a:pt x="3175" y="5135"/>
                  <a:pt x="3183" y="5135"/>
                  <a:pt x="3175" y="5110"/>
                </a:cubicBezTo>
                <a:cubicBezTo>
                  <a:pt x="3175" y="5190"/>
                  <a:pt x="3191" y="5257"/>
                  <a:pt x="3200" y="5333"/>
                </a:cubicBezTo>
                <a:cubicBezTo>
                  <a:pt x="3207" y="5397"/>
                  <a:pt x="3217" y="5445"/>
                  <a:pt x="3225" y="5507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312920" y="1946160"/>
            <a:ext cx="27000" cy="73080"/>
          </a:xfrm>
          <a:custGeom>
            <a:avLst/>
            <a:gdLst/>
            <a:ahLst/>
            <a:rect l="l" t="t" r="r" b="b"/>
            <a:pathLst>
              <a:path w="76" h="200">
                <a:moveTo>
                  <a:pt x="3696" y="5407"/>
                </a:moveTo>
                <a:cubicBezTo>
                  <a:pt x="3721" y="5464"/>
                  <a:pt x="3741" y="5504"/>
                  <a:pt x="3696" y="5556"/>
                </a:cubicBezTo>
                <a:cubicBezTo>
                  <a:pt x="3679" y="5573"/>
                  <a:pt x="3663" y="5589"/>
                  <a:pt x="3646" y="5606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581120" y="1839960"/>
            <a:ext cx="339840" cy="258840"/>
          </a:xfrm>
          <a:custGeom>
            <a:avLst/>
            <a:gdLst/>
            <a:ahLst/>
            <a:rect l="l" t="t" r="r" b="b"/>
            <a:pathLst>
              <a:path w="944" h="720">
                <a:moveTo>
                  <a:pt x="4415" y="5209"/>
                </a:moveTo>
                <a:cubicBezTo>
                  <a:pt x="4415" y="5166"/>
                  <a:pt x="4425" y="5171"/>
                  <a:pt x="4390" y="5159"/>
                </a:cubicBezTo>
                <a:cubicBezTo>
                  <a:pt x="4400" y="5238"/>
                  <a:pt x="4422" y="5306"/>
                  <a:pt x="4490" y="5358"/>
                </a:cubicBezTo>
                <a:cubicBezTo>
                  <a:pt x="4574" y="5423"/>
                  <a:pt x="4589" y="5363"/>
                  <a:pt x="4638" y="5308"/>
                </a:cubicBezTo>
                <a:cubicBezTo>
                  <a:pt x="4701" y="5238"/>
                  <a:pt x="4746" y="5304"/>
                  <a:pt x="4787" y="5358"/>
                </a:cubicBezTo>
                <a:cubicBezTo>
                  <a:pt x="4850" y="5442"/>
                  <a:pt x="4941" y="5595"/>
                  <a:pt x="4936" y="5705"/>
                </a:cubicBezTo>
                <a:cubicBezTo>
                  <a:pt x="4931" y="5822"/>
                  <a:pt x="4822" y="5826"/>
                  <a:pt x="4738" y="5829"/>
                </a:cubicBezTo>
                <a:cubicBezTo>
                  <a:pt x="4701" y="5830"/>
                  <a:pt x="4539" y="5825"/>
                  <a:pt x="4514" y="5779"/>
                </a:cubicBezTo>
                <a:cubicBezTo>
                  <a:pt x="4514" y="5738"/>
                  <a:pt x="4514" y="5730"/>
                  <a:pt x="4514" y="5705"/>
                </a:cubicBezTo>
              </a:path>
              <a:path w="944" h="720">
                <a:moveTo>
                  <a:pt x="5283" y="5110"/>
                </a:moveTo>
                <a:cubicBezTo>
                  <a:pt x="5291" y="5110"/>
                  <a:pt x="5300" y="5110"/>
                  <a:pt x="5308" y="5110"/>
                </a:cubicBezTo>
                <a:cubicBezTo>
                  <a:pt x="5245" y="5110"/>
                  <a:pt x="5183" y="5098"/>
                  <a:pt x="5135" y="5135"/>
                </a:cubicBezTo>
              </a:path>
              <a:path w="944" h="720">
                <a:moveTo>
                  <a:pt x="5308" y="5184"/>
                </a:moveTo>
                <a:cubicBezTo>
                  <a:pt x="5316" y="5184"/>
                  <a:pt x="5325" y="5184"/>
                  <a:pt x="5333" y="5184"/>
                </a:cubicBezTo>
                <a:cubicBezTo>
                  <a:pt x="5283" y="5214"/>
                  <a:pt x="5243" y="5226"/>
                  <a:pt x="5184" y="5234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197080" y="1724040"/>
            <a:ext cx="9720" cy="160200"/>
          </a:xfrm>
          <a:custGeom>
            <a:avLst/>
            <a:gdLst/>
            <a:ahLst/>
            <a:rect l="l" t="t" r="r" b="b"/>
            <a:pathLst>
              <a:path w="26" h="448">
                <a:moveTo>
                  <a:pt x="6102" y="4911"/>
                </a:moveTo>
                <a:cubicBezTo>
                  <a:pt x="6113" y="4848"/>
                  <a:pt x="6127" y="4874"/>
                  <a:pt x="6127" y="4812"/>
                </a:cubicBezTo>
                <a:cubicBezTo>
                  <a:pt x="6127" y="4744"/>
                  <a:pt x="6130" y="4897"/>
                  <a:pt x="6127" y="4911"/>
                </a:cubicBezTo>
                <a:cubicBezTo>
                  <a:pt x="6108" y="4998"/>
                  <a:pt x="6102" y="5069"/>
                  <a:pt x="6102" y="5159"/>
                </a:cubicBezTo>
                <a:cubicBezTo>
                  <a:pt x="6102" y="5201"/>
                  <a:pt x="6102" y="5209"/>
                  <a:pt x="6102" y="5234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946240" y="1874880"/>
            <a:ext cx="349560" cy="117360"/>
          </a:xfrm>
          <a:custGeom>
            <a:avLst/>
            <a:gdLst/>
            <a:ahLst/>
            <a:rect l="l" t="t" r="r" b="b"/>
            <a:pathLst>
              <a:path w="968" h="323">
                <a:moveTo>
                  <a:pt x="8186" y="5259"/>
                </a:moveTo>
                <a:cubicBezTo>
                  <a:pt x="8231" y="5243"/>
                  <a:pt x="8209" y="5234"/>
                  <a:pt x="8285" y="5234"/>
                </a:cubicBezTo>
                <a:cubicBezTo>
                  <a:pt x="8353" y="5234"/>
                  <a:pt x="8366" y="5289"/>
                  <a:pt x="8384" y="5333"/>
                </a:cubicBezTo>
                <a:cubicBezTo>
                  <a:pt x="8409" y="5393"/>
                  <a:pt x="8424" y="5435"/>
                  <a:pt x="8359" y="5482"/>
                </a:cubicBezTo>
                <a:cubicBezTo>
                  <a:pt x="8302" y="5523"/>
                  <a:pt x="8242" y="5498"/>
                  <a:pt x="8186" y="5531"/>
                </a:cubicBezTo>
              </a:path>
              <a:path w="968" h="323">
                <a:moveTo>
                  <a:pt x="8434" y="5234"/>
                </a:moveTo>
                <a:cubicBezTo>
                  <a:pt x="8450" y="5226"/>
                  <a:pt x="8467" y="5217"/>
                  <a:pt x="8483" y="5209"/>
                </a:cubicBezTo>
                <a:cubicBezTo>
                  <a:pt x="8444" y="5219"/>
                  <a:pt x="8395" y="5266"/>
                  <a:pt x="8384" y="5308"/>
                </a:cubicBezTo>
                <a:cubicBezTo>
                  <a:pt x="8369" y="5366"/>
                  <a:pt x="8384" y="5446"/>
                  <a:pt x="8434" y="5482"/>
                </a:cubicBezTo>
                <a:cubicBezTo>
                  <a:pt x="8487" y="5520"/>
                  <a:pt x="8578" y="5507"/>
                  <a:pt x="8632" y="5482"/>
                </a:cubicBezTo>
                <a:cubicBezTo>
                  <a:pt x="8640" y="5474"/>
                  <a:pt x="8649" y="5465"/>
                  <a:pt x="8657" y="5457"/>
                </a:cubicBezTo>
              </a:path>
              <a:path w="968" h="323">
                <a:moveTo>
                  <a:pt x="9103" y="5259"/>
                </a:moveTo>
                <a:cubicBezTo>
                  <a:pt x="9103" y="5251"/>
                  <a:pt x="9103" y="5242"/>
                  <a:pt x="9103" y="5234"/>
                </a:cubicBezTo>
                <a:cubicBezTo>
                  <a:pt x="9046" y="5234"/>
                  <a:pt x="9025" y="5244"/>
                  <a:pt x="8979" y="5259"/>
                </a:cubicBezTo>
                <a:cubicBezTo>
                  <a:pt x="8971" y="5259"/>
                  <a:pt x="8962" y="5259"/>
                  <a:pt x="8954" y="5259"/>
                </a:cubicBezTo>
              </a:path>
              <a:path w="968" h="323">
                <a:moveTo>
                  <a:pt x="9153" y="5333"/>
                </a:moveTo>
                <a:cubicBezTo>
                  <a:pt x="9153" y="5341"/>
                  <a:pt x="9153" y="5350"/>
                  <a:pt x="9153" y="5358"/>
                </a:cubicBezTo>
                <a:cubicBezTo>
                  <a:pt x="9102" y="5358"/>
                  <a:pt x="9095" y="5369"/>
                  <a:pt x="9054" y="5383"/>
                </a:cubicBezTo>
                <a:cubicBezTo>
                  <a:pt x="9010" y="5398"/>
                  <a:pt x="9003" y="5373"/>
                  <a:pt x="8979" y="54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419640" y="1812960"/>
            <a:ext cx="18720" cy="115920"/>
          </a:xfrm>
          <a:custGeom>
            <a:avLst/>
            <a:gdLst/>
            <a:ahLst/>
            <a:rect l="l" t="t" r="r" b="b"/>
            <a:pathLst>
              <a:path w="51" h="324">
                <a:moveTo>
                  <a:pt x="9500" y="5060"/>
                </a:moveTo>
                <a:cubicBezTo>
                  <a:pt x="9500" y="5018"/>
                  <a:pt x="9500" y="5093"/>
                  <a:pt x="9500" y="5135"/>
                </a:cubicBezTo>
                <a:cubicBezTo>
                  <a:pt x="9500" y="5221"/>
                  <a:pt x="9526" y="5254"/>
                  <a:pt x="9550" y="5333"/>
                </a:cubicBezTo>
                <a:cubicBezTo>
                  <a:pt x="9550" y="5341"/>
                  <a:pt x="9550" y="5350"/>
                  <a:pt x="9550" y="53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606840" y="1901880"/>
            <a:ext cx="19080" cy="36360"/>
          </a:xfrm>
          <a:custGeom>
            <a:avLst/>
            <a:gdLst/>
            <a:ahLst/>
            <a:rect l="l" t="t" r="r" b="b"/>
            <a:pathLst>
              <a:path w="51" h="101">
                <a:moveTo>
                  <a:pt x="10071" y="5283"/>
                </a:moveTo>
                <a:cubicBezTo>
                  <a:pt x="10049" y="5320"/>
                  <a:pt x="10043" y="5346"/>
                  <a:pt x="10021" y="53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911760" y="1768320"/>
            <a:ext cx="276120" cy="214560"/>
          </a:xfrm>
          <a:custGeom>
            <a:avLst/>
            <a:gdLst/>
            <a:ahLst/>
            <a:rect l="l" t="t" r="r" b="b"/>
            <a:pathLst>
              <a:path w="770" h="597">
                <a:moveTo>
                  <a:pt x="10889" y="5110"/>
                </a:moveTo>
                <a:cubicBezTo>
                  <a:pt x="10889" y="5069"/>
                  <a:pt x="10889" y="5027"/>
                  <a:pt x="10889" y="4986"/>
                </a:cubicBezTo>
                <a:cubicBezTo>
                  <a:pt x="10868" y="5000"/>
                  <a:pt x="10839" y="5090"/>
                  <a:pt x="10864" y="5135"/>
                </a:cubicBezTo>
                <a:cubicBezTo>
                  <a:pt x="10893" y="5187"/>
                  <a:pt x="10960" y="5242"/>
                  <a:pt x="11013" y="5184"/>
                </a:cubicBezTo>
                <a:cubicBezTo>
                  <a:pt x="11053" y="5141"/>
                  <a:pt x="11066" y="5054"/>
                  <a:pt x="11137" y="5110"/>
                </a:cubicBezTo>
                <a:cubicBezTo>
                  <a:pt x="11229" y="5182"/>
                  <a:pt x="11212" y="5278"/>
                  <a:pt x="11212" y="5383"/>
                </a:cubicBezTo>
                <a:cubicBezTo>
                  <a:pt x="11212" y="5482"/>
                  <a:pt x="11158" y="5503"/>
                  <a:pt x="11063" y="5507"/>
                </a:cubicBezTo>
                <a:cubicBezTo>
                  <a:pt x="10998" y="5510"/>
                  <a:pt x="10971" y="5494"/>
                  <a:pt x="10914" y="5482"/>
                </a:cubicBezTo>
              </a:path>
              <a:path w="770" h="597">
                <a:moveTo>
                  <a:pt x="11633" y="4911"/>
                </a:moveTo>
                <a:cubicBezTo>
                  <a:pt x="11589" y="4922"/>
                  <a:pt x="11558" y="4949"/>
                  <a:pt x="11509" y="4961"/>
                </a:cubicBezTo>
                <a:cubicBezTo>
                  <a:pt x="11480" y="4968"/>
                  <a:pt x="11465" y="4979"/>
                  <a:pt x="11435" y="4986"/>
                </a:cubicBezTo>
              </a:path>
              <a:path w="770" h="597">
                <a:moveTo>
                  <a:pt x="11584" y="5060"/>
                </a:moveTo>
                <a:cubicBezTo>
                  <a:pt x="11625" y="5060"/>
                  <a:pt x="11641" y="5052"/>
                  <a:pt x="11633" y="5085"/>
                </a:cubicBezTo>
                <a:cubicBezTo>
                  <a:pt x="11575" y="5085"/>
                  <a:pt x="11518" y="5085"/>
                  <a:pt x="11460" y="50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303800" y="1697040"/>
            <a:ext cx="214200" cy="160200"/>
          </a:xfrm>
          <a:custGeom>
            <a:avLst/>
            <a:gdLst/>
            <a:ahLst/>
            <a:rect l="l" t="t" r="r" b="b"/>
            <a:pathLst>
              <a:path w="596" h="447">
                <a:moveTo>
                  <a:pt x="12030" y="4837"/>
                </a:moveTo>
                <a:cubicBezTo>
                  <a:pt x="11987" y="4815"/>
                  <a:pt x="11975" y="4811"/>
                  <a:pt x="11956" y="4787"/>
                </a:cubicBezTo>
                <a:cubicBezTo>
                  <a:pt x="11971" y="4729"/>
                  <a:pt x="11994" y="4717"/>
                  <a:pt x="12055" y="4713"/>
                </a:cubicBezTo>
                <a:cubicBezTo>
                  <a:pt x="12117" y="4709"/>
                  <a:pt x="12182" y="4692"/>
                  <a:pt x="12204" y="4762"/>
                </a:cubicBezTo>
                <a:cubicBezTo>
                  <a:pt x="12227" y="4836"/>
                  <a:pt x="12185" y="4922"/>
                  <a:pt x="12154" y="4986"/>
                </a:cubicBezTo>
                <a:cubicBezTo>
                  <a:pt x="12130" y="5036"/>
                  <a:pt x="12092" y="5086"/>
                  <a:pt x="12080" y="5135"/>
                </a:cubicBezTo>
                <a:cubicBezTo>
                  <a:pt x="12119" y="5163"/>
                  <a:pt x="12177" y="5173"/>
                  <a:pt x="12229" y="5159"/>
                </a:cubicBezTo>
                <a:cubicBezTo>
                  <a:pt x="12311" y="5137"/>
                  <a:pt x="12364" y="5110"/>
                  <a:pt x="12452" y="5110"/>
                </a:cubicBezTo>
                <a:cubicBezTo>
                  <a:pt x="12485" y="5110"/>
                  <a:pt x="12518" y="5110"/>
                  <a:pt x="12551" y="51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82760" y="2276640"/>
            <a:ext cx="160200" cy="125280"/>
          </a:xfrm>
          <a:custGeom>
            <a:avLst/>
            <a:gdLst/>
            <a:ahLst/>
            <a:rect l="l" t="t" r="r" b="b"/>
            <a:pathLst>
              <a:path w="448" h="348">
                <a:moveTo>
                  <a:pt x="1364" y="6424"/>
                </a:moveTo>
                <a:cubicBezTo>
                  <a:pt x="1356" y="6424"/>
                  <a:pt x="1347" y="6424"/>
                  <a:pt x="1339" y="6424"/>
                </a:cubicBezTo>
                <a:cubicBezTo>
                  <a:pt x="1352" y="6375"/>
                  <a:pt x="1364" y="6375"/>
                  <a:pt x="1414" y="6375"/>
                </a:cubicBezTo>
                <a:cubicBezTo>
                  <a:pt x="1494" y="6375"/>
                  <a:pt x="1524" y="6409"/>
                  <a:pt x="1563" y="6474"/>
                </a:cubicBezTo>
                <a:cubicBezTo>
                  <a:pt x="1599" y="6534"/>
                  <a:pt x="1600" y="6583"/>
                  <a:pt x="1538" y="6623"/>
                </a:cubicBezTo>
                <a:cubicBezTo>
                  <a:pt x="1499" y="6648"/>
                  <a:pt x="1457" y="6664"/>
                  <a:pt x="1414" y="6672"/>
                </a:cubicBezTo>
              </a:path>
              <a:path w="448" h="348">
                <a:moveTo>
                  <a:pt x="1637" y="6375"/>
                </a:moveTo>
                <a:cubicBezTo>
                  <a:pt x="1676" y="6336"/>
                  <a:pt x="1678" y="6319"/>
                  <a:pt x="1712" y="6325"/>
                </a:cubicBezTo>
                <a:cubicBezTo>
                  <a:pt x="1699" y="6379"/>
                  <a:pt x="1666" y="6386"/>
                  <a:pt x="1662" y="6449"/>
                </a:cubicBezTo>
                <a:cubicBezTo>
                  <a:pt x="1658" y="6518"/>
                  <a:pt x="1644" y="6567"/>
                  <a:pt x="1712" y="6598"/>
                </a:cubicBezTo>
                <a:cubicBezTo>
                  <a:pt x="1745" y="6598"/>
                  <a:pt x="1761" y="6598"/>
                  <a:pt x="1786" y="6598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95240" y="2276640"/>
            <a:ext cx="88920" cy="53640"/>
          </a:xfrm>
          <a:custGeom>
            <a:avLst/>
            <a:gdLst/>
            <a:ahLst/>
            <a:rect l="l" t="t" r="r" b="b"/>
            <a:pathLst>
              <a:path w="249" h="150">
                <a:moveTo>
                  <a:pt x="2381" y="6325"/>
                </a:moveTo>
                <a:cubicBezTo>
                  <a:pt x="2406" y="6325"/>
                  <a:pt x="2414" y="6325"/>
                  <a:pt x="2431" y="6325"/>
                </a:cubicBezTo>
                <a:cubicBezTo>
                  <a:pt x="2387" y="6325"/>
                  <a:pt x="2346" y="6335"/>
                  <a:pt x="2307" y="6350"/>
                </a:cubicBezTo>
                <a:cubicBezTo>
                  <a:pt x="2257" y="6370"/>
                  <a:pt x="2256" y="6375"/>
                  <a:pt x="2208" y="6375"/>
                </a:cubicBezTo>
              </a:path>
              <a:path w="249" h="150">
                <a:moveTo>
                  <a:pt x="2406" y="6424"/>
                </a:moveTo>
                <a:cubicBezTo>
                  <a:pt x="2423" y="6424"/>
                  <a:pt x="2439" y="6424"/>
                  <a:pt x="2456" y="6424"/>
                </a:cubicBezTo>
                <a:cubicBezTo>
                  <a:pt x="2445" y="6457"/>
                  <a:pt x="2404" y="6471"/>
                  <a:pt x="2356" y="6474"/>
                </a:cubicBezTo>
                <a:cubicBezTo>
                  <a:pt x="2340" y="6474"/>
                  <a:pt x="2323" y="6474"/>
                  <a:pt x="2307" y="6474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017720" y="2187720"/>
            <a:ext cx="223560" cy="196560"/>
          </a:xfrm>
          <a:custGeom>
            <a:avLst/>
            <a:gdLst/>
            <a:ahLst/>
            <a:rect l="l" t="t" r="r" b="b"/>
            <a:pathLst>
              <a:path w="621" h="547">
                <a:moveTo>
                  <a:pt x="2877" y="6226"/>
                </a:moveTo>
                <a:cubicBezTo>
                  <a:pt x="2845" y="6215"/>
                  <a:pt x="2855" y="6211"/>
                  <a:pt x="2828" y="6176"/>
                </a:cubicBezTo>
                <a:cubicBezTo>
                  <a:pt x="2863" y="6141"/>
                  <a:pt x="2887" y="6119"/>
                  <a:pt x="2927" y="6102"/>
                </a:cubicBezTo>
                <a:cubicBezTo>
                  <a:pt x="2986" y="6077"/>
                  <a:pt x="3022" y="6059"/>
                  <a:pt x="3076" y="6102"/>
                </a:cubicBezTo>
                <a:cubicBezTo>
                  <a:pt x="3110" y="6129"/>
                  <a:pt x="3115" y="6210"/>
                  <a:pt x="3101" y="6251"/>
                </a:cubicBezTo>
                <a:cubicBezTo>
                  <a:pt x="3074" y="6332"/>
                  <a:pt x="3013" y="6352"/>
                  <a:pt x="3001" y="6424"/>
                </a:cubicBezTo>
                <a:cubicBezTo>
                  <a:pt x="3001" y="6449"/>
                  <a:pt x="3001" y="6457"/>
                  <a:pt x="3001" y="6474"/>
                </a:cubicBezTo>
                <a:cubicBezTo>
                  <a:pt x="3037" y="6465"/>
                  <a:pt x="3068" y="6431"/>
                  <a:pt x="3101" y="6424"/>
                </a:cubicBezTo>
                <a:cubicBezTo>
                  <a:pt x="3148" y="6414"/>
                  <a:pt x="3177" y="6400"/>
                  <a:pt x="3225" y="6400"/>
                </a:cubicBezTo>
                <a:cubicBezTo>
                  <a:pt x="3233" y="6400"/>
                  <a:pt x="3241" y="6400"/>
                  <a:pt x="3249" y="6400"/>
                </a:cubicBezTo>
              </a:path>
              <a:path w="621" h="547">
                <a:moveTo>
                  <a:pt x="3423" y="6424"/>
                </a:moveTo>
                <a:cubicBezTo>
                  <a:pt x="3431" y="6424"/>
                  <a:pt x="3440" y="6424"/>
                  <a:pt x="3448" y="6424"/>
                </a:cubicBezTo>
                <a:cubicBezTo>
                  <a:pt x="3448" y="6504"/>
                  <a:pt x="3440" y="6504"/>
                  <a:pt x="3398" y="6573"/>
                </a:cubicBezTo>
                <a:cubicBezTo>
                  <a:pt x="3390" y="6590"/>
                  <a:pt x="3381" y="6606"/>
                  <a:pt x="3373" y="6623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571760" y="2178000"/>
            <a:ext cx="374400" cy="223920"/>
          </a:xfrm>
          <a:custGeom>
            <a:avLst/>
            <a:gdLst/>
            <a:ahLst/>
            <a:rect l="l" t="t" r="r" b="b"/>
            <a:pathLst>
              <a:path w="1042" h="621">
                <a:moveTo>
                  <a:pt x="4390" y="6201"/>
                </a:moveTo>
                <a:cubicBezTo>
                  <a:pt x="4390" y="6157"/>
                  <a:pt x="4402" y="6140"/>
                  <a:pt x="4366" y="6127"/>
                </a:cubicBezTo>
                <a:cubicBezTo>
                  <a:pt x="4375" y="6191"/>
                  <a:pt x="4398" y="6223"/>
                  <a:pt x="4440" y="6276"/>
                </a:cubicBezTo>
                <a:cubicBezTo>
                  <a:pt x="4499" y="6259"/>
                  <a:pt x="4547" y="6215"/>
                  <a:pt x="4589" y="6152"/>
                </a:cubicBezTo>
                <a:cubicBezTo>
                  <a:pt x="4597" y="6135"/>
                  <a:pt x="4606" y="6119"/>
                  <a:pt x="4614" y="6102"/>
                </a:cubicBezTo>
                <a:cubicBezTo>
                  <a:pt x="4708" y="6137"/>
                  <a:pt x="4772" y="6243"/>
                  <a:pt x="4812" y="6350"/>
                </a:cubicBezTo>
                <a:cubicBezTo>
                  <a:pt x="4861" y="6482"/>
                  <a:pt x="4842" y="6579"/>
                  <a:pt x="4713" y="6648"/>
                </a:cubicBezTo>
                <a:cubicBezTo>
                  <a:pt x="4638" y="6688"/>
                  <a:pt x="4513" y="6689"/>
                  <a:pt x="4440" y="6648"/>
                </a:cubicBezTo>
                <a:cubicBezTo>
                  <a:pt x="4369" y="6608"/>
                  <a:pt x="4392" y="6560"/>
                  <a:pt x="4415" y="6499"/>
                </a:cubicBezTo>
              </a:path>
              <a:path w="1042" h="621">
                <a:moveTo>
                  <a:pt x="5308" y="6052"/>
                </a:moveTo>
                <a:cubicBezTo>
                  <a:pt x="5316" y="6052"/>
                  <a:pt x="5325" y="6052"/>
                  <a:pt x="5333" y="6052"/>
                </a:cubicBezTo>
                <a:cubicBezTo>
                  <a:pt x="5259" y="6052"/>
                  <a:pt x="5184" y="6052"/>
                  <a:pt x="5110" y="6052"/>
                </a:cubicBezTo>
              </a:path>
              <a:path w="1042" h="621">
                <a:moveTo>
                  <a:pt x="5383" y="6176"/>
                </a:moveTo>
                <a:cubicBezTo>
                  <a:pt x="5391" y="6184"/>
                  <a:pt x="5399" y="6193"/>
                  <a:pt x="5407" y="6201"/>
                </a:cubicBezTo>
                <a:cubicBezTo>
                  <a:pt x="5358" y="6201"/>
                  <a:pt x="5308" y="6201"/>
                  <a:pt x="5259" y="6201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098800" y="2054160"/>
            <a:ext cx="142920" cy="187560"/>
          </a:xfrm>
          <a:custGeom>
            <a:avLst/>
            <a:gdLst/>
            <a:ahLst/>
            <a:rect l="l" t="t" r="r" b="b"/>
            <a:pathLst>
              <a:path w="398" h="522">
                <a:moveTo>
                  <a:pt x="5904" y="5879"/>
                </a:moveTo>
                <a:cubicBezTo>
                  <a:pt x="5893" y="5847"/>
                  <a:pt x="5886" y="5840"/>
                  <a:pt x="5854" y="5829"/>
                </a:cubicBezTo>
                <a:cubicBezTo>
                  <a:pt x="5864" y="5799"/>
                  <a:pt x="5875" y="5788"/>
                  <a:pt x="5904" y="5755"/>
                </a:cubicBezTo>
                <a:cubicBezTo>
                  <a:pt x="5947" y="5706"/>
                  <a:pt x="5964" y="5705"/>
                  <a:pt x="6028" y="5705"/>
                </a:cubicBezTo>
                <a:cubicBezTo>
                  <a:pt x="6064" y="5705"/>
                  <a:pt x="6132" y="5689"/>
                  <a:pt x="6152" y="5730"/>
                </a:cubicBezTo>
                <a:cubicBezTo>
                  <a:pt x="6187" y="5799"/>
                  <a:pt x="6125" y="5833"/>
                  <a:pt x="6102" y="5879"/>
                </a:cubicBezTo>
                <a:cubicBezTo>
                  <a:pt x="6086" y="5911"/>
                  <a:pt x="6043" y="5943"/>
                  <a:pt x="6028" y="5978"/>
                </a:cubicBezTo>
                <a:cubicBezTo>
                  <a:pt x="6028" y="5986"/>
                  <a:pt x="6028" y="5995"/>
                  <a:pt x="6028" y="6003"/>
                </a:cubicBezTo>
                <a:cubicBezTo>
                  <a:pt x="6060" y="6011"/>
                  <a:pt x="6121" y="6015"/>
                  <a:pt x="6152" y="6028"/>
                </a:cubicBezTo>
                <a:cubicBezTo>
                  <a:pt x="6187" y="6042"/>
                  <a:pt x="6222" y="6062"/>
                  <a:pt x="6226" y="6102"/>
                </a:cubicBezTo>
                <a:cubicBezTo>
                  <a:pt x="6231" y="6147"/>
                  <a:pt x="6224" y="6173"/>
                  <a:pt x="6176" y="6176"/>
                </a:cubicBezTo>
                <a:cubicBezTo>
                  <a:pt x="6090" y="6182"/>
                  <a:pt x="6017" y="6201"/>
                  <a:pt x="5928" y="6201"/>
                </a:cubicBezTo>
                <a:cubicBezTo>
                  <a:pt x="5867" y="6201"/>
                  <a:pt x="5851" y="6192"/>
                  <a:pt x="5829" y="6226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911320" y="2143080"/>
            <a:ext cx="723960" cy="250920"/>
          </a:xfrm>
          <a:custGeom>
            <a:avLst/>
            <a:gdLst/>
            <a:ahLst/>
            <a:rect l="l" t="t" r="r" b="b"/>
            <a:pathLst>
              <a:path w="2011" h="696">
                <a:moveTo>
                  <a:pt x="8136" y="6276"/>
                </a:moveTo>
                <a:cubicBezTo>
                  <a:pt x="8111" y="6276"/>
                  <a:pt x="8103" y="6276"/>
                  <a:pt x="8086" y="6276"/>
                </a:cubicBezTo>
                <a:cubicBezTo>
                  <a:pt x="8096" y="6236"/>
                  <a:pt x="8131" y="6186"/>
                  <a:pt x="8186" y="6201"/>
                </a:cubicBezTo>
                <a:cubicBezTo>
                  <a:pt x="8233" y="6214"/>
                  <a:pt x="8298" y="6281"/>
                  <a:pt x="8310" y="6325"/>
                </a:cubicBezTo>
                <a:cubicBezTo>
                  <a:pt x="8322" y="6368"/>
                  <a:pt x="8283" y="6460"/>
                  <a:pt x="8235" y="6474"/>
                </a:cubicBezTo>
                <a:cubicBezTo>
                  <a:pt x="8195" y="6486"/>
                  <a:pt x="8128" y="6474"/>
                  <a:pt x="8086" y="6474"/>
                </a:cubicBezTo>
              </a:path>
              <a:path w="2011" h="696">
                <a:moveTo>
                  <a:pt x="8359" y="6226"/>
                </a:moveTo>
                <a:cubicBezTo>
                  <a:pt x="8367" y="6218"/>
                  <a:pt x="8376" y="6209"/>
                  <a:pt x="8384" y="6201"/>
                </a:cubicBezTo>
                <a:cubicBezTo>
                  <a:pt x="8336" y="6249"/>
                  <a:pt x="8334" y="6256"/>
                  <a:pt x="8334" y="6325"/>
                </a:cubicBezTo>
                <a:cubicBezTo>
                  <a:pt x="8334" y="6389"/>
                  <a:pt x="8330" y="6439"/>
                  <a:pt x="8409" y="6449"/>
                </a:cubicBezTo>
                <a:cubicBezTo>
                  <a:pt x="8467" y="6457"/>
                  <a:pt x="8508" y="6424"/>
                  <a:pt x="8558" y="6400"/>
                </a:cubicBezTo>
              </a:path>
              <a:path w="2011" h="696">
                <a:moveTo>
                  <a:pt x="9054" y="6226"/>
                </a:moveTo>
                <a:cubicBezTo>
                  <a:pt x="9002" y="6226"/>
                  <a:pt x="8971" y="6238"/>
                  <a:pt x="8930" y="6251"/>
                </a:cubicBezTo>
                <a:cubicBezTo>
                  <a:pt x="8910" y="6257"/>
                  <a:pt x="8876" y="6251"/>
                  <a:pt x="8855" y="6251"/>
                </a:cubicBezTo>
              </a:path>
              <a:path w="2011" h="696">
                <a:moveTo>
                  <a:pt x="9004" y="6325"/>
                </a:moveTo>
                <a:cubicBezTo>
                  <a:pt x="9045" y="6345"/>
                  <a:pt x="9051" y="6354"/>
                  <a:pt x="9079" y="6350"/>
                </a:cubicBezTo>
                <a:cubicBezTo>
                  <a:pt x="9070" y="6378"/>
                  <a:pt x="9045" y="6397"/>
                  <a:pt x="9004" y="6400"/>
                </a:cubicBezTo>
                <a:cubicBezTo>
                  <a:pt x="8947" y="6404"/>
                  <a:pt x="8945" y="6405"/>
                  <a:pt x="8905" y="6375"/>
                </a:cubicBezTo>
              </a:path>
              <a:path w="2011" h="696">
                <a:moveTo>
                  <a:pt x="9426" y="6077"/>
                </a:moveTo>
                <a:cubicBezTo>
                  <a:pt x="9398" y="6077"/>
                  <a:pt x="9387" y="6075"/>
                  <a:pt x="9376" y="6052"/>
                </a:cubicBezTo>
                <a:cubicBezTo>
                  <a:pt x="9412" y="6017"/>
                  <a:pt x="9449" y="5965"/>
                  <a:pt x="9500" y="5953"/>
                </a:cubicBezTo>
                <a:cubicBezTo>
                  <a:pt x="9535" y="5945"/>
                  <a:pt x="9629" y="5938"/>
                  <a:pt x="9649" y="5978"/>
                </a:cubicBezTo>
                <a:cubicBezTo>
                  <a:pt x="9668" y="6016"/>
                  <a:pt x="9645" y="6095"/>
                  <a:pt x="9624" y="6127"/>
                </a:cubicBezTo>
                <a:cubicBezTo>
                  <a:pt x="9593" y="6173"/>
                  <a:pt x="9575" y="6194"/>
                  <a:pt x="9575" y="6251"/>
                </a:cubicBezTo>
                <a:cubicBezTo>
                  <a:pt x="9575" y="6333"/>
                  <a:pt x="9678" y="6282"/>
                  <a:pt x="9723" y="6300"/>
                </a:cubicBezTo>
                <a:cubicBezTo>
                  <a:pt x="9758" y="6314"/>
                  <a:pt x="9794" y="6336"/>
                  <a:pt x="9798" y="6375"/>
                </a:cubicBezTo>
                <a:cubicBezTo>
                  <a:pt x="9803" y="6416"/>
                  <a:pt x="9734" y="6422"/>
                  <a:pt x="9699" y="6424"/>
                </a:cubicBezTo>
                <a:cubicBezTo>
                  <a:pt x="9637" y="6428"/>
                  <a:pt x="9644" y="6415"/>
                  <a:pt x="9599" y="6449"/>
                </a:cubicBezTo>
              </a:path>
              <a:path w="2011" h="696">
                <a:moveTo>
                  <a:pt x="9947" y="6424"/>
                </a:moveTo>
                <a:cubicBezTo>
                  <a:pt x="10032" y="6424"/>
                  <a:pt x="10117" y="6405"/>
                  <a:pt x="10096" y="6524"/>
                </a:cubicBezTo>
                <a:cubicBezTo>
                  <a:pt x="10072" y="6596"/>
                  <a:pt x="10065" y="6619"/>
                  <a:pt x="10021" y="66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929040" y="2160720"/>
            <a:ext cx="322200" cy="223560"/>
          </a:xfrm>
          <a:custGeom>
            <a:avLst/>
            <a:gdLst/>
            <a:ahLst/>
            <a:rect l="l" t="t" r="r" b="b"/>
            <a:pathLst>
              <a:path w="894" h="621">
                <a:moveTo>
                  <a:pt x="11013" y="6176"/>
                </a:moveTo>
                <a:cubicBezTo>
                  <a:pt x="10988" y="6144"/>
                  <a:pt x="10997" y="6106"/>
                  <a:pt x="10964" y="6102"/>
                </a:cubicBezTo>
                <a:cubicBezTo>
                  <a:pt x="10956" y="6102"/>
                  <a:pt x="10947" y="6102"/>
                  <a:pt x="10939" y="6102"/>
                </a:cubicBezTo>
                <a:cubicBezTo>
                  <a:pt x="10903" y="6162"/>
                  <a:pt x="10921" y="6235"/>
                  <a:pt x="10964" y="6300"/>
                </a:cubicBezTo>
                <a:cubicBezTo>
                  <a:pt x="11008" y="6367"/>
                  <a:pt x="11073" y="6365"/>
                  <a:pt x="11137" y="6325"/>
                </a:cubicBezTo>
                <a:cubicBezTo>
                  <a:pt x="11183" y="6297"/>
                  <a:pt x="11203" y="6184"/>
                  <a:pt x="11286" y="6226"/>
                </a:cubicBezTo>
                <a:cubicBezTo>
                  <a:pt x="11379" y="6273"/>
                  <a:pt x="11427" y="6383"/>
                  <a:pt x="11435" y="6474"/>
                </a:cubicBezTo>
                <a:cubicBezTo>
                  <a:pt x="11444" y="6572"/>
                  <a:pt x="11373" y="6606"/>
                  <a:pt x="11286" y="6623"/>
                </a:cubicBezTo>
                <a:cubicBezTo>
                  <a:pt x="11232" y="6633"/>
                  <a:pt x="11167" y="6623"/>
                  <a:pt x="11112" y="6623"/>
                </a:cubicBezTo>
              </a:path>
              <a:path w="894" h="621">
                <a:moveTo>
                  <a:pt x="11782" y="6028"/>
                </a:moveTo>
                <a:cubicBezTo>
                  <a:pt x="11790" y="6028"/>
                  <a:pt x="11799" y="6028"/>
                  <a:pt x="11807" y="6028"/>
                </a:cubicBezTo>
                <a:cubicBezTo>
                  <a:pt x="11796" y="5995"/>
                  <a:pt x="11753" y="5988"/>
                  <a:pt x="11708" y="6003"/>
                </a:cubicBezTo>
                <a:cubicBezTo>
                  <a:pt x="11660" y="6019"/>
                  <a:pt x="11628" y="6041"/>
                  <a:pt x="11584" y="6052"/>
                </a:cubicBezTo>
              </a:path>
              <a:path w="894" h="621">
                <a:moveTo>
                  <a:pt x="11782" y="6152"/>
                </a:moveTo>
                <a:cubicBezTo>
                  <a:pt x="11790" y="6152"/>
                  <a:pt x="11799" y="6152"/>
                  <a:pt x="11807" y="6152"/>
                </a:cubicBezTo>
                <a:cubicBezTo>
                  <a:pt x="11752" y="6152"/>
                  <a:pt x="11713" y="6172"/>
                  <a:pt x="11658" y="6176"/>
                </a:cubicBezTo>
                <a:cubicBezTo>
                  <a:pt x="11625" y="6176"/>
                  <a:pt x="11609" y="6176"/>
                  <a:pt x="11584" y="61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384800" y="2071800"/>
            <a:ext cx="152280" cy="179280"/>
          </a:xfrm>
          <a:custGeom>
            <a:avLst/>
            <a:gdLst/>
            <a:ahLst/>
            <a:rect l="l" t="t" r="r" b="b"/>
            <a:pathLst>
              <a:path w="423" h="497">
                <a:moveTo>
                  <a:pt x="12204" y="5829"/>
                </a:moveTo>
                <a:cubicBezTo>
                  <a:pt x="12227" y="5806"/>
                  <a:pt x="12231" y="5798"/>
                  <a:pt x="12254" y="5804"/>
                </a:cubicBezTo>
                <a:cubicBezTo>
                  <a:pt x="12215" y="5843"/>
                  <a:pt x="12193" y="5874"/>
                  <a:pt x="12179" y="5928"/>
                </a:cubicBezTo>
                <a:cubicBezTo>
                  <a:pt x="12158" y="6010"/>
                  <a:pt x="12235" y="6013"/>
                  <a:pt x="12278" y="6028"/>
                </a:cubicBezTo>
                <a:cubicBezTo>
                  <a:pt x="12359" y="6056"/>
                  <a:pt x="12435" y="6041"/>
                  <a:pt x="12502" y="6102"/>
                </a:cubicBezTo>
                <a:cubicBezTo>
                  <a:pt x="12540" y="6137"/>
                  <a:pt x="12525" y="6180"/>
                  <a:pt x="12477" y="6201"/>
                </a:cubicBezTo>
                <a:cubicBezTo>
                  <a:pt x="12420" y="6226"/>
                  <a:pt x="12360" y="6210"/>
                  <a:pt x="12303" y="6226"/>
                </a:cubicBezTo>
                <a:cubicBezTo>
                  <a:pt x="12252" y="6240"/>
                  <a:pt x="12253" y="6251"/>
                  <a:pt x="12204" y="6251"/>
                </a:cubicBezTo>
              </a:path>
              <a:path w="423" h="497">
                <a:moveTo>
                  <a:pt x="12601" y="5829"/>
                </a:moveTo>
                <a:cubicBezTo>
                  <a:pt x="12588" y="5741"/>
                  <a:pt x="12575" y="5750"/>
                  <a:pt x="12502" y="5779"/>
                </a:cubicBezTo>
                <a:cubicBezTo>
                  <a:pt x="12477" y="5787"/>
                  <a:pt x="12452" y="5796"/>
                  <a:pt x="12427" y="58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911320" y="5510160"/>
            <a:ext cx="177840" cy="187200"/>
          </a:xfrm>
          <a:custGeom>
            <a:avLst/>
            <a:gdLst/>
            <a:ahLst/>
            <a:rect l="l" t="t" r="r" b="b"/>
            <a:pathLst>
              <a:path w="497" h="522">
                <a:moveTo>
                  <a:pt x="8508" y="15453"/>
                </a:moveTo>
                <a:cubicBezTo>
                  <a:pt x="8533" y="15420"/>
                  <a:pt x="8548" y="15394"/>
                  <a:pt x="8558" y="15354"/>
                </a:cubicBezTo>
                <a:cubicBezTo>
                  <a:pt x="8505" y="15367"/>
                  <a:pt x="8447" y="15407"/>
                  <a:pt x="8409" y="15453"/>
                </a:cubicBezTo>
                <a:cubicBezTo>
                  <a:pt x="8338" y="15540"/>
                  <a:pt x="8283" y="15640"/>
                  <a:pt x="8210" y="15726"/>
                </a:cubicBezTo>
                <a:cubicBezTo>
                  <a:pt x="8167" y="15776"/>
                  <a:pt x="8169" y="15782"/>
                  <a:pt x="8136" y="15825"/>
                </a:cubicBezTo>
              </a:path>
              <a:path w="497" h="522">
                <a:moveTo>
                  <a:pt x="8483" y="15751"/>
                </a:moveTo>
                <a:cubicBezTo>
                  <a:pt x="8541" y="15751"/>
                  <a:pt x="8549" y="15751"/>
                  <a:pt x="8582" y="15751"/>
                </a:cubicBezTo>
                <a:cubicBezTo>
                  <a:pt x="8526" y="15679"/>
                  <a:pt x="8478" y="15638"/>
                  <a:pt x="8409" y="15577"/>
                </a:cubicBezTo>
                <a:cubicBezTo>
                  <a:pt x="8328" y="15506"/>
                  <a:pt x="8248" y="15417"/>
                  <a:pt x="8161" y="15354"/>
                </a:cubicBezTo>
                <a:cubicBezTo>
                  <a:pt x="8106" y="15314"/>
                  <a:pt x="8101" y="15350"/>
                  <a:pt x="8086" y="15304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321000" y="4660920"/>
            <a:ext cx="179280" cy="196920"/>
          </a:xfrm>
          <a:custGeom>
            <a:avLst/>
            <a:gdLst/>
            <a:ahLst/>
            <a:rect l="l" t="t" r="r" b="b"/>
            <a:pathLst>
              <a:path w="497" h="547">
                <a:moveTo>
                  <a:pt x="9649" y="13022"/>
                </a:moveTo>
                <a:cubicBezTo>
                  <a:pt x="9677" y="12986"/>
                  <a:pt x="9688" y="12980"/>
                  <a:pt x="9699" y="12948"/>
                </a:cubicBezTo>
                <a:cubicBezTo>
                  <a:pt x="9645" y="13002"/>
                  <a:pt x="9595" y="13062"/>
                  <a:pt x="9550" y="13122"/>
                </a:cubicBezTo>
                <a:cubicBezTo>
                  <a:pt x="9486" y="13207"/>
                  <a:pt x="9423" y="13291"/>
                  <a:pt x="9351" y="13370"/>
                </a:cubicBezTo>
                <a:cubicBezTo>
                  <a:pt x="9325" y="13398"/>
                  <a:pt x="9271" y="13481"/>
                  <a:pt x="9252" y="13494"/>
                </a:cubicBezTo>
                <a:cubicBezTo>
                  <a:pt x="9210" y="13522"/>
                  <a:pt x="9249" y="13458"/>
                  <a:pt x="9252" y="13444"/>
                </a:cubicBezTo>
              </a:path>
              <a:path w="497" h="547">
                <a:moveTo>
                  <a:pt x="9649" y="13370"/>
                </a:moveTo>
                <a:cubicBezTo>
                  <a:pt x="9690" y="13370"/>
                  <a:pt x="9698" y="13370"/>
                  <a:pt x="9723" y="13370"/>
                </a:cubicBezTo>
                <a:cubicBezTo>
                  <a:pt x="9651" y="13296"/>
                  <a:pt x="9581" y="13210"/>
                  <a:pt x="9500" y="13146"/>
                </a:cubicBezTo>
                <a:cubicBezTo>
                  <a:pt x="9435" y="13094"/>
                  <a:pt x="9367" y="13049"/>
                  <a:pt x="9302" y="12998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295800" y="4224240"/>
            <a:ext cx="196560" cy="142920"/>
          </a:xfrm>
          <a:custGeom>
            <a:avLst/>
            <a:gdLst/>
            <a:ahLst/>
            <a:rect l="l" t="t" r="r" b="b"/>
            <a:pathLst>
              <a:path w="547" h="397">
                <a:moveTo>
                  <a:pt x="9550" y="11757"/>
                </a:moveTo>
                <a:cubicBezTo>
                  <a:pt x="9575" y="11757"/>
                  <a:pt x="9583" y="11757"/>
                  <a:pt x="9599" y="11757"/>
                </a:cubicBezTo>
                <a:cubicBezTo>
                  <a:pt x="9585" y="11714"/>
                  <a:pt x="9563" y="11743"/>
                  <a:pt x="9550" y="11782"/>
                </a:cubicBezTo>
                <a:cubicBezTo>
                  <a:pt x="9535" y="11825"/>
                  <a:pt x="9510" y="11846"/>
                  <a:pt x="9475" y="11881"/>
                </a:cubicBezTo>
                <a:cubicBezTo>
                  <a:pt x="9436" y="11920"/>
                  <a:pt x="9434" y="11968"/>
                  <a:pt x="9401" y="12005"/>
                </a:cubicBezTo>
                <a:cubicBezTo>
                  <a:pt x="9376" y="12033"/>
                  <a:pt x="9355" y="12069"/>
                  <a:pt x="9351" y="12105"/>
                </a:cubicBezTo>
                <a:cubicBezTo>
                  <a:pt x="9347" y="12140"/>
                  <a:pt x="9337" y="12148"/>
                  <a:pt x="9351" y="12105"/>
                </a:cubicBezTo>
              </a:path>
              <a:path w="547" h="397">
                <a:moveTo>
                  <a:pt x="9674" y="12055"/>
                </a:moveTo>
                <a:cubicBezTo>
                  <a:pt x="9682" y="12055"/>
                  <a:pt x="9691" y="12055"/>
                  <a:pt x="9699" y="12055"/>
                </a:cubicBezTo>
                <a:cubicBezTo>
                  <a:pt x="9688" y="12021"/>
                  <a:pt x="9680" y="12019"/>
                  <a:pt x="9649" y="12005"/>
                </a:cubicBezTo>
                <a:cubicBezTo>
                  <a:pt x="9576" y="11973"/>
                  <a:pt x="9527" y="11956"/>
                  <a:pt x="9451" y="11931"/>
                </a:cubicBezTo>
                <a:cubicBezTo>
                  <a:pt x="9366" y="11902"/>
                  <a:pt x="9307" y="11829"/>
                  <a:pt x="9227" y="11807"/>
                </a:cubicBezTo>
                <a:cubicBezTo>
                  <a:pt x="9173" y="11792"/>
                  <a:pt x="9169" y="11804"/>
                  <a:pt x="9153" y="117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776760" y="3768840"/>
            <a:ext cx="152280" cy="169920"/>
          </a:xfrm>
          <a:custGeom>
            <a:avLst/>
            <a:gdLst/>
            <a:ahLst/>
            <a:rect l="l" t="t" r="r" b="b"/>
            <a:pathLst>
              <a:path w="423" h="472">
                <a:moveTo>
                  <a:pt x="10790" y="10492"/>
                </a:moveTo>
                <a:cubicBezTo>
                  <a:pt x="10790" y="10454"/>
                  <a:pt x="10760" y="10510"/>
                  <a:pt x="10740" y="10542"/>
                </a:cubicBezTo>
                <a:cubicBezTo>
                  <a:pt x="10705" y="10597"/>
                  <a:pt x="10688" y="10696"/>
                  <a:pt x="10641" y="10740"/>
                </a:cubicBezTo>
                <a:cubicBezTo>
                  <a:pt x="10585" y="10792"/>
                  <a:pt x="10580" y="10826"/>
                  <a:pt x="10542" y="10889"/>
                </a:cubicBezTo>
                <a:cubicBezTo>
                  <a:pt x="10519" y="10912"/>
                  <a:pt x="10515" y="10920"/>
                  <a:pt x="10492" y="10914"/>
                </a:cubicBezTo>
                <a:cubicBezTo>
                  <a:pt x="10506" y="10956"/>
                  <a:pt x="10505" y="10942"/>
                  <a:pt x="10542" y="10914"/>
                </a:cubicBezTo>
              </a:path>
              <a:path w="423" h="472">
                <a:moveTo>
                  <a:pt x="10864" y="10889"/>
                </a:moveTo>
                <a:cubicBezTo>
                  <a:pt x="10881" y="10889"/>
                  <a:pt x="10897" y="10889"/>
                  <a:pt x="10914" y="10889"/>
                </a:cubicBezTo>
                <a:cubicBezTo>
                  <a:pt x="10899" y="10828"/>
                  <a:pt x="10862" y="10829"/>
                  <a:pt x="10815" y="10790"/>
                </a:cubicBezTo>
                <a:cubicBezTo>
                  <a:pt x="10744" y="10731"/>
                  <a:pt x="10668" y="10667"/>
                  <a:pt x="10592" y="10616"/>
                </a:cubicBezTo>
                <a:cubicBezTo>
                  <a:pt x="10552" y="10589"/>
                  <a:pt x="10534" y="10592"/>
                  <a:pt x="10492" y="10592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197240" y="2919240"/>
            <a:ext cx="177840" cy="152640"/>
          </a:xfrm>
          <a:custGeom>
            <a:avLst/>
            <a:gdLst/>
            <a:ahLst/>
            <a:rect l="l" t="t" r="r" b="b"/>
            <a:pathLst>
              <a:path w="497" h="423">
                <a:moveTo>
                  <a:pt x="12105" y="8136"/>
                </a:moveTo>
                <a:cubicBezTo>
                  <a:pt x="12105" y="8128"/>
                  <a:pt x="12105" y="8119"/>
                  <a:pt x="12105" y="8111"/>
                </a:cubicBezTo>
                <a:cubicBezTo>
                  <a:pt x="12030" y="8186"/>
                  <a:pt x="11955" y="8259"/>
                  <a:pt x="11881" y="8334"/>
                </a:cubicBezTo>
                <a:cubicBezTo>
                  <a:pt x="11836" y="8379"/>
                  <a:pt x="11750" y="8505"/>
                  <a:pt x="11708" y="8533"/>
                </a:cubicBezTo>
                <a:cubicBezTo>
                  <a:pt x="11667" y="8560"/>
                  <a:pt x="11719" y="8501"/>
                  <a:pt x="11733" y="8483"/>
                </a:cubicBezTo>
              </a:path>
              <a:path w="497" h="423">
                <a:moveTo>
                  <a:pt x="12129" y="8458"/>
                </a:moveTo>
                <a:cubicBezTo>
                  <a:pt x="12137" y="8458"/>
                  <a:pt x="12146" y="8458"/>
                  <a:pt x="12154" y="8458"/>
                </a:cubicBezTo>
                <a:cubicBezTo>
                  <a:pt x="12139" y="8401"/>
                  <a:pt x="12105" y="8391"/>
                  <a:pt x="12055" y="8359"/>
                </a:cubicBezTo>
                <a:cubicBezTo>
                  <a:pt x="11962" y="8300"/>
                  <a:pt x="11871" y="8242"/>
                  <a:pt x="11782" y="8186"/>
                </a:cubicBezTo>
                <a:cubicBezTo>
                  <a:pt x="11739" y="8159"/>
                  <a:pt x="11698" y="8143"/>
                  <a:pt x="11658" y="81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1854360" y="2266920"/>
            <a:ext cx="2955600" cy="43718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3006720" y="1967040"/>
            <a:ext cx="1765440" cy="3657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768920" y="2776680"/>
            <a:ext cx="669960" cy="519120"/>
          </a:xfrm>
          <a:custGeom>
            <a:avLst/>
            <a:gdLst/>
            <a:ahLst/>
            <a:rect l="l" t="t" r="r" b="b"/>
            <a:pathLst>
              <a:path w="1861" h="1440">
                <a:moveTo>
                  <a:pt x="13271" y="8012"/>
                </a:moveTo>
                <a:cubicBezTo>
                  <a:pt x="13226" y="7952"/>
                  <a:pt x="13243" y="7956"/>
                  <a:pt x="13295" y="7913"/>
                </a:cubicBezTo>
                <a:cubicBezTo>
                  <a:pt x="13336" y="7879"/>
                  <a:pt x="13424" y="7868"/>
                  <a:pt x="13469" y="7913"/>
                </a:cubicBezTo>
                <a:cubicBezTo>
                  <a:pt x="13523" y="7967"/>
                  <a:pt x="13532" y="8049"/>
                  <a:pt x="13494" y="8111"/>
                </a:cubicBezTo>
                <a:cubicBezTo>
                  <a:pt x="13459" y="8167"/>
                  <a:pt x="13405" y="8181"/>
                  <a:pt x="13345" y="8186"/>
                </a:cubicBezTo>
                <a:cubicBezTo>
                  <a:pt x="13337" y="8186"/>
                  <a:pt x="13328" y="8186"/>
                  <a:pt x="13320" y="8186"/>
                </a:cubicBezTo>
              </a:path>
              <a:path w="1861" h="1440">
                <a:moveTo>
                  <a:pt x="13593" y="7888"/>
                </a:moveTo>
                <a:cubicBezTo>
                  <a:pt x="13618" y="7863"/>
                  <a:pt x="13642" y="7838"/>
                  <a:pt x="13667" y="7813"/>
                </a:cubicBezTo>
                <a:cubicBezTo>
                  <a:pt x="13619" y="7862"/>
                  <a:pt x="13618" y="7868"/>
                  <a:pt x="13618" y="7938"/>
                </a:cubicBezTo>
                <a:cubicBezTo>
                  <a:pt x="13618" y="8012"/>
                  <a:pt x="13654" y="8033"/>
                  <a:pt x="13717" y="8037"/>
                </a:cubicBezTo>
                <a:cubicBezTo>
                  <a:pt x="13767" y="8037"/>
                  <a:pt x="13783" y="8037"/>
                  <a:pt x="13816" y="8037"/>
                </a:cubicBezTo>
              </a:path>
              <a:path w="1861" h="1440">
                <a:moveTo>
                  <a:pt x="14312" y="7863"/>
                </a:moveTo>
                <a:cubicBezTo>
                  <a:pt x="14320" y="7863"/>
                  <a:pt x="14329" y="7863"/>
                  <a:pt x="14337" y="7863"/>
                </a:cubicBezTo>
                <a:cubicBezTo>
                  <a:pt x="14294" y="7874"/>
                  <a:pt x="14254" y="7901"/>
                  <a:pt x="14213" y="7913"/>
                </a:cubicBezTo>
                <a:cubicBezTo>
                  <a:pt x="14188" y="7913"/>
                  <a:pt x="14180" y="7913"/>
                  <a:pt x="14163" y="7913"/>
                </a:cubicBezTo>
              </a:path>
              <a:path w="1861" h="1440">
                <a:moveTo>
                  <a:pt x="14238" y="8012"/>
                </a:moveTo>
                <a:cubicBezTo>
                  <a:pt x="14255" y="8012"/>
                  <a:pt x="14271" y="8012"/>
                  <a:pt x="14288" y="8012"/>
                </a:cubicBezTo>
                <a:cubicBezTo>
                  <a:pt x="14279" y="8040"/>
                  <a:pt x="14254" y="8059"/>
                  <a:pt x="14213" y="8062"/>
                </a:cubicBezTo>
                <a:cubicBezTo>
                  <a:pt x="14164" y="8066"/>
                  <a:pt x="14113" y="8062"/>
                  <a:pt x="14064" y="8062"/>
                </a:cubicBezTo>
              </a:path>
              <a:path w="1861" h="1440">
                <a:moveTo>
                  <a:pt x="14808" y="7789"/>
                </a:moveTo>
                <a:cubicBezTo>
                  <a:pt x="14800" y="7789"/>
                  <a:pt x="14792" y="7789"/>
                  <a:pt x="14784" y="7789"/>
                </a:cubicBezTo>
                <a:cubicBezTo>
                  <a:pt x="14784" y="7747"/>
                  <a:pt x="14789" y="7729"/>
                  <a:pt x="14833" y="7714"/>
                </a:cubicBezTo>
                <a:cubicBezTo>
                  <a:pt x="14869" y="7702"/>
                  <a:pt x="14986" y="7698"/>
                  <a:pt x="15007" y="7739"/>
                </a:cubicBezTo>
                <a:cubicBezTo>
                  <a:pt x="15037" y="7798"/>
                  <a:pt x="14989" y="7834"/>
                  <a:pt x="14957" y="7863"/>
                </a:cubicBezTo>
                <a:cubicBezTo>
                  <a:pt x="14927" y="7890"/>
                  <a:pt x="14915" y="7889"/>
                  <a:pt x="14883" y="7913"/>
                </a:cubicBezTo>
                <a:cubicBezTo>
                  <a:pt x="14901" y="7985"/>
                  <a:pt x="14928" y="7960"/>
                  <a:pt x="14982" y="7987"/>
                </a:cubicBezTo>
                <a:cubicBezTo>
                  <a:pt x="15026" y="8009"/>
                  <a:pt x="15048" y="8026"/>
                  <a:pt x="15081" y="8037"/>
                </a:cubicBezTo>
                <a:cubicBezTo>
                  <a:pt x="15028" y="8090"/>
                  <a:pt x="15008" y="8086"/>
                  <a:pt x="14932" y="8086"/>
                </a:cubicBezTo>
                <a:cubicBezTo>
                  <a:pt x="14883" y="8086"/>
                  <a:pt x="14833" y="8086"/>
                  <a:pt x="14784" y="8086"/>
                </a:cubicBezTo>
              </a:path>
              <a:path w="1861" h="1440">
                <a:moveTo>
                  <a:pt x="13419" y="8558"/>
                </a:moveTo>
                <a:cubicBezTo>
                  <a:pt x="13408" y="8613"/>
                  <a:pt x="13379" y="8671"/>
                  <a:pt x="13395" y="8731"/>
                </a:cubicBezTo>
                <a:cubicBezTo>
                  <a:pt x="13419" y="8781"/>
                  <a:pt x="13427" y="8797"/>
                  <a:pt x="13444" y="8830"/>
                </a:cubicBezTo>
                <a:cubicBezTo>
                  <a:pt x="13516" y="8810"/>
                  <a:pt x="13530" y="8757"/>
                  <a:pt x="13593" y="8706"/>
                </a:cubicBezTo>
                <a:cubicBezTo>
                  <a:pt x="13671" y="8642"/>
                  <a:pt x="13688" y="8746"/>
                  <a:pt x="13717" y="8806"/>
                </a:cubicBezTo>
                <a:cubicBezTo>
                  <a:pt x="13758" y="8891"/>
                  <a:pt x="13802" y="9029"/>
                  <a:pt x="13767" y="9128"/>
                </a:cubicBezTo>
                <a:cubicBezTo>
                  <a:pt x="13744" y="9193"/>
                  <a:pt x="13629" y="9141"/>
                  <a:pt x="13593" y="9128"/>
                </a:cubicBezTo>
                <a:cubicBezTo>
                  <a:pt x="13526" y="9105"/>
                  <a:pt x="13505" y="9104"/>
                  <a:pt x="13494" y="9054"/>
                </a:cubicBezTo>
              </a:path>
              <a:path w="1861" h="1440">
                <a:moveTo>
                  <a:pt x="14337" y="8806"/>
                </a:moveTo>
                <a:cubicBezTo>
                  <a:pt x="14337" y="8830"/>
                  <a:pt x="14337" y="8839"/>
                  <a:pt x="14337" y="8855"/>
                </a:cubicBezTo>
                <a:cubicBezTo>
                  <a:pt x="14299" y="8868"/>
                  <a:pt x="14317" y="8880"/>
                  <a:pt x="14263" y="8880"/>
                </a:cubicBezTo>
                <a:cubicBezTo>
                  <a:pt x="14189" y="8880"/>
                  <a:pt x="14096" y="8898"/>
                  <a:pt x="14039" y="8855"/>
                </a:cubicBezTo>
              </a:path>
              <a:path w="1861" h="1440">
                <a:moveTo>
                  <a:pt x="14808" y="8434"/>
                </a:moveTo>
                <a:cubicBezTo>
                  <a:pt x="14832" y="8445"/>
                  <a:pt x="14807" y="8473"/>
                  <a:pt x="14784" y="8508"/>
                </a:cubicBezTo>
                <a:cubicBezTo>
                  <a:pt x="14765" y="8537"/>
                  <a:pt x="14732" y="8581"/>
                  <a:pt x="14784" y="8607"/>
                </a:cubicBezTo>
                <a:cubicBezTo>
                  <a:pt x="14818" y="8624"/>
                  <a:pt x="14849" y="8637"/>
                  <a:pt x="14883" y="8657"/>
                </a:cubicBezTo>
                <a:cubicBezTo>
                  <a:pt x="14955" y="8698"/>
                  <a:pt x="14957" y="8668"/>
                  <a:pt x="14957" y="8756"/>
                </a:cubicBezTo>
                <a:cubicBezTo>
                  <a:pt x="14957" y="8808"/>
                  <a:pt x="14940" y="8851"/>
                  <a:pt x="14883" y="8855"/>
                </a:cubicBezTo>
                <a:cubicBezTo>
                  <a:pt x="14819" y="8860"/>
                  <a:pt x="14732" y="8872"/>
                  <a:pt x="14684" y="8830"/>
                </a:cubicBezTo>
                <a:cubicBezTo>
                  <a:pt x="14676" y="8822"/>
                  <a:pt x="14668" y="8814"/>
                  <a:pt x="14660" y="8806"/>
                </a:cubicBezTo>
              </a:path>
              <a:path w="1861" h="1440">
                <a:moveTo>
                  <a:pt x="15081" y="8359"/>
                </a:moveTo>
                <a:cubicBezTo>
                  <a:pt x="15101" y="8319"/>
                  <a:pt x="15110" y="8313"/>
                  <a:pt x="15106" y="8285"/>
                </a:cubicBezTo>
                <a:cubicBezTo>
                  <a:pt x="15047" y="8332"/>
                  <a:pt x="14993" y="8321"/>
                  <a:pt x="14932" y="8359"/>
                </a:cubicBezTo>
                <a:cubicBezTo>
                  <a:pt x="14924" y="8367"/>
                  <a:pt x="14916" y="8376"/>
                  <a:pt x="14908" y="8384"/>
                </a:cubicBezTo>
              </a:path>
              <a:path w="1861" h="1440">
                <a:moveTo>
                  <a:pt x="14312" y="8632"/>
                </a:moveTo>
                <a:cubicBezTo>
                  <a:pt x="14320" y="8632"/>
                  <a:pt x="14329" y="8632"/>
                  <a:pt x="14337" y="8632"/>
                </a:cubicBezTo>
                <a:cubicBezTo>
                  <a:pt x="14292" y="8632"/>
                  <a:pt x="14279" y="8652"/>
                  <a:pt x="14238" y="8657"/>
                </a:cubicBezTo>
                <a:cubicBezTo>
                  <a:pt x="14149" y="8667"/>
                  <a:pt x="14054" y="8657"/>
                  <a:pt x="13965" y="865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517920" y="2857680"/>
            <a:ext cx="911160" cy="544320"/>
          </a:xfrm>
          <a:custGeom>
            <a:avLst/>
            <a:gdLst/>
            <a:ahLst/>
            <a:rect l="l" t="t" r="r" b="b"/>
            <a:pathLst>
              <a:path w="2531" h="1514">
                <a:moveTo>
                  <a:pt x="12005" y="8235"/>
                </a:moveTo>
                <a:cubicBezTo>
                  <a:pt x="12032" y="8214"/>
                  <a:pt x="12073" y="8175"/>
                  <a:pt x="12105" y="8161"/>
                </a:cubicBezTo>
                <a:cubicBezTo>
                  <a:pt x="12135" y="8148"/>
                  <a:pt x="12144" y="8128"/>
                  <a:pt x="12154" y="8086"/>
                </a:cubicBezTo>
                <a:cubicBezTo>
                  <a:pt x="12117" y="8095"/>
                  <a:pt x="12079" y="8125"/>
                  <a:pt x="12055" y="8161"/>
                </a:cubicBezTo>
                <a:cubicBezTo>
                  <a:pt x="12017" y="8219"/>
                  <a:pt x="11968" y="8249"/>
                  <a:pt x="11931" y="8310"/>
                </a:cubicBezTo>
                <a:cubicBezTo>
                  <a:pt x="11901" y="8360"/>
                  <a:pt x="11874" y="8393"/>
                  <a:pt x="11832" y="8434"/>
                </a:cubicBezTo>
                <a:cubicBezTo>
                  <a:pt x="11806" y="8459"/>
                  <a:pt x="11786" y="8498"/>
                  <a:pt x="11782" y="8533"/>
                </a:cubicBezTo>
                <a:cubicBezTo>
                  <a:pt x="11782" y="8558"/>
                  <a:pt x="11782" y="8566"/>
                  <a:pt x="11757" y="8558"/>
                </a:cubicBezTo>
                <a:cubicBezTo>
                  <a:pt x="11786" y="8519"/>
                  <a:pt x="11807" y="8481"/>
                  <a:pt x="11832" y="8434"/>
                </a:cubicBezTo>
                <a:cubicBezTo>
                  <a:pt x="11871" y="8361"/>
                  <a:pt x="11928" y="8275"/>
                  <a:pt x="11981" y="8210"/>
                </a:cubicBezTo>
                <a:cubicBezTo>
                  <a:pt x="12015" y="8168"/>
                  <a:pt x="12111" y="8077"/>
                  <a:pt x="12129" y="8037"/>
                </a:cubicBezTo>
                <a:cubicBezTo>
                  <a:pt x="12147" y="7997"/>
                  <a:pt x="12169" y="7966"/>
                  <a:pt x="12179" y="7938"/>
                </a:cubicBezTo>
                <a:cubicBezTo>
                  <a:pt x="12167" y="7986"/>
                  <a:pt x="12114" y="8045"/>
                  <a:pt x="12080" y="8086"/>
                </a:cubicBezTo>
                <a:cubicBezTo>
                  <a:pt x="12023" y="8154"/>
                  <a:pt x="11955" y="8212"/>
                  <a:pt x="11906" y="8285"/>
                </a:cubicBezTo>
                <a:cubicBezTo>
                  <a:pt x="11875" y="8331"/>
                  <a:pt x="11826" y="8410"/>
                  <a:pt x="11807" y="8458"/>
                </a:cubicBezTo>
                <a:cubicBezTo>
                  <a:pt x="11807" y="8466"/>
                  <a:pt x="11807" y="8475"/>
                  <a:pt x="11807" y="8483"/>
                </a:cubicBezTo>
              </a:path>
              <a:path w="2531" h="1514">
                <a:moveTo>
                  <a:pt x="12278" y="8533"/>
                </a:moveTo>
                <a:cubicBezTo>
                  <a:pt x="12288" y="8502"/>
                  <a:pt x="12313" y="8503"/>
                  <a:pt x="12254" y="8483"/>
                </a:cubicBezTo>
                <a:cubicBezTo>
                  <a:pt x="12201" y="8465"/>
                  <a:pt x="12137" y="8433"/>
                  <a:pt x="12080" y="8409"/>
                </a:cubicBezTo>
                <a:cubicBezTo>
                  <a:pt x="11992" y="8371"/>
                  <a:pt x="11915" y="8307"/>
                  <a:pt x="11832" y="8260"/>
                </a:cubicBezTo>
                <a:cubicBezTo>
                  <a:pt x="11757" y="8217"/>
                  <a:pt x="11666" y="8189"/>
                  <a:pt x="11584" y="8161"/>
                </a:cubicBezTo>
                <a:cubicBezTo>
                  <a:pt x="11522" y="8139"/>
                  <a:pt x="11443" y="8077"/>
                  <a:pt x="11385" y="8062"/>
                </a:cubicBezTo>
                <a:cubicBezTo>
                  <a:pt x="11344" y="8062"/>
                  <a:pt x="11328" y="8070"/>
                  <a:pt x="11336" y="8037"/>
                </a:cubicBezTo>
                <a:cubicBezTo>
                  <a:pt x="11385" y="8037"/>
                  <a:pt x="11422" y="8054"/>
                  <a:pt x="11460" y="8062"/>
                </a:cubicBezTo>
                <a:cubicBezTo>
                  <a:pt x="11539" y="8078"/>
                  <a:pt x="11606" y="8107"/>
                  <a:pt x="11683" y="8136"/>
                </a:cubicBezTo>
                <a:cubicBezTo>
                  <a:pt x="11781" y="8173"/>
                  <a:pt x="11879" y="8216"/>
                  <a:pt x="11956" y="8285"/>
                </a:cubicBezTo>
                <a:cubicBezTo>
                  <a:pt x="12004" y="8328"/>
                  <a:pt x="12074" y="8401"/>
                  <a:pt x="12129" y="8434"/>
                </a:cubicBezTo>
                <a:cubicBezTo>
                  <a:pt x="12163" y="8454"/>
                  <a:pt x="12240" y="8526"/>
                  <a:pt x="12204" y="8508"/>
                </a:cubicBezTo>
                <a:cubicBezTo>
                  <a:pt x="12164" y="8488"/>
                  <a:pt x="12110" y="8414"/>
                  <a:pt x="12080" y="8384"/>
                </a:cubicBezTo>
              </a:path>
              <a:path w="2531" h="1514">
                <a:moveTo>
                  <a:pt x="11733" y="8260"/>
                </a:moveTo>
                <a:cubicBezTo>
                  <a:pt x="11700" y="8260"/>
                  <a:pt x="11666" y="8260"/>
                  <a:pt x="11633" y="8260"/>
                </a:cubicBezTo>
              </a:path>
              <a:path w="2531" h="1514">
                <a:moveTo>
                  <a:pt x="11435" y="8310"/>
                </a:moveTo>
                <a:cubicBezTo>
                  <a:pt x="11368" y="8310"/>
                  <a:pt x="11349" y="8319"/>
                  <a:pt x="11286" y="8334"/>
                </a:cubicBezTo>
                <a:cubicBezTo>
                  <a:pt x="11242" y="8345"/>
                  <a:pt x="11182" y="8334"/>
                  <a:pt x="11137" y="8334"/>
                </a:cubicBezTo>
              </a:path>
              <a:path w="2531" h="1514">
                <a:moveTo>
                  <a:pt x="10914" y="8334"/>
                </a:moveTo>
                <a:cubicBezTo>
                  <a:pt x="10881" y="8359"/>
                  <a:pt x="10855" y="8374"/>
                  <a:pt x="10815" y="8384"/>
                </a:cubicBezTo>
              </a:path>
              <a:path w="2531" h="1514">
                <a:moveTo>
                  <a:pt x="10567" y="8334"/>
                </a:moveTo>
                <a:cubicBezTo>
                  <a:pt x="10500" y="8379"/>
                  <a:pt x="10539" y="8372"/>
                  <a:pt x="10468" y="8384"/>
                </a:cubicBezTo>
              </a:path>
              <a:path w="2531" h="1514">
                <a:moveTo>
                  <a:pt x="10046" y="8334"/>
                </a:moveTo>
                <a:cubicBezTo>
                  <a:pt x="9955" y="8334"/>
                  <a:pt x="9864" y="8334"/>
                  <a:pt x="9773" y="8334"/>
                </a:cubicBezTo>
              </a:path>
              <a:path w="2531" h="1514">
                <a:moveTo>
                  <a:pt x="11807" y="9451"/>
                </a:moveTo>
                <a:cubicBezTo>
                  <a:pt x="11807" y="9423"/>
                  <a:pt x="11805" y="9412"/>
                  <a:pt x="11782" y="9401"/>
                </a:cubicBezTo>
              </a:path>
              <a:path w="2531" h="1514">
                <a:moveTo>
                  <a:pt x="11733" y="9128"/>
                </a:moveTo>
                <a:cubicBezTo>
                  <a:pt x="11705" y="9092"/>
                  <a:pt x="11693" y="9064"/>
                  <a:pt x="11658" y="902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054240" y="2982960"/>
            <a:ext cx="223920" cy="17280"/>
          </a:xfrm>
          <a:custGeom>
            <a:avLst/>
            <a:gdLst/>
            <a:ahLst/>
            <a:rect l="l" t="t" r="r" b="b"/>
            <a:pathLst>
              <a:path w="621" h="50">
                <a:moveTo>
                  <a:pt x="9103" y="8285"/>
                </a:moveTo>
                <a:cubicBezTo>
                  <a:pt x="9019" y="8285"/>
                  <a:pt x="9017" y="8289"/>
                  <a:pt x="8954" y="8310"/>
                </a:cubicBezTo>
                <a:cubicBezTo>
                  <a:pt x="8891" y="8331"/>
                  <a:pt x="8805" y="8301"/>
                  <a:pt x="8756" y="8285"/>
                </a:cubicBezTo>
                <a:cubicBezTo>
                  <a:pt x="8748" y="8285"/>
                  <a:pt x="8739" y="8285"/>
                  <a:pt x="8731" y="8285"/>
                </a:cubicBezTo>
              </a:path>
              <a:path w="621" h="50">
                <a:moveTo>
                  <a:pt x="8682" y="8285"/>
                </a:moveTo>
                <a:cubicBezTo>
                  <a:pt x="8643" y="8285"/>
                  <a:pt x="8662" y="8310"/>
                  <a:pt x="8607" y="8310"/>
                </a:cubicBezTo>
              </a:path>
              <a:path w="621" h="50">
                <a:moveTo>
                  <a:pt x="8582" y="8310"/>
                </a:moveTo>
                <a:cubicBezTo>
                  <a:pt x="8524" y="8310"/>
                  <a:pt x="8525" y="8303"/>
                  <a:pt x="8483" y="833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276800" y="5126040"/>
            <a:ext cx="9360" cy="9360"/>
          </a:xfrm>
          <a:custGeom>
            <a:avLst/>
            <a:gdLst/>
            <a:ahLst/>
            <a:rect l="l" t="t" r="r" b="b"/>
            <a:pathLst>
              <a:path w="26" h="26">
                <a:moveTo>
                  <a:pt x="11906" y="14263"/>
                </a:moveTo>
                <a:cubicBezTo>
                  <a:pt x="11906" y="14238"/>
                  <a:pt x="11906" y="14230"/>
                  <a:pt x="11881" y="1423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232160" y="4724280"/>
            <a:ext cx="27000" cy="312840"/>
          </a:xfrm>
          <a:custGeom>
            <a:avLst/>
            <a:gdLst/>
            <a:ahLst/>
            <a:rect l="l" t="t" r="r" b="b"/>
            <a:pathLst>
              <a:path w="76" h="869">
                <a:moveTo>
                  <a:pt x="11832" y="13990"/>
                </a:moveTo>
                <a:cubicBezTo>
                  <a:pt x="11832" y="13948"/>
                  <a:pt x="11832" y="13940"/>
                  <a:pt x="11832" y="13915"/>
                </a:cubicBezTo>
              </a:path>
              <a:path w="76" h="869">
                <a:moveTo>
                  <a:pt x="11807" y="13717"/>
                </a:moveTo>
                <a:cubicBezTo>
                  <a:pt x="11787" y="13677"/>
                  <a:pt x="11778" y="13670"/>
                  <a:pt x="11782" y="13643"/>
                </a:cubicBezTo>
              </a:path>
              <a:path w="76" h="869">
                <a:moveTo>
                  <a:pt x="11782" y="13519"/>
                </a:moveTo>
                <a:cubicBezTo>
                  <a:pt x="11782" y="13477"/>
                  <a:pt x="11782" y="13469"/>
                  <a:pt x="11782" y="13444"/>
                </a:cubicBezTo>
              </a:path>
              <a:path w="76" h="869">
                <a:moveTo>
                  <a:pt x="11782" y="13221"/>
                </a:moveTo>
                <a:cubicBezTo>
                  <a:pt x="11761" y="13172"/>
                  <a:pt x="11757" y="13170"/>
                  <a:pt x="11757" y="1312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224240" y="4616280"/>
            <a:ext cx="1800" cy="9720"/>
          </a:xfrm>
          <a:custGeom>
            <a:avLst/>
            <a:gdLst/>
            <a:ahLst/>
            <a:rect l="l" t="t" r="r" b="b"/>
            <a:pathLst>
              <a:path w="1" h="26">
                <a:moveTo>
                  <a:pt x="11733" y="12849"/>
                </a:moveTo>
                <a:cubicBezTo>
                  <a:pt x="11733" y="12841"/>
                  <a:pt x="11733" y="12832"/>
                  <a:pt x="11733" y="1282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224240" y="4429080"/>
            <a:ext cx="17640" cy="98640"/>
          </a:xfrm>
          <a:custGeom>
            <a:avLst/>
            <a:gdLst/>
            <a:ahLst/>
            <a:rect l="l" t="t" r="r" b="b"/>
            <a:pathLst>
              <a:path w="50" h="274">
                <a:moveTo>
                  <a:pt x="11733" y="12576"/>
                </a:moveTo>
                <a:cubicBezTo>
                  <a:pt x="11733" y="12559"/>
                  <a:pt x="11733" y="12543"/>
                  <a:pt x="11733" y="12526"/>
                </a:cubicBezTo>
              </a:path>
              <a:path w="50" h="274">
                <a:moveTo>
                  <a:pt x="11782" y="12353"/>
                </a:moveTo>
                <a:cubicBezTo>
                  <a:pt x="11782" y="12328"/>
                  <a:pt x="11782" y="12320"/>
                  <a:pt x="11782" y="1230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232160" y="4295880"/>
            <a:ext cx="1800" cy="17280"/>
          </a:xfrm>
          <a:custGeom>
            <a:avLst/>
            <a:gdLst/>
            <a:ahLst/>
            <a:rect l="l" t="t" r="r" b="b"/>
            <a:pathLst>
              <a:path w="1" h="51">
                <a:moveTo>
                  <a:pt x="11757" y="11981"/>
                </a:moveTo>
                <a:cubicBezTo>
                  <a:pt x="11757" y="11956"/>
                  <a:pt x="11757" y="11948"/>
                  <a:pt x="11757" y="1193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232160" y="4152960"/>
            <a:ext cx="19080" cy="27000"/>
          </a:xfrm>
          <a:custGeom>
            <a:avLst/>
            <a:gdLst/>
            <a:ahLst/>
            <a:rect l="l" t="t" r="r" b="b"/>
            <a:pathLst>
              <a:path w="51" h="76">
                <a:moveTo>
                  <a:pt x="11757" y="11609"/>
                </a:moveTo>
                <a:cubicBezTo>
                  <a:pt x="11757" y="11582"/>
                  <a:pt x="11785" y="11564"/>
                  <a:pt x="11807" y="1153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249800" y="4000680"/>
            <a:ext cx="1440" cy="36360"/>
          </a:xfrm>
          <a:custGeom>
            <a:avLst/>
            <a:gdLst/>
            <a:ahLst/>
            <a:rect l="l" t="t" r="r" b="b"/>
            <a:pathLst>
              <a:path w="1" h="101">
                <a:moveTo>
                  <a:pt x="11807" y="11212"/>
                </a:moveTo>
                <a:cubicBezTo>
                  <a:pt x="11807" y="11179"/>
                  <a:pt x="11807" y="11145"/>
                  <a:pt x="11807" y="1111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249800" y="3840120"/>
            <a:ext cx="9360" cy="54000"/>
          </a:xfrm>
          <a:custGeom>
            <a:avLst/>
            <a:gdLst/>
            <a:ahLst/>
            <a:rect l="l" t="t" r="r" b="b"/>
            <a:pathLst>
              <a:path w="26" h="150">
                <a:moveTo>
                  <a:pt x="11832" y="10815"/>
                </a:moveTo>
                <a:cubicBezTo>
                  <a:pt x="11813" y="10754"/>
                  <a:pt x="11807" y="10744"/>
                  <a:pt x="11807" y="10691"/>
                </a:cubicBezTo>
                <a:cubicBezTo>
                  <a:pt x="11832" y="10691"/>
                  <a:pt x="11840" y="10691"/>
                  <a:pt x="11832" y="1066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259160" y="3643200"/>
            <a:ext cx="9720" cy="54000"/>
          </a:xfrm>
          <a:custGeom>
            <a:avLst/>
            <a:gdLst/>
            <a:ahLst/>
            <a:rect l="l" t="t" r="r" b="b"/>
            <a:pathLst>
              <a:path w="26" h="150">
                <a:moveTo>
                  <a:pt x="11832" y="10269"/>
                </a:moveTo>
                <a:cubicBezTo>
                  <a:pt x="11832" y="10244"/>
                  <a:pt x="11832" y="10220"/>
                  <a:pt x="11832" y="10195"/>
                </a:cubicBezTo>
                <a:cubicBezTo>
                  <a:pt x="11870" y="10182"/>
                  <a:pt x="11857" y="10165"/>
                  <a:pt x="11857" y="1012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286160" y="3473280"/>
            <a:ext cx="19080" cy="54000"/>
          </a:xfrm>
          <a:custGeom>
            <a:avLst/>
            <a:gdLst/>
            <a:ahLst/>
            <a:rect l="l" t="t" r="r" b="b"/>
            <a:pathLst>
              <a:path w="51" h="150">
                <a:moveTo>
                  <a:pt x="11906" y="9798"/>
                </a:moveTo>
                <a:cubicBezTo>
                  <a:pt x="11913" y="9747"/>
                  <a:pt x="11931" y="9725"/>
                  <a:pt x="11931" y="9674"/>
                </a:cubicBezTo>
                <a:cubicBezTo>
                  <a:pt x="11956" y="9674"/>
                  <a:pt x="11964" y="9674"/>
                  <a:pt x="11956" y="964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.O. Revise for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395280" y="2565360"/>
            <a:ext cx="2160720" cy="4292640"/>
            <a:chOff x="395280" y="2565360"/>
            <a:chExt cx="2160720" cy="4292640"/>
          </a:xfrm>
        </p:grpSpPr>
        <p:sp>
          <p:nvSpPr>
            <p:cNvPr id="286" name=""/>
            <p:cNvSpPr/>
            <p:nvPr/>
          </p:nvSpPr>
          <p:spPr>
            <a:xfrm>
              <a:off x="39528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2692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26036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69236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69056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12256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5600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2987640" y="2565360"/>
            <a:ext cx="0" cy="429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419640" y="2565360"/>
            <a:ext cx="0" cy="429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851280" y="2565360"/>
            <a:ext cx="0" cy="429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4284720" y="2565360"/>
            <a:ext cx="4319640" cy="4292640"/>
            <a:chOff x="4284720" y="2565360"/>
            <a:chExt cx="4319640" cy="4292640"/>
          </a:xfrm>
        </p:grpSpPr>
        <p:sp>
          <p:nvSpPr>
            <p:cNvPr id="297" name=""/>
            <p:cNvSpPr/>
            <p:nvPr/>
          </p:nvSpPr>
          <p:spPr>
            <a:xfrm>
              <a:off x="428472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71636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71492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14656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58000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01200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71492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14836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8000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01200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44364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87708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30872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30728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73892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17236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60436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0" y="2565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2997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3860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4292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5157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5589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6021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6453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2987640" y="2565360"/>
            <a:ext cx="0" cy="4292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0" y="5157720"/>
            <a:ext cx="5940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012000" y="2421000"/>
            <a:ext cx="3132000" cy="443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940000" y="1600200"/>
            <a:ext cx="27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raw the li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y = 3x + 1 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2y = x -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se them to solve the simultaneous equ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y = 3x + 1 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2y = x -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.O. Revise for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7476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 the grid, show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) 2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 the last two as column vect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395280" y="2565360"/>
            <a:ext cx="2160720" cy="4292640"/>
            <a:chOff x="395280" y="2565360"/>
            <a:chExt cx="2160720" cy="4292640"/>
          </a:xfrm>
        </p:grpSpPr>
        <p:sp>
          <p:nvSpPr>
            <p:cNvPr id="332" name=""/>
            <p:cNvSpPr/>
            <p:nvPr/>
          </p:nvSpPr>
          <p:spPr>
            <a:xfrm>
              <a:off x="39528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2692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26036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69236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69056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256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55600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2987640" y="2565360"/>
            <a:ext cx="0" cy="429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419640" y="2565360"/>
            <a:ext cx="0" cy="429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851280" y="2565360"/>
            <a:ext cx="0" cy="429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4284720" y="2565360"/>
            <a:ext cx="4319640" cy="4292640"/>
            <a:chOff x="4284720" y="2565360"/>
            <a:chExt cx="4319640" cy="4292640"/>
          </a:xfrm>
        </p:grpSpPr>
        <p:sp>
          <p:nvSpPr>
            <p:cNvPr id="343" name=""/>
            <p:cNvSpPr/>
            <p:nvPr/>
          </p:nvSpPr>
          <p:spPr>
            <a:xfrm>
              <a:off x="428472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71636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71492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14656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58000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1200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71492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14836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58000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01200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44364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87708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30872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0728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73892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17236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60436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0" y="2565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2997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3860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4292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0" y="5157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0" y="5589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6021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0" y="6453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2987640" y="1136520"/>
                <a:ext cx="93348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4284720" y="1063800"/>
                <a:ext cx="107784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b</m:t>
                        </m:r>
                      </m:e>
                    </m:ba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73" name=""/>
          <p:cNvSpPr/>
          <p:nvPr/>
        </p:nvSpPr>
        <p:spPr>
          <a:xfrm>
            <a:off x="544680" y="795240"/>
            <a:ext cx="669600" cy="320760"/>
          </a:xfrm>
          <a:custGeom>
            <a:avLst/>
            <a:gdLst/>
            <a:ahLst/>
            <a:rect l="l" t="t" r="r" b="b"/>
            <a:pathLst>
              <a:path w="1861" h="894">
                <a:moveTo>
                  <a:pt x="1513" y="2480"/>
                </a:moveTo>
                <a:cubicBezTo>
                  <a:pt x="1533" y="2440"/>
                  <a:pt x="1542" y="2434"/>
                  <a:pt x="1538" y="2406"/>
                </a:cubicBezTo>
                <a:cubicBezTo>
                  <a:pt x="1538" y="2470"/>
                  <a:pt x="1556" y="2518"/>
                  <a:pt x="1563" y="2580"/>
                </a:cubicBezTo>
                <a:cubicBezTo>
                  <a:pt x="1576" y="2692"/>
                  <a:pt x="1593" y="2796"/>
                  <a:pt x="1637" y="2902"/>
                </a:cubicBezTo>
                <a:cubicBezTo>
                  <a:pt x="1645" y="2919"/>
                  <a:pt x="1654" y="2935"/>
                  <a:pt x="1662" y="2952"/>
                </a:cubicBezTo>
                <a:cubicBezTo>
                  <a:pt x="1727" y="2936"/>
                  <a:pt x="1754" y="2845"/>
                  <a:pt x="1761" y="2778"/>
                </a:cubicBezTo>
                <a:cubicBezTo>
                  <a:pt x="1779" y="2611"/>
                  <a:pt x="1782" y="2445"/>
                  <a:pt x="1836" y="2282"/>
                </a:cubicBezTo>
                <a:cubicBezTo>
                  <a:pt x="1855" y="2241"/>
                  <a:pt x="1863" y="2235"/>
                  <a:pt x="1860" y="2208"/>
                </a:cubicBezTo>
              </a:path>
              <a:path w="1861" h="894">
                <a:moveTo>
                  <a:pt x="1935" y="2977"/>
                </a:moveTo>
                <a:cubicBezTo>
                  <a:pt x="1939" y="2990"/>
                  <a:pt x="1984" y="3029"/>
                  <a:pt x="2009" y="3001"/>
                </a:cubicBezTo>
                <a:cubicBezTo>
                  <a:pt x="2069" y="2936"/>
                  <a:pt x="2063" y="2852"/>
                  <a:pt x="2084" y="2778"/>
                </a:cubicBezTo>
                <a:cubicBezTo>
                  <a:pt x="2103" y="2711"/>
                  <a:pt x="2118" y="2714"/>
                  <a:pt x="2084" y="2654"/>
                </a:cubicBezTo>
                <a:cubicBezTo>
                  <a:pt x="2051" y="2671"/>
                  <a:pt x="1982" y="2760"/>
                  <a:pt x="1960" y="2803"/>
                </a:cubicBezTo>
                <a:cubicBezTo>
                  <a:pt x="1909" y="2900"/>
                  <a:pt x="1924" y="2999"/>
                  <a:pt x="1984" y="3076"/>
                </a:cubicBezTo>
                <a:cubicBezTo>
                  <a:pt x="2037" y="3144"/>
                  <a:pt x="2079" y="3069"/>
                  <a:pt x="2133" y="3051"/>
                </a:cubicBezTo>
                <a:cubicBezTo>
                  <a:pt x="2176" y="3037"/>
                  <a:pt x="2197" y="3012"/>
                  <a:pt x="2232" y="2977"/>
                </a:cubicBezTo>
                <a:cubicBezTo>
                  <a:pt x="2255" y="2954"/>
                  <a:pt x="2263" y="2950"/>
                  <a:pt x="2257" y="2927"/>
                </a:cubicBezTo>
              </a:path>
              <a:path w="1861" h="894">
                <a:moveTo>
                  <a:pt x="2381" y="2778"/>
                </a:moveTo>
                <a:cubicBezTo>
                  <a:pt x="2399" y="2737"/>
                  <a:pt x="2426" y="2695"/>
                  <a:pt x="2431" y="2654"/>
                </a:cubicBezTo>
                <a:cubicBezTo>
                  <a:pt x="2431" y="2629"/>
                  <a:pt x="2431" y="2621"/>
                  <a:pt x="2431" y="2604"/>
                </a:cubicBezTo>
                <a:cubicBezTo>
                  <a:pt x="2391" y="2658"/>
                  <a:pt x="2384" y="2706"/>
                  <a:pt x="2381" y="2778"/>
                </a:cubicBezTo>
                <a:cubicBezTo>
                  <a:pt x="2378" y="2853"/>
                  <a:pt x="2399" y="2994"/>
                  <a:pt x="2456" y="3051"/>
                </a:cubicBezTo>
                <a:cubicBezTo>
                  <a:pt x="2499" y="3073"/>
                  <a:pt x="2511" y="3077"/>
                  <a:pt x="2530" y="3101"/>
                </a:cubicBezTo>
              </a:path>
              <a:path w="1861" h="894">
                <a:moveTo>
                  <a:pt x="2654" y="2927"/>
                </a:moveTo>
                <a:cubicBezTo>
                  <a:pt x="2623" y="2852"/>
                  <a:pt x="2632" y="2828"/>
                  <a:pt x="2555" y="2828"/>
                </a:cubicBezTo>
                <a:cubicBezTo>
                  <a:pt x="2538" y="2828"/>
                  <a:pt x="2522" y="2828"/>
                  <a:pt x="2505" y="2828"/>
                </a:cubicBezTo>
              </a:path>
              <a:path w="1861" h="894">
                <a:moveTo>
                  <a:pt x="2629" y="2877"/>
                </a:moveTo>
                <a:cubicBezTo>
                  <a:pt x="2672" y="2877"/>
                  <a:pt x="2680" y="2871"/>
                  <a:pt x="2704" y="2853"/>
                </a:cubicBezTo>
                <a:cubicBezTo>
                  <a:pt x="2767" y="2806"/>
                  <a:pt x="2780" y="2826"/>
                  <a:pt x="2828" y="2877"/>
                </a:cubicBezTo>
                <a:cubicBezTo>
                  <a:pt x="2891" y="2945"/>
                  <a:pt x="2877" y="2986"/>
                  <a:pt x="2877" y="3076"/>
                </a:cubicBezTo>
                <a:cubicBezTo>
                  <a:pt x="2824" y="3076"/>
                  <a:pt x="2709" y="3100"/>
                  <a:pt x="2679" y="3051"/>
                </a:cubicBezTo>
                <a:cubicBezTo>
                  <a:pt x="2657" y="3015"/>
                  <a:pt x="2690" y="2953"/>
                  <a:pt x="2704" y="2927"/>
                </a:cubicBezTo>
                <a:cubicBezTo>
                  <a:pt x="2712" y="2910"/>
                  <a:pt x="2721" y="2894"/>
                  <a:pt x="2729" y="2877"/>
                </a:cubicBezTo>
              </a:path>
              <a:path w="1861" h="894">
                <a:moveTo>
                  <a:pt x="2977" y="2877"/>
                </a:moveTo>
                <a:cubicBezTo>
                  <a:pt x="3048" y="2932"/>
                  <a:pt x="3026" y="2878"/>
                  <a:pt x="3051" y="2828"/>
                </a:cubicBezTo>
                <a:cubicBezTo>
                  <a:pt x="3072" y="2786"/>
                  <a:pt x="3085" y="2770"/>
                  <a:pt x="3125" y="2753"/>
                </a:cubicBezTo>
                <a:cubicBezTo>
                  <a:pt x="3142" y="2745"/>
                  <a:pt x="3158" y="2737"/>
                  <a:pt x="3175" y="2729"/>
                </a:cubicBezTo>
              </a:path>
              <a:path w="1861" h="894">
                <a:moveTo>
                  <a:pt x="3299" y="2753"/>
                </a:moveTo>
                <a:cubicBezTo>
                  <a:pt x="3338" y="2716"/>
                  <a:pt x="3349" y="2707"/>
                  <a:pt x="3349" y="2654"/>
                </a:cubicBezTo>
                <a:cubicBezTo>
                  <a:pt x="3291" y="2654"/>
                  <a:pt x="3270" y="2666"/>
                  <a:pt x="3249" y="2729"/>
                </a:cubicBezTo>
                <a:cubicBezTo>
                  <a:pt x="3233" y="2777"/>
                  <a:pt x="3270" y="2821"/>
                  <a:pt x="3299" y="2853"/>
                </a:cubicBezTo>
                <a:cubicBezTo>
                  <a:pt x="3332" y="2889"/>
                  <a:pt x="3367" y="2869"/>
                  <a:pt x="3373" y="2927"/>
                </a:cubicBezTo>
                <a:cubicBezTo>
                  <a:pt x="3373" y="2955"/>
                  <a:pt x="3371" y="2966"/>
                  <a:pt x="3349" y="2977"/>
                </a:cubicBezTo>
              </a:path>
              <a:path w="1861" h="894">
                <a:moveTo>
                  <a:pt x="2332" y="2828"/>
                </a:moveTo>
                <a:cubicBezTo>
                  <a:pt x="2332" y="2803"/>
                  <a:pt x="2332" y="2795"/>
                  <a:pt x="2356" y="2803"/>
                </a:cubicBezTo>
                <a:cubicBezTo>
                  <a:pt x="2305" y="2764"/>
                  <a:pt x="2301" y="2784"/>
                  <a:pt x="2257" y="2828"/>
                </a:cubicBezTo>
                <a:cubicBezTo>
                  <a:pt x="2196" y="2889"/>
                  <a:pt x="2183" y="2917"/>
                  <a:pt x="2183" y="3001"/>
                </a:cubicBezTo>
                <a:cubicBezTo>
                  <a:pt x="2183" y="3083"/>
                  <a:pt x="2209" y="3076"/>
                  <a:pt x="2282" y="3076"/>
                </a:cubicBezTo>
                <a:cubicBezTo>
                  <a:pt x="2299" y="3076"/>
                  <a:pt x="2315" y="3076"/>
                  <a:pt x="2332" y="30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251000" y="4276800"/>
            <a:ext cx="27000" cy="36360"/>
          </a:xfrm>
          <a:custGeom>
            <a:avLst/>
            <a:gdLst/>
            <a:ahLst/>
            <a:rect l="l" t="t" r="r" b="b"/>
            <a:pathLst>
              <a:path w="75" h="101">
                <a:moveTo>
                  <a:pt x="3497" y="11906"/>
                </a:moveTo>
                <a:cubicBezTo>
                  <a:pt x="3509" y="11871"/>
                  <a:pt x="3504" y="11881"/>
                  <a:pt x="3547" y="11881"/>
                </a:cubicBezTo>
                <a:cubicBezTo>
                  <a:pt x="3547" y="11932"/>
                  <a:pt x="3533" y="11935"/>
                  <a:pt x="3522" y="11956"/>
                </a:cubicBezTo>
                <a:cubicBezTo>
                  <a:pt x="3512" y="11976"/>
                  <a:pt x="3452" y="11999"/>
                  <a:pt x="3473" y="11956"/>
                </a:cubicBezTo>
                <a:cubicBezTo>
                  <a:pt x="3486" y="11929"/>
                  <a:pt x="3531" y="11911"/>
                  <a:pt x="3547" y="11906"/>
                </a:cubicBezTo>
                <a:cubicBezTo>
                  <a:pt x="3547" y="11958"/>
                  <a:pt x="3549" y="11956"/>
                  <a:pt x="3497" y="119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374840" y="4214880"/>
            <a:ext cx="679320" cy="63360"/>
          </a:xfrm>
          <a:custGeom>
            <a:avLst/>
            <a:gdLst/>
            <a:ahLst/>
            <a:rect l="l" t="t" r="r" b="b"/>
            <a:pathLst>
              <a:path w="1886" h="174">
                <a:moveTo>
                  <a:pt x="3820" y="11881"/>
                </a:moveTo>
                <a:cubicBezTo>
                  <a:pt x="3845" y="11881"/>
                  <a:pt x="3853" y="11881"/>
                  <a:pt x="3870" y="11881"/>
                </a:cubicBezTo>
              </a:path>
              <a:path w="1886" h="174">
                <a:moveTo>
                  <a:pt x="3919" y="11881"/>
                </a:moveTo>
                <a:cubicBezTo>
                  <a:pt x="3954" y="11856"/>
                  <a:pt x="3951" y="11857"/>
                  <a:pt x="3994" y="11857"/>
                </a:cubicBezTo>
              </a:path>
              <a:path w="1886" h="174">
                <a:moveTo>
                  <a:pt x="4118" y="11807"/>
                </a:moveTo>
                <a:cubicBezTo>
                  <a:pt x="4146" y="11807"/>
                  <a:pt x="4156" y="11810"/>
                  <a:pt x="4167" y="11832"/>
                </a:cubicBezTo>
              </a:path>
              <a:path w="1886" h="174">
                <a:moveTo>
                  <a:pt x="4266" y="11807"/>
                </a:moveTo>
                <a:cubicBezTo>
                  <a:pt x="4301" y="11781"/>
                  <a:pt x="4297" y="11782"/>
                  <a:pt x="4341" y="11782"/>
                </a:cubicBezTo>
              </a:path>
              <a:path w="1886" h="174">
                <a:moveTo>
                  <a:pt x="4415" y="11733"/>
                </a:moveTo>
                <a:cubicBezTo>
                  <a:pt x="4415" y="11708"/>
                  <a:pt x="4415" y="11700"/>
                  <a:pt x="4440" y="11708"/>
                </a:cubicBezTo>
              </a:path>
              <a:path w="1886" h="174">
                <a:moveTo>
                  <a:pt x="4589" y="11733"/>
                </a:moveTo>
                <a:cubicBezTo>
                  <a:pt x="4632" y="11733"/>
                  <a:pt x="4628" y="11732"/>
                  <a:pt x="4663" y="11757"/>
                </a:cubicBezTo>
              </a:path>
              <a:path w="1886" h="174">
                <a:moveTo>
                  <a:pt x="4787" y="11757"/>
                </a:moveTo>
                <a:cubicBezTo>
                  <a:pt x="4853" y="11757"/>
                  <a:pt x="4860" y="11765"/>
                  <a:pt x="4911" y="11782"/>
                </a:cubicBezTo>
                <a:cubicBezTo>
                  <a:pt x="4919" y="11782"/>
                  <a:pt x="4928" y="11782"/>
                  <a:pt x="4936" y="11782"/>
                </a:cubicBezTo>
              </a:path>
              <a:path w="1886" h="174">
                <a:moveTo>
                  <a:pt x="5085" y="11782"/>
                </a:moveTo>
                <a:cubicBezTo>
                  <a:pt x="5110" y="11782"/>
                  <a:pt x="5118" y="11782"/>
                  <a:pt x="5135" y="11782"/>
                </a:cubicBezTo>
              </a:path>
              <a:path w="1886" h="174">
                <a:moveTo>
                  <a:pt x="5308" y="11782"/>
                </a:moveTo>
                <a:cubicBezTo>
                  <a:pt x="5353" y="11782"/>
                  <a:pt x="5368" y="11797"/>
                  <a:pt x="5407" y="11807"/>
                </a:cubicBezTo>
              </a:path>
              <a:path w="1886" h="174">
                <a:moveTo>
                  <a:pt x="5631" y="11807"/>
                </a:moveTo>
                <a:cubicBezTo>
                  <a:pt x="5674" y="11807"/>
                  <a:pt x="5670" y="11806"/>
                  <a:pt x="5705" y="118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143080" y="4268880"/>
            <a:ext cx="44640" cy="9360"/>
          </a:xfrm>
          <a:custGeom>
            <a:avLst/>
            <a:gdLst/>
            <a:ahLst/>
            <a:rect l="l" t="t" r="r" b="b"/>
            <a:pathLst>
              <a:path w="125" h="25">
                <a:moveTo>
                  <a:pt x="5953" y="11857"/>
                </a:moveTo>
                <a:cubicBezTo>
                  <a:pt x="6002" y="11857"/>
                  <a:pt x="6012" y="11868"/>
                  <a:pt x="6052" y="11881"/>
                </a:cubicBezTo>
                <a:cubicBezTo>
                  <a:pt x="6060" y="11881"/>
                  <a:pt x="6069" y="11881"/>
                  <a:pt x="6077" y="118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295360" y="4268880"/>
            <a:ext cx="177840" cy="1440"/>
          </a:xfrm>
          <a:custGeom>
            <a:avLst/>
            <a:gdLst/>
            <a:ahLst/>
            <a:rect l="l" t="t" r="r" b="b"/>
            <a:pathLst>
              <a:path w="497" h="1">
                <a:moveTo>
                  <a:pt x="6375" y="11857"/>
                </a:moveTo>
                <a:cubicBezTo>
                  <a:pt x="6433" y="11857"/>
                  <a:pt x="6490" y="11857"/>
                  <a:pt x="6548" y="11857"/>
                </a:cubicBezTo>
              </a:path>
              <a:path w="497" h="1">
                <a:moveTo>
                  <a:pt x="6672" y="11857"/>
                </a:moveTo>
                <a:cubicBezTo>
                  <a:pt x="6738" y="11857"/>
                  <a:pt x="6805" y="11857"/>
                  <a:pt x="6871" y="118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500200" y="3411360"/>
            <a:ext cx="71640" cy="857520"/>
          </a:xfrm>
          <a:custGeom>
            <a:avLst/>
            <a:gdLst/>
            <a:ahLst/>
            <a:rect l="l" t="t" r="r" b="b"/>
            <a:pathLst>
              <a:path w="200" h="2383">
                <a:moveTo>
                  <a:pt x="6970" y="11857"/>
                </a:moveTo>
                <a:cubicBezTo>
                  <a:pt x="6995" y="11857"/>
                  <a:pt x="7003" y="11857"/>
                  <a:pt x="7020" y="11857"/>
                </a:cubicBezTo>
              </a:path>
              <a:path w="200" h="2383">
                <a:moveTo>
                  <a:pt x="7094" y="11857"/>
                </a:moveTo>
                <a:cubicBezTo>
                  <a:pt x="7094" y="11824"/>
                  <a:pt x="7094" y="11790"/>
                  <a:pt x="7094" y="11757"/>
                </a:cubicBezTo>
                <a:cubicBezTo>
                  <a:pt x="7056" y="11745"/>
                  <a:pt x="7069" y="11728"/>
                  <a:pt x="7069" y="11683"/>
                </a:cubicBezTo>
                <a:cubicBezTo>
                  <a:pt x="7069" y="11642"/>
                  <a:pt x="7082" y="11670"/>
                  <a:pt x="7094" y="11633"/>
                </a:cubicBezTo>
              </a:path>
              <a:path w="200" h="2383">
                <a:moveTo>
                  <a:pt x="7045" y="11509"/>
                </a:moveTo>
                <a:cubicBezTo>
                  <a:pt x="7022" y="11487"/>
                  <a:pt x="7014" y="11482"/>
                  <a:pt x="7020" y="11460"/>
                </a:cubicBezTo>
              </a:path>
              <a:path w="200" h="2383">
                <a:moveTo>
                  <a:pt x="6995" y="11286"/>
                </a:moveTo>
                <a:cubicBezTo>
                  <a:pt x="6972" y="11234"/>
                  <a:pt x="6970" y="11216"/>
                  <a:pt x="6970" y="11162"/>
                </a:cubicBezTo>
                <a:cubicBezTo>
                  <a:pt x="6970" y="11154"/>
                  <a:pt x="6970" y="11145"/>
                  <a:pt x="6970" y="11137"/>
                </a:cubicBezTo>
              </a:path>
              <a:path w="200" h="2383">
                <a:moveTo>
                  <a:pt x="6945" y="11038"/>
                </a:moveTo>
                <a:cubicBezTo>
                  <a:pt x="6945" y="11030"/>
                  <a:pt x="6945" y="11021"/>
                  <a:pt x="6945" y="11013"/>
                </a:cubicBezTo>
                <a:cubicBezTo>
                  <a:pt x="6983" y="11000"/>
                  <a:pt x="6970" y="10984"/>
                  <a:pt x="6970" y="10939"/>
                </a:cubicBezTo>
                <a:cubicBezTo>
                  <a:pt x="6970" y="10906"/>
                  <a:pt x="6970" y="10873"/>
                  <a:pt x="6970" y="10840"/>
                </a:cubicBezTo>
                <a:cubicBezTo>
                  <a:pt x="6932" y="10827"/>
                  <a:pt x="6945" y="10810"/>
                  <a:pt x="6945" y="10765"/>
                </a:cubicBezTo>
                <a:cubicBezTo>
                  <a:pt x="6945" y="10757"/>
                  <a:pt x="6945" y="10748"/>
                  <a:pt x="6945" y="10740"/>
                </a:cubicBezTo>
                <a:cubicBezTo>
                  <a:pt x="6983" y="10728"/>
                  <a:pt x="6970" y="10711"/>
                  <a:pt x="6970" y="10666"/>
                </a:cubicBezTo>
                <a:cubicBezTo>
                  <a:pt x="6970" y="10641"/>
                  <a:pt x="6970" y="10617"/>
                  <a:pt x="6970" y="10592"/>
                </a:cubicBezTo>
              </a:path>
              <a:path w="200" h="2383">
                <a:moveTo>
                  <a:pt x="6945" y="10492"/>
                </a:moveTo>
                <a:cubicBezTo>
                  <a:pt x="6945" y="10451"/>
                  <a:pt x="6945" y="10443"/>
                  <a:pt x="6945" y="10418"/>
                </a:cubicBezTo>
                <a:cubicBezTo>
                  <a:pt x="6980" y="10406"/>
                  <a:pt x="6970" y="10411"/>
                  <a:pt x="6970" y="10368"/>
                </a:cubicBezTo>
              </a:path>
              <a:path w="200" h="2383">
                <a:moveTo>
                  <a:pt x="6945" y="10145"/>
                </a:moveTo>
                <a:cubicBezTo>
                  <a:pt x="6945" y="10137"/>
                  <a:pt x="6945" y="10128"/>
                  <a:pt x="6945" y="10120"/>
                </a:cubicBezTo>
                <a:cubicBezTo>
                  <a:pt x="6983" y="10108"/>
                  <a:pt x="6970" y="10091"/>
                  <a:pt x="6970" y="10046"/>
                </a:cubicBezTo>
                <a:cubicBezTo>
                  <a:pt x="6970" y="9988"/>
                  <a:pt x="6970" y="9930"/>
                  <a:pt x="6970" y="9872"/>
                </a:cubicBezTo>
              </a:path>
              <a:path w="200" h="2383">
                <a:moveTo>
                  <a:pt x="6970" y="9823"/>
                </a:moveTo>
                <a:cubicBezTo>
                  <a:pt x="6970" y="9815"/>
                  <a:pt x="6970" y="9806"/>
                  <a:pt x="6970" y="9798"/>
                </a:cubicBezTo>
                <a:cubicBezTo>
                  <a:pt x="7008" y="9785"/>
                  <a:pt x="6995" y="9768"/>
                  <a:pt x="6995" y="9723"/>
                </a:cubicBezTo>
                <a:cubicBezTo>
                  <a:pt x="6995" y="9684"/>
                  <a:pt x="7008" y="9711"/>
                  <a:pt x="7020" y="9674"/>
                </a:cubicBezTo>
              </a:path>
              <a:path w="200" h="2383">
                <a:moveTo>
                  <a:pt x="7094" y="9575"/>
                </a:moveTo>
                <a:cubicBezTo>
                  <a:pt x="7094" y="9542"/>
                  <a:pt x="7094" y="9508"/>
                  <a:pt x="7094" y="9475"/>
                </a:cubicBezTo>
                <a:cubicBezTo>
                  <a:pt x="7102" y="9478"/>
                  <a:pt x="7169" y="9525"/>
                  <a:pt x="7144" y="9550"/>
                </a:cubicBezTo>
                <a:cubicBezTo>
                  <a:pt x="7125" y="9569"/>
                  <a:pt x="7108" y="9575"/>
                  <a:pt x="7069" y="9575"/>
                </a:cubicBezTo>
                <a:cubicBezTo>
                  <a:pt x="7030" y="9575"/>
                  <a:pt x="7000" y="9591"/>
                  <a:pt x="6995" y="9550"/>
                </a:cubicBezTo>
                <a:cubicBezTo>
                  <a:pt x="6991" y="9519"/>
                  <a:pt x="7006" y="9482"/>
                  <a:pt x="7020" y="9475"/>
                </a:cubicBezTo>
                <a:cubicBezTo>
                  <a:pt x="7028" y="9475"/>
                  <a:pt x="7037" y="9475"/>
                  <a:pt x="7045" y="9475"/>
                </a:cubicBezTo>
                <a:cubicBezTo>
                  <a:pt x="7074" y="9485"/>
                  <a:pt x="7089" y="9519"/>
                  <a:pt x="7045" y="9525"/>
                </a:cubicBezTo>
                <a:cubicBezTo>
                  <a:pt x="7020" y="9525"/>
                  <a:pt x="7012" y="9525"/>
                  <a:pt x="6995" y="95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41200" y="4830840"/>
            <a:ext cx="2009880" cy="625320"/>
          </a:xfrm>
          <a:custGeom>
            <a:avLst/>
            <a:gdLst/>
            <a:ahLst/>
            <a:rect l="l" t="t" r="r" b="b"/>
            <a:pathLst>
              <a:path w="5582" h="1738">
                <a:moveTo>
                  <a:pt x="943" y="13717"/>
                </a:moveTo>
                <a:cubicBezTo>
                  <a:pt x="943" y="13658"/>
                  <a:pt x="950" y="13680"/>
                  <a:pt x="992" y="13643"/>
                </a:cubicBezTo>
                <a:cubicBezTo>
                  <a:pt x="1071" y="13574"/>
                  <a:pt x="1044" y="13549"/>
                  <a:pt x="1166" y="13543"/>
                </a:cubicBezTo>
                <a:cubicBezTo>
                  <a:pt x="1215" y="13543"/>
                  <a:pt x="1232" y="13543"/>
                  <a:pt x="1265" y="13543"/>
                </a:cubicBezTo>
                <a:cubicBezTo>
                  <a:pt x="1265" y="13589"/>
                  <a:pt x="1272" y="13609"/>
                  <a:pt x="1240" y="13643"/>
                </a:cubicBezTo>
                <a:cubicBezTo>
                  <a:pt x="1184" y="13703"/>
                  <a:pt x="1099" y="13714"/>
                  <a:pt x="1067" y="13791"/>
                </a:cubicBezTo>
                <a:cubicBezTo>
                  <a:pt x="1067" y="13816"/>
                  <a:pt x="1067" y="13824"/>
                  <a:pt x="1067" y="13841"/>
                </a:cubicBezTo>
                <a:cubicBezTo>
                  <a:pt x="1126" y="13877"/>
                  <a:pt x="1178" y="13842"/>
                  <a:pt x="1240" y="13866"/>
                </a:cubicBezTo>
                <a:cubicBezTo>
                  <a:pt x="1269" y="13877"/>
                  <a:pt x="1308" y="13932"/>
                  <a:pt x="1290" y="13965"/>
                </a:cubicBezTo>
                <a:cubicBezTo>
                  <a:pt x="1255" y="14028"/>
                  <a:pt x="1169" y="14021"/>
                  <a:pt x="1116" y="14039"/>
                </a:cubicBezTo>
                <a:cubicBezTo>
                  <a:pt x="1068" y="14055"/>
                  <a:pt x="1032" y="14065"/>
                  <a:pt x="992" y="14089"/>
                </a:cubicBezTo>
              </a:path>
              <a:path w="5582" h="1738">
                <a:moveTo>
                  <a:pt x="1091" y="14412"/>
                </a:moveTo>
                <a:cubicBezTo>
                  <a:pt x="1067" y="14412"/>
                  <a:pt x="1059" y="14412"/>
                  <a:pt x="1067" y="14436"/>
                </a:cubicBezTo>
                <a:cubicBezTo>
                  <a:pt x="1079" y="14388"/>
                  <a:pt x="1114" y="14354"/>
                  <a:pt x="1166" y="14337"/>
                </a:cubicBezTo>
                <a:cubicBezTo>
                  <a:pt x="1215" y="14321"/>
                  <a:pt x="1261" y="14335"/>
                  <a:pt x="1265" y="14387"/>
                </a:cubicBezTo>
                <a:cubicBezTo>
                  <a:pt x="1270" y="14461"/>
                  <a:pt x="1259" y="14501"/>
                  <a:pt x="1215" y="14560"/>
                </a:cubicBezTo>
                <a:cubicBezTo>
                  <a:pt x="1182" y="14604"/>
                  <a:pt x="1166" y="14629"/>
                  <a:pt x="1166" y="14684"/>
                </a:cubicBezTo>
                <a:cubicBezTo>
                  <a:pt x="1240" y="14684"/>
                  <a:pt x="1272" y="14650"/>
                  <a:pt x="1339" y="14635"/>
                </a:cubicBezTo>
                <a:cubicBezTo>
                  <a:pt x="1370" y="14628"/>
                  <a:pt x="1468" y="14609"/>
                  <a:pt x="1488" y="14585"/>
                </a:cubicBezTo>
                <a:cubicBezTo>
                  <a:pt x="1488" y="14577"/>
                  <a:pt x="1488" y="14568"/>
                  <a:pt x="1488" y="14560"/>
                </a:cubicBezTo>
              </a:path>
              <a:path w="5582" h="1738">
                <a:moveTo>
                  <a:pt x="1339" y="13543"/>
                </a:moveTo>
                <a:cubicBezTo>
                  <a:pt x="1413" y="13543"/>
                  <a:pt x="1427" y="13556"/>
                  <a:pt x="1488" y="13593"/>
                </a:cubicBezTo>
                <a:cubicBezTo>
                  <a:pt x="1578" y="13647"/>
                  <a:pt x="1650" y="13706"/>
                  <a:pt x="1712" y="13791"/>
                </a:cubicBezTo>
                <a:cubicBezTo>
                  <a:pt x="1792" y="13901"/>
                  <a:pt x="1807" y="14031"/>
                  <a:pt x="1811" y="14163"/>
                </a:cubicBezTo>
                <a:cubicBezTo>
                  <a:pt x="1815" y="14294"/>
                  <a:pt x="1802" y="14388"/>
                  <a:pt x="1761" y="14511"/>
                </a:cubicBezTo>
                <a:cubicBezTo>
                  <a:pt x="1740" y="14573"/>
                  <a:pt x="1716" y="14626"/>
                  <a:pt x="1687" y="14684"/>
                </a:cubicBezTo>
              </a:path>
              <a:path w="5582" h="1738">
                <a:moveTo>
                  <a:pt x="794" y="13469"/>
                </a:moveTo>
                <a:cubicBezTo>
                  <a:pt x="807" y="13429"/>
                  <a:pt x="806" y="13459"/>
                  <a:pt x="819" y="13419"/>
                </a:cubicBezTo>
                <a:cubicBezTo>
                  <a:pt x="762" y="13490"/>
                  <a:pt x="742" y="13554"/>
                  <a:pt x="719" y="13643"/>
                </a:cubicBezTo>
                <a:cubicBezTo>
                  <a:pt x="676" y="13807"/>
                  <a:pt x="666" y="13921"/>
                  <a:pt x="695" y="14089"/>
                </a:cubicBezTo>
                <a:cubicBezTo>
                  <a:pt x="722" y="14244"/>
                  <a:pt x="778" y="14394"/>
                  <a:pt x="843" y="14536"/>
                </a:cubicBezTo>
                <a:cubicBezTo>
                  <a:pt x="865" y="14579"/>
                  <a:pt x="869" y="14591"/>
                  <a:pt x="893" y="14610"/>
                </a:cubicBezTo>
              </a:path>
              <a:path w="5582" h="1738">
                <a:moveTo>
                  <a:pt x="2604" y="14312"/>
                </a:moveTo>
                <a:cubicBezTo>
                  <a:pt x="2491" y="14312"/>
                  <a:pt x="2388" y="14320"/>
                  <a:pt x="2282" y="14337"/>
                </a:cubicBezTo>
                <a:cubicBezTo>
                  <a:pt x="2253" y="14342"/>
                  <a:pt x="2214" y="14337"/>
                  <a:pt x="2183" y="14337"/>
                </a:cubicBezTo>
              </a:path>
              <a:path w="5582" h="1738">
                <a:moveTo>
                  <a:pt x="2307" y="14238"/>
                </a:moveTo>
                <a:cubicBezTo>
                  <a:pt x="2307" y="14230"/>
                  <a:pt x="2307" y="14221"/>
                  <a:pt x="2307" y="14213"/>
                </a:cubicBezTo>
                <a:cubicBezTo>
                  <a:pt x="2347" y="14226"/>
                  <a:pt x="2332" y="14261"/>
                  <a:pt x="2332" y="14312"/>
                </a:cubicBezTo>
                <a:cubicBezTo>
                  <a:pt x="2332" y="14368"/>
                  <a:pt x="2346" y="14408"/>
                  <a:pt x="2356" y="14461"/>
                </a:cubicBezTo>
              </a:path>
              <a:path w="5582" h="1738">
                <a:moveTo>
                  <a:pt x="2952" y="13692"/>
                </a:moveTo>
                <a:cubicBezTo>
                  <a:pt x="2960" y="13684"/>
                  <a:pt x="2969" y="13675"/>
                  <a:pt x="2977" y="13667"/>
                </a:cubicBezTo>
                <a:cubicBezTo>
                  <a:pt x="2964" y="13718"/>
                  <a:pt x="2954" y="13788"/>
                  <a:pt x="2927" y="13841"/>
                </a:cubicBezTo>
                <a:cubicBezTo>
                  <a:pt x="2865" y="13964"/>
                  <a:pt x="2833" y="14074"/>
                  <a:pt x="2803" y="14213"/>
                </a:cubicBezTo>
                <a:cubicBezTo>
                  <a:pt x="2765" y="14387"/>
                  <a:pt x="2784" y="14537"/>
                  <a:pt x="2828" y="14709"/>
                </a:cubicBezTo>
                <a:cubicBezTo>
                  <a:pt x="2840" y="14754"/>
                  <a:pt x="2896" y="14906"/>
                  <a:pt x="2927" y="14932"/>
                </a:cubicBezTo>
                <a:cubicBezTo>
                  <a:pt x="2935" y="14932"/>
                  <a:pt x="2944" y="14932"/>
                  <a:pt x="2952" y="14932"/>
                </a:cubicBezTo>
              </a:path>
              <a:path w="5582" h="1738">
                <a:moveTo>
                  <a:pt x="3150" y="14015"/>
                </a:moveTo>
                <a:cubicBezTo>
                  <a:pt x="3189" y="14005"/>
                  <a:pt x="3205" y="13990"/>
                  <a:pt x="3249" y="13990"/>
                </a:cubicBezTo>
                <a:cubicBezTo>
                  <a:pt x="3281" y="13990"/>
                  <a:pt x="3294" y="13973"/>
                  <a:pt x="3324" y="13965"/>
                </a:cubicBezTo>
                <a:cubicBezTo>
                  <a:pt x="3324" y="13940"/>
                  <a:pt x="3324" y="13932"/>
                  <a:pt x="3349" y="13940"/>
                </a:cubicBezTo>
              </a:path>
              <a:path w="5582" h="1738">
                <a:moveTo>
                  <a:pt x="3522" y="13816"/>
                </a:moveTo>
                <a:cubicBezTo>
                  <a:pt x="3522" y="13808"/>
                  <a:pt x="3522" y="13799"/>
                  <a:pt x="3522" y="13791"/>
                </a:cubicBezTo>
                <a:cubicBezTo>
                  <a:pt x="3541" y="13797"/>
                  <a:pt x="3566" y="13836"/>
                  <a:pt x="3572" y="13866"/>
                </a:cubicBezTo>
                <a:cubicBezTo>
                  <a:pt x="3583" y="13917"/>
                  <a:pt x="3594" y="13990"/>
                  <a:pt x="3597" y="14039"/>
                </a:cubicBezTo>
                <a:cubicBezTo>
                  <a:pt x="3597" y="14056"/>
                  <a:pt x="3597" y="14072"/>
                  <a:pt x="3597" y="14089"/>
                </a:cubicBezTo>
              </a:path>
              <a:path w="5582" h="1738">
                <a:moveTo>
                  <a:pt x="3324" y="14560"/>
                </a:moveTo>
                <a:cubicBezTo>
                  <a:pt x="3324" y="14536"/>
                  <a:pt x="3324" y="14528"/>
                  <a:pt x="3349" y="14536"/>
                </a:cubicBezTo>
                <a:cubicBezTo>
                  <a:pt x="3308" y="14549"/>
                  <a:pt x="3324" y="14584"/>
                  <a:pt x="3324" y="14635"/>
                </a:cubicBezTo>
                <a:cubicBezTo>
                  <a:pt x="3324" y="14660"/>
                  <a:pt x="3324" y="14668"/>
                  <a:pt x="3324" y="14684"/>
                </a:cubicBezTo>
                <a:cubicBezTo>
                  <a:pt x="3386" y="14684"/>
                  <a:pt x="3423" y="14692"/>
                  <a:pt x="3473" y="14709"/>
                </a:cubicBezTo>
                <a:cubicBezTo>
                  <a:pt x="3513" y="14723"/>
                  <a:pt x="3542" y="14736"/>
                  <a:pt x="3547" y="14784"/>
                </a:cubicBezTo>
                <a:cubicBezTo>
                  <a:pt x="3550" y="14812"/>
                  <a:pt x="3503" y="14831"/>
                  <a:pt x="3473" y="14833"/>
                </a:cubicBezTo>
                <a:cubicBezTo>
                  <a:pt x="3431" y="14833"/>
                  <a:pt x="3423" y="14833"/>
                  <a:pt x="3398" y="14833"/>
                </a:cubicBezTo>
              </a:path>
              <a:path w="5582" h="1738">
                <a:moveTo>
                  <a:pt x="3522" y="14486"/>
                </a:moveTo>
                <a:cubicBezTo>
                  <a:pt x="3474" y="14486"/>
                  <a:pt x="3461" y="14482"/>
                  <a:pt x="3423" y="14511"/>
                </a:cubicBezTo>
              </a:path>
              <a:path w="5582" h="1738">
                <a:moveTo>
                  <a:pt x="3721" y="13568"/>
                </a:moveTo>
                <a:cubicBezTo>
                  <a:pt x="3745" y="13588"/>
                  <a:pt x="3762" y="13585"/>
                  <a:pt x="3795" y="13618"/>
                </a:cubicBezTo>
                <a:cubicBezTo>
                  <a:pt x="3835" y="13659"/>
                  <a:pt x="3859" y="13700"/>
                  <a:pt x="3894" y="13742"/>
                </a:cubicBezTo>
                <a:cubicBezTo>
                  <a:pt x="3952" y="13812"/>
                  <a:pt x="3997" y="13884"/>
                  <a:pt x="4043" y="13965"/>
                </a:cubicBezTo>
                <a:cubicBezTo>
                  <a:pt x="4089" y="14047"/>
                  <a:pt x="4117" y="14148"/>
                  <a:pt x="4142" y="14238"/>
                </a:cubicBezTo>
                <a:cubicBezTo>
                  <a:pt x="4179" y="14370"/>
                  <a:pt x="4192" y="14473"/>
                  <a:pt x="4192" y="14610"/>
                </a:cubicBezTo>
                <a:cubicBezTo>
                  <a:pt x="4192" y="14728"/>
                  <a:pt x="4164" y="14825"/>
                  <a:pt x="4118" y="14932"/>
                </a:cubicBezTo>
                <a:cubicBezTo>
                  <a:pt x="4098" y="14979"/>
                  <a:pt x="4075" y="15017"/>
                  <a:pt x="4043" y="15056"/>
                </a:cubicBezTo>
              </a:path>
              <a:path w="5582" h="1738">
                <a:moveTo>
                  <a:pt x="4787" y="14288"/>
                </a:moveTo>
                <a:cubicBezTo>
                  <a:pt x="4728" y="14288"/>
                  <a:pt x="4688" y="14297"/>
                  <a:pt x="4638" y="14312"/>
                </a:cubicBezTo>
                <a:cubicBezTo>
                  <a:pt x="4614" y="14312"/>
                  <a:pt x="4605" y="14312"/>
                  <a:pt x="4589" y="14312"/>
                </a:cubicBezTo>
              </a:path>
              <a:path w="5582" h="1738">
                <a:moveTo>
                  <a:pt x="4738" y="14412"/>
                </a:moveTo>
                <a:cubicBezTo>
                  <a:pt x="4805" y="14438"/>
                  <a:pt x="4845" y="14442"/>
                  <a:pt x="4862" y="14511"/>
                </a:cubicBezTo>
                <a:cubicBezTo>
                  <a:pt x="4803" y="14511"/>
                  <a:pt x="4786" y="14533"/>
                  <a:pt x="4738" y="14536"/>
                </a:cubicBezTo>
                <a:cubicBezTo>
                  <a:pt x="4721" y="14536"/>
                  <a:pt x="4705" y="14536"/>
                  <a:pt x="4688" y="14536"/>
                </a:cubicBezTo>
              </a:path>
              <a:path w="5582" h="1738">
                <a:moveTo>
                  <a:pt x="5507" y="13965"/>
                </a:moveTo>
                <a:cubicBezTo>
                  <a:pt x="5462" y="13965"/>
                  <a:pt x="5445" y="13978"/>
                  <a:pt x="5432" y="13940"/>
                </a:cubicBezTo>
                <a:cubicBezTo>
                  <a:pt x="5452" y="13909"/>
                  <a:pt x="5503" y="13894"/>
                  <a:pt x="5556" y="13891"/>
                </a:cubicBezTo>
                <a:cubicBezTo>
                  <a:pt x="5616" y="13888"/>
                  <a:pt x="5665" y="13927"/>
                  <a:pt x="5680" y="13990"/>
                </a:cubicBezTo>
                <a:cubicBezTo>
                  <a:pt x="5696" y="14058"/>
                  <a:pt x="5669" y="14133"/>
                  <a:pt x="5631" y="14188"/>
                </a:cubicBezTo>
                <a:cubicBezTo>
                  <a:pt x="5608" y="14221"/>
                  <a:pt x="5593" y="14270"/>
                  <a:pt x="5655" y="14288"/>
                </a:cubicBezTo>
                <a:cubicBezTo>
                  <a:pt x="5728" y="14309"/>
                  <a:pt x="5765" y="14252"/>
                  <a:pt x="5829" y="14238"/>
                </a:cubicBezTo>
                <a:cubicBezTo>
                  <a:pt x="5856" y="14232"/>
                  <a:pt x="5899" y="14238"/>
                  <a:pt x="5928" y="14238"/>
                </a:cubicBezTo>
              </a:path>
              <a:path w="5582" h="1738">
                <a:moveTo>
                  <a:pt x="5507" y="14684"/>
                </a:moveTo>
                <a:cubicBezTo>
                  <a:pt x="5482" y="14684"/>
                  <a:pt x="5474" y="14684"/>
                  <a:pt x="5482" y="14709"/>
                </a:cubicBezTo>
                <a:cubicBezTo>
                  <a:pt x="5572" y="14709"/>
                  <a:pt x="5646" y="14720"/>
                  <a:pt x="5730" y="14734"/>
                </a:cubicBezTo>
                <a:cubicBezTo>
                  <a:pt x="5784" y="14743"/>
                  <a:pt x="5821" y="14715"/>
                  <a:pt x="5829" y="14784"/>
                </a:cubicBezTo>
                <a:cubicBezTo>
                  <a:pt x="5836" y="14841"/>
                  <a:pt x="5803" y="14882"/>
                  <a:pt x="5779" y="14932"/>
                </a:cubicBezTo>
                <a:cubicBezTo>
                  <a:pt x="5757" y="14977"/>
                  <a:pt x="5735" y="15037"/>
                  <a:pt x="5730" y="15081"/>
                </a:cubicBezTo>
                <a:cubicBezTo>
                  <a:pt x="5730" y="15089"/>
                  <a:pt x="5730" y="15098"/>
                  <a:pt x="5730" y="15106"/>
                </a:cubicBezTo>
              </a:path>
              <a:path w="5582" h="1738">
                <a:moveTo>
                  <a:pt x="5829" y="13816"/>
                </a:moveTo>
                <a:cubicBezTo>
                  <a:pt x="5845" y="13832"/>
                  <a:pt x="5875" y="13862"/>
                  <a:pt x="5904" y="13891"/>
                </a:cubicBezTo>
                <a:cubicBezTo>
                  <a:pt x="5946" y="13933"/>
                  <a:pt x="6017" y="13974"/>
                  <a:pt x="6052" y="14015"/>
                </a:cubicBezTo>
                <a:cubicBezTo>
                  <a:pt x="6095" y="14065"/>
                  <a:pt x="6138" y="14140"/>
                  <a:pt x="6176" y="14188"/>
                </a:cubicBezTo>
                <a:cubicBezTo>
                  <a:pt x="6210" y="14231"/>
                  <a:pt x="6240" y="14378"/>
                  <a:pt x="6251" y="14436"/>
                </a:cubicBezTo>
                <a:cubicBezTo>
                  <a:pt x="6268" y="14523"/>
                  <a:pt x="6241" y="14632"/>
                  <a:pt x="6201" y="14709"/>
                </a:cubicBezTo>
                <a:cubicBezTo>
                  <a:pt x="6156" y="14796"/>
                  <a:pt x="6102" y="14878"/>
                  <a:pt x="6052" y="14957"/>
                </a:cubicBezTo>
                <a:cubicBezTo>
                  <a:pt x="6011" y="15022"/>
                  <a:pt x="6004" y="15088"/>
                  <a:pt x="5978" y="15156"/>
                </a:cubicBezTo>
              </a:path>
              <a:path w="5582" h="1738">
                <a:moveTo>
                  <a:pt x="5259" y="13767"/>
                </a:moveTo>
                <a:cubicBezTo>
                  <a:pt x="5267" y="13759"/>
                  <a:pt x="5275" y="13750"/>
                  <a:pt x="5283" y="13742"/>
                </a:cubicBezTo>
                <a:cubicBezTo>
                  <a:pt x="5260" y="13772"/>
                  <a:pt x="5252" y="13812"/>
                  <a:pt x="5234" y="13866"/>
                </a:cubicBezTo>
                <a:cubicBezTo>
                  <a:pt x="5201" y="13964"/>
                  <a:pt x="5147" y="14057"/>
                  <a:pt x="5135" y="14163"/>
                </a:cubicBezTo>
                <a:cubicBezTo>
                  <a:pt x="5121" y="14293"/>
                  <a:pt x="5131" y="14434"/>
                  <a:pt x="5159" y="14560"/>
                </a:cubicBezTo>
                <a:cubicBezTo>
                  <a:pt x="5184" y="14676"/>
                  <a:pt x="5230" y="14826"/>
                  <a:pt x="5283" y="14932"/>
                </a:cubicBezTo>
                <a:cubicBezTo>
                  <a:pt x="5321" y="15008"/>
                  <a:pt x="5373" y="15071"/>
                  <a:pt x="5432" y="15131"/>
                </a:cubicBezTo>
                <a:cubicBezTo>
                  <a:pt x="5466" y="15165"/>
                  <a:pt x="5465" y="15150"/>
                  <a:pt x="5507" y="15156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795840" y="5554800"/>
            <a:ext cx="27000" cy="36360"/>
          </a:xfrm>
          <a:custGeom>
            <a:avLst/>
            <a:gdLst/>
            <a:ahLst/>
            <a:rect l="l" t="t" r="r" b="b"/>
            <a:pathLst>
              <a:path w="75" h="100">
                <a:moveTo>
                  <a:pt x="10567" y="15478"/>
                </a:moveTo>
                <a:cubicBezTo>
                  <a:pt x="10567" y="15453"/>
                  <a:pt x="10567" y="15445"/>
                  <a:pt x="10567" y="15429"/>
                </a:cubicBezTo>
                <a:cubicBezTo>
                  <a:pt x="10609" y="15442"/>
                  <a:pt x="10598" y="15469"/>
                  <a:pt x="10567" y="15503"/>
                </a:cubicBezTo>
                <a:cubicBezTo>
                  <a:pt x="10559" y="15511"/>
                  <a:pt x="10550" y="15520"/>
                  <a:pt x="10542" y="15528"/>
                </a:cubicBezTo>
                <a:cubicBezTo>
                  <a:pt x="10542" y="15476"/>
                  <a:pt x="10537" y="15475"/>
                  <a:pt x="10567" y="15453"/>
                </a:cubicBezTo>
                <a:cubicBezTo>
                  <a:pt x="10589" y="15431"/>
                  <a:pt x="10594" y="15423"/>
                  <a:pt x="10616" y="154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214280" y="3456000"/>
            <a:ext cx="1303560" cy="849240"/>
          </a:xfrm>
          <a:custGeom>
            <a:avLst/>
            <a:gdLst/>
            <a:ahLst/>
            <a:rect l="l" t="t" r="r" b="b"/>
            <a:pathLst>
              <a:path w="3623" h="2358">
                <a:moveTo>
                  <a:pt x="3373" y="11956"/>
                </a:moveTo>
                <a:cubicBezTo>
                  <a:pt x="3373" y="11948"/>
                  <a:pt x="3373" y="11939"/>
                  <a:pt x="3373" y="11931"/>
                </a:cubicBezTo>
                <a:cubicBezTo>
                  <a:pt x="3421" y="11919"/>
                  <a:pt x="3397" y="11926"/>
                  <a:pt x="3423" y="11906"/>
                </a:cubicBezTo>
                <a:cubicBezTo>
                  <a:pt x="3451" y="11888"/>
                  <a:pt x="3489" y="11852"/>
                  <a:pt x="3522" y="11832"/>
                </a:cubicBezTo>
                <a:cubicBezTo>
                  <a:pt x="3530" y="11832"/>
                  <a:pt x="3539" y="11832"/>
                  <a:pt x="3547" y="11832"/>
                </a:cubicBezTo>
                <a:cubicBezTo>
                  <a:pt x="3571" y="11810"/>
                  <a:pt x="3586" y="11782"/>
                  <a:pt x="3621" y="11757"/>
                </a:cubicBezTo>
                <a:cubicBezTo>
                  <a:pt x="3658" y="11731"/>
                  <a:pt x="3682" y="11699"/>
                  <a:pt x="3721" y="11683"/>
                </a:cubicBezTo>
                <a:cubicBezTo>
                  <a:pt x="3741" y="11675"/>
                  <a:pt x="3804" y="11670"/>
                  <a:pt x="3820" y="11658"/>
                </a:cubicBezTo>
                <a:cubicBezTo>
                  <a:pt x="3842" y="11636"/>
                  <a:pt x="3851" y="11631"/>
                  <a:pt x="3845" y="11609"/>
                </a:cubicBezTo>
                <a:cubicBezTo>
                  <a:pt x="3882" y="11599"/>
                  <a:pt x="3909" y="11595"/>
                  <a:pt x="3944" y="11584"/>
                </a:cubicBezTo>
                <a:cubicBezTo>
                  <a:pt x="3972" y="11576"/>
                  <a:pt x="3990" y="11567"/>
                  <a:pt x="4018" y="11559"/>
                </a:cubicBezTo>
                <a:cubicBezTo>
                  <a:pt x="4041" y="11524"/>
                  <a:pt x="4018" y="11542"/>
                  <a:pt x="4068" y="11534"/>
                </a:cubicBezTo>
                <a:cubicBezTo>
                  <a:pt x="4078" y="11528"/>
                  <a:pt x="4120" y="11499"/>
                  <a:pt x="4142" y="11485"/>
                </a:cubicBezTo>
                <a:cubicBezTo>
                  <a:pt x="4178" y="11461"/>
                  <a:pt x="4204" y="11435"/>
                  <a:pt x="4242" y="11410"/>
                </a:cubicBezTo>
                <a:cubicBezTo>
                  <a:pt x="4279" y="11385"/>
                  <a:pt x="4327" y="11362"/>
                  <a:pt x="4366" y="11336"/>
                </a:cubicBezTo>
                <a:cubicBezTo>
                  <a:pt x="4401" y="11313"/>
                  <a:pt x="4457" y="11305"/>
                  <a:pt x="4490" y="11286"/>
                </a:cubicBezTo>
                <a:cubicBezTo>
                  <a:pt x="4524" y="11266"/>
                  <a:pt x="4555" y="11254"/>
                  <a:pt x="4589" y="11237"/>
                </a:cubicBezTo>
                <a:cubicBezTo>
                  <a:pt x="4611" y="11215"/>
                  <a:pt x="4616" y="11206"/>
                  <a:pt x="4638" y="11212"/>
                </a:cubicBezTo>
                <a:cubicBezTo>
                  <a:pt x="4648" y="11205"/>
                  <a:pt x="4691" y="11176"/>
                  <a:pt x="4713" y="11162"/>
                </a:cubicBezTo>
                <a:cubicBezTo>
                  <a:pt x="4746" y="11140"/>
                  <a:pt x="4781" y="11131"/>
                  <a:pt x="4812" y="11112"/>
                </a:cubicBezTo>
                <a:cubicBezTo>
                  <a:pt x="4854" y="11087"/>
                  <a:pt x="4888" y="11064"/>
                  <a:pt x="4936" y="11038"/>
                </a:cubicBezTo>
                <a:cubicBezTo>
                  <a:pt x="4967" y="11021"/>
                  <a:pt x="5002" y="11006"/>
                  <a:pt x="5035" y="10988"/>
                </a:cubicBezTo>
                <a:cubicBezTo>
                  <a:pt x="5069" y="10970"/>
                  <a:pt x="5124" y="10960"/>
                  <a:pt x="5159" y="10939"/>
                </a:cubicBezTo>
                <a:cubicBezTo>
                  <a:pt x="5194" y="10918"/>
                  <a:pt x="5230" y="10889"/>
                  <a:pt x="5259" y="10864"/>
                </a:cubicBezTo>
                <a:cubicBezTo>
                  <a:pt x="5293" y="10835"/>
                  <a:pt x="5327" y="10811"/>
                  <a:pt x="5358" y="10790"/>
                </a:cubicBezTo>
                <a:cubicBezTo>
                  <a:pt x="5396" y="10764"/>
                  <a:pt x="5421" y="10740"/>
                  <a:pt x="5457" y="10716"/>
                </a:cubicBezTo>
                <a:cubicBezTo>
                  <a:pt x="5489" y="10694"/>
                  <a:pt x="5524" y="10677"/>
                  <a:pt x="5556" y="10641"/>
                </a:cubicBezTo>
                <a:cubicBezTo>
                  <a:pt x="5580" y="10614"/>
                  <a:pt x="5600" y="10590"/>
                  <a:pt x="5631" y="10567"/>
                </a:cubicBezTo>
                <a:cubicBezTo>
                  <a:pt x="5667" y="10540"/>
                  <a:pt x="5695" y="10528"/>
                  <a:pt x="5730" y="10492"/>
                </a:cubicBezTo>
                <a:cubicBezTo>
                  <a:pt x="5760" y="10461"/>
                  <a:pt x="5772" y="10429"/>
                  <a:pt x="5804" y="10393"/>
                </a:cubicBezTo>
                <a:cubicBezTo>
                  <a:pt x="5888" y="10299"/>
                  <a:pt x="5986" y="10227"/>
                  <a:pt x="6077" y="10145"/>
                </a:cubicBezTo>
                <a:cubicBezTo>
                  <a:pt x="6127" y="10100"/>
                  <a:pt x="6172" y="10059"/>
                  <a:pt x="6226" y="10021"/>
                </a:cubicBezTo>
                <a:cubicBezTo>
                  <a:pt x="6256" y="10000"/>
                  <a:pt x="6305" y="9987"/>
                  <a:pt x="6325" y="9971"/>
                </a:cubicBezTo>
                <a:cubicBezTo>
                  <a:pt x="6377" y="9931"/>
                  <a:pt x="6416" y="9878"/>
                  <a:pt x="6474" y="9847"/>
                </a:cubicBezTo>
                <a:cubicBezTo>
                  <a:pt x="6482" y="9847"/>
                  <a:pt x="6491" y="9847"/>
                  <a:pt x="6499" y="9847"/>
                </a:cubicBezTo>
                <a:cubicBezTo>
                  <a:pt x="6513" y="9838"/>
                  <a:pt x="6544" y="9817"/>
                  <a:pt x="6573" y="9798"/>
                </a:cubicBezTo>
                <a:cubicBezTo>
                  <a:pt x="6602" y="9778"/>
                  <a:pt x="6638" y="9747"/>
                  <a:pt x="6672" y="9723"/>
                </a:cubicBezTo>
                <a:cubicBezTo>
                  <a:pt x="6707" y="9698"/>
                  <a:pt x="6734" y="9689"/>
                  <a:pt x="6772" y="9674"/>
                </a:cubicBezTo>
                <a:cubicBezTo>
                  <a:pt x="6797" y="9664"/>
                  <a:pt x="6847" y="9661"/>
                  <a:pt x="6871" y="9649"/>
                </a:cubicBezTo>
                <a:cubicBezTo>
                  <a:pt x="6908" y="9631"/>
                  <a:pt x="6931" y="9612"/>
                  <a:pt x="6970" y="9599"/>
                </a:cubicBezTo>
                <a:cubicBezTo>
                  <a:pt x="6978" y="9599"/>
                  <a:pt x="6987" y="9599"/>
                  <a:pt x="6995" y="95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768320" y="4313160"/>
            <a:ext cx="115920" cy="142920"/>
          </a:xfrm>
          <a:custGeom>
            <a:avLst/>
            <a:gdLst/>
            <a:ahLst/>
            <a:rect l="l" t="t" r="r" b="b"/>
            <a:pathLst>
              <a:path w="324" h="398">
                <a:moveTo>
                  <a:pt x="4986" y="12080"/>
                </a:moveTo>
                <a:cubicBezTo>
                  <a:pt x="4986" y="12040"/>
                  <a:pt x="4991" y="12000"/>
                  <a:pt x="5035" y="11981"/>
                </a:cubicBezTo>
                <a:cubicBezTo>
                  <a:pt x="5075" y="11963"/>
                  <a:pt x="5130" y="11980"/>
                  <a:pt x="5159" y="12005"/>
                </a:cubicBezTo>
                <a:cubicBezTo>
                  <a:pt x="5199" y="12040"/>
                  <a:pt x="5190" y="12070"/>
                  <a:pt x="5159" y="12105"/>
                </a:cubicBezTo>
                <a:cubicBezTo>
                  <a:pt x="5132" y="12135"/>
                  <a:pt x="5075" y="12149"/>
                  <a:pt x="5060" y="12179"/>
                </a:cubicBezTo>
                <a:cubicBezTo>
                  <a:pt x="5053" y="12194"/>
                  <a:pt x="5060" y="12237"/>
                  <a:pt x="5060" y="12254"/>
                </a:cubicBezTo>
                <a:cubicBezTo>
                  <a:pt x="5118" y="12254"/>
                  <a:pt x="5139" y="12264"/>
                  <a:pt x="5184" y="12278"/>
                </a:cubicBezTo>
                <a:cubicBezTo>
                  <a:pt x="5199" y="12283"/>
                  <a:pt x="5274" y="12321"/>
                  <a:pt x="5234" y="12353"/>
                </a:cubicBezTo>
                <a:cubicBezTo>
                  <a:pt x="5195" y="12384"/>
                  <a:pt x="5110" y="12378"/>
                  <a:pt x="5060" y="12378"/>
                </a:cubicBezTo>
                <a:cubicBezTo>
                  <a:pt x="5010" y="12378"/>
                  <a:pt x="4961" y="12378"/>
                  <a:pt x="4911" y="123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812960" y="3581280"/>
            <a:ext cx="169920" cy="401760"/>
          </a:xfrm>
          <a:custGeom>
            <a:avLst/>
            <a:gdLst/>
            <a:ahLst/>
            <a:rect l="l" t="t" r="r" b="b"/>
            <a:pathLst>
              <a:path w="473" h="1117">
                <a:moveTo>
                  <a:pt x="5457" y="10691"/>
                </a:moveTo>
                <a:cubicBezTo>
                  <a:pt x="5457" y="10620"/>
                  <a:pt x="5453" y="10733"/>
                  <a:pt x="5457" y="10740"/>
                </a:cubicBezTo>
                <a:cubicBezTo>
                  <a:pt x="5486" y="10791"/>
                  <a:pt x="5482" y="10827"/>
                  <a:pt x="5482" y="10889"/>
                </a:cubicBezTo>
                <a:cubicBezTo>
                  <a:pt x="5482" y="10926"/>
                  <a:pt x="5482" y="11083"/>
                  <a:pt x="5482" y="11038"/>
                </a:cubicBezTo>
                <a:cubicBezTo>
                  <a:pt x="5482" y="10981"/>
                  <a:pt x="5492" y="10960"/>
                  <a:pt x="5507" y="10914"/>
                </a:cubicBezTo>
                <a:cubicBezTo>
                  <a:pt x="5521" y="10872"/>
                  <a:pt x="5522" y="10686"/>
                  <a:pt x="5482" y="10666"/>
                </a:cubicBezTo>
                <a:cubicBezTo>
                  <a:pt x="5450" y="10650"/>
                  <a:pt x="5397" y="10599"/>
                  <a:pt x="5383" y="10592"/>
                </a:cubicBezTo>
                <a:cubicBezTo>
                  <a:pt x="5362" y="10582"/>
                  <a:pt x="5304" y="10574"/>
                  <a:pt x="5283" y="10567"/>
                </a:cubicBezTo>
                <a:cubicBezTo>
                  <a:pt x="5264" y="10561"/>
                  <a:pt x="5229" y="10567"/>
                  <a:pt x="5209" y="10567"/>
                </a:cubicBezTo>
              </a:path>
              <a:path w="473" h="1117">
                <a:moveTo>
                  <a:pt x="5184" y="9971"/>
                </a:moveTo>
                <a:cubicBezTo>
                  <a:pt x="5207" y="9994"/>
                  <a:pt x="5215" y="10005"/>
                  <a:pt x="5209" y="9971"/>
                </a:cubicBezTo>
                <a:cubicBezTo>
                  <a:pt x="5202" y="9950"/>
                  <a:pt x="5170" y="9928"/>
                  <a:pt x="5135" y="9947"/>
                </a:cubicBezTo>
                <a:cubicBezTo>
                  <a:pt x="5108" y="9961"/>
                  <a:pt x="5088" y="10020"/>
                  <a:pt x="5085" y="10046"/>
                </a:cubicBezTo>
                <a:cubicBezTo>
                  <a:pt x="5080" y="10091"/>
                  <a:pt x="5060" y="10116"/>
                  <a:pt x="5060" y="10170"/>
                </a:cubicBezTo>
                <a:cubicBezTo>
                  <a:pt x="5060" y="10195"/>
                  <a:pt x="5060" y="10203"/>
                  <a:pt x="5060" y="10220"/>
                </a:cubicBezTo>
                <a:cubicBezTo>
                  <a:pt x="5106" y="10220"/>
                  <a:pt x="5132" y="10213"/>
                  <a:pt x="5159" y="10170"/>
                </a:cubicBezTo>
                <a:cubicBezTo>
                  <a:pt x="5182" y="10134"/>
                  <a:pt x="5193" y="10012"/>
                  <a:pt x="5209" y="9996"/>
                </a:cubicBezTo>
                <a:cubicBezTo>
                  <a:pt x="5234" y="9971"/>
                  <a:pt x="5209" y="10013"/>
                  <a:pt x="5209" y="10046"/>
                </a:cubicBezTo>
                <a:cubicBezTo>
                  <a:pt x="5209" y="10113"/>
                  <a:pt x="5214" y="10124"/>
                  <a:pt x="5259" y="10170"/>
                </a:cubicBezTo>
                <a:cubicBezTo>
                  <a:pt x="5281" y="10193"/>
                  <a:pt x="5286" y="10201"/>
                  <a:pt x="5308" y="10195"/>
                </a:cubicBezTo>
              </a:path>
              <a:path w="473" h="1117">
                <a:moveTo>
                  <a:pt x="5358" y="10294"/>
                </a:moveTo>
                <a:cubicBezTo>
                  <a:pt x="5358" y="10302"/>
                  <a:pt x="5358" y="10311"/>
                  <a:pt x="5358" y="10319"/>
                </a:cubicBezTo>
                <a:cubicBezTo>
                  <a:pt x="5250" y="10319"/>
                  <a:pt x="5143" y="10319"/>
                  <a:pt x="5035" y="103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678040" y="3786120"/>
            <a:ext cx="189000" cy="125640"/>
          </a:xfrm>
          <a:custGeom>
            <a:avLst/>
            <a:gdLst/>
            <a:ahLst/>
            <a:rect l="l" t="t" r="r" b="b"/>
            <a:pathLst>
              <a:path w="522" h="348">
                <a:moveTo>
                  <a:pt x="7441" y="10666"/>
                </a:moveTo>
                <a:cubicBezTo>
                  <a:pt x="7441" y="10638"/>
                  <a:pt x="7448" y="10582"/>
                  <a:pt x="7466" y="10567"/>
                </a:cubicBezTo>
                <a:cubicBezTo>
                  <a:pt x="7498" y="10541"/>
                  <a:pt x="7577" y="10521"/>
                  <a:pt x="7615" y="10517"/>
                </a:cubicBezTo>
                <a:cubicBezTo>
                  <a:pt x="7678" y="10511"/>
                  <a:pt x="7665" y="10574"/>
                  <a:pt x="7665" y="10616"/>
                </a:cubicBezTo>
                <a:cubicBezTo>
                  <a:pt x="7665" y="10662"/>
                  <a:pt x="7631" y="10703"/>
                  <a:pt x="7615" y="10740"/>
                </a:cubicBezTo>
                <a:cubicBezTo>
                  <a:pt x="7591" y="10795"/>
                  <a:pt x="7565" y="10806"/>
                  <a:pt x="7565" y="10864"/>
                </a:cubicBezTo>
                <a:cubicBezTo>
                  <a:pt x="7697" y="10864"/>
                  <a:pt x="7830" y="10864"/>
                  <a:pt x="7962" y="108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197080" y="3446640"/>
            <a:ext cx="1160640" cy="3019320"/>
          </a:xfrm>
          <a:custGeom>
            <a:avLst/>
            <a:gdLst/>
            <a:ahLst/>
            <a:rect l="l" t="t" r="r" b="b"/>
            <a:pathLst>
              <a:path w="3226" h="8385">
                <a:moveTo>
                  <a:pt x="7045" y="17959"/>
                </a:moveTo>
                <a:cubicBezTo>
                  <a:pt x="7045" y="17923"/>
                  <a:pt x="7029" y="17855"/>
                  <a:pt x="7069" y="17835"/>
                </a:cubicBezTo>
                <a:cubicBezTo>
                  <a:pt x="7077" y="17835"/>
                  <a:pt x="7086" y="17835"/>
                  <a:pt x="7094" y="17835"/>
                </a:cubicBezTo>
                <a:cubicBezTo>
                  <a:pt x="7094" y="17868"/>
                  <a:pt x="7094" y="17901"/>
                  <a:pt x="7094" y="17934"/>
                </a:cubicBezTo>
                <a:cubicBezTo>
                  <a:pt x="7050" y="17934"/>
                  <a:pt x="7055" y="17936"/>
                  <a:pt x="7020" y="17909"/>
                </a:cubicBezTo>
              </a:path>
              <a:path w="3226" h="8385">
                <a:moveTo>
                  <a:pt x="7045" y="17909"/>
                </a:moveTo>
                <a:cubicBezTo>
                  <a:pt x="7053" y="17909"/>
                  <a:pt x="7061" y="17909"/>
                  <a:pt x="7069" y="17909"/>
                </a:cubicBezTo>
                <a:cubicBezTo>
                  <a:pt x="7069" y="17866"/>
                  <a:pt x="7059" y="17871"/>
                  <a:pt x="7094" y="17859"/>
                </a:cubicBezTo>
                <a:cubicBezTo>
                  <a:pt x="7094" y="17785"/>
                  <a:pt x="7094" y="17710"/>
                  <a:pt x="7094" y="17636"/>
                </a:cubicBezTo>
                <a:cubicBezTo>
                  <a:pt x="7132" y="17623"/>
                  <a:pt x="7119" y="17607"/>
                  <a:pt x="7119" y="17562"/>
                </a:cubicBezTo>
                <a:cubicBezTo>
                  <a:pt x="7119" y="17537"/>
                  <a:pt x="7119" y="17512"/>
                  <a:pt x="7119" y="17487"/>
                </a:cubicBezTo>
                <a:cubicBezTo>
                  <a:pt x="7173" y="17469"/>
                  <a:pt x="7120" y="17456"/>
                  <a:pt x="7144" y="17413"/>
                </a:cubicBezTo>
                <a:cubicBezTo>
                  <a:pt x="7163" y="17378"/>
                  <a:pt x="7188" y="17356"/>
                  <a:pt x="7193" y="17314"/>
                </a:cubicBezTo>
                <a:cubicBezTo>
                  <a:pt x="7198" y="17266"/>
                  <a:pt x="7204" y="17254"/>
                  <a:pt x="7218" y="17214"/>
                </a:cubicBezTo>
                <a:cubicBezTo>
                  <a:pt x="7229" y="17182"/>
                  <a:pt x="7233" y="17144"/>
                  <a:pt x="7243" y="17115"/>
                </a:cubicBezTo>
                <a:cubicBezTo>
                  <a:pt x="7252" y="17089"/>
                  <a:pt x="7243" y="17044"/>
                  <a:pt x="7243" y="17016"/>
                </a:cubicBezTo>
                <a:cubicBezTo>
                  <a:pt x="7281" y="17003"/>
                  <a:pt x="7268" y="16987"/>
                  <a:pt x="7268" y="16942"/>
                </a:cubicBezTo>
                <a:cubicBezTo>
                  <a:pt x="7268" y="16934"/>
                  <a:pt x="7268" y="16925"/>
                  <a:pt x="7268" y="16917"/>
                </a:cubicBezTo>
                <a:cubicBezTo>
                  <a:pt x="7306" y="16904"/>
                  <a:pt x="7293" y="16887"/>
                  <a:pt x="7293" y="16842"/>
                </a:cubicBezTo>
                <a:cubicBezTo>
                  <a:pt x="7293" y="16826"/>
                  <a:pt x="7309" y="16758"/>
                  <a:pt x="7317" y="16743"/>
                </a:cubicBezTo>
                <a:cubicBezTo>
                  <a:pt x="7339" y="16721"/>
                  <a:pt x="7348" y="16716"/>
                  <a:pt x="7342" y="16694"/>
                </a:cubicBezTo>
              </a:path>
              <a:path w="3226" h="8385">
                <a:moveTo>
                  <a:pt x="7491" y="16148"/>
                </a:moveTo>
                <a:cubicBezTo>
                  <a:pt x="7515" y="16080"/>
                  <a:pt x="7526" y="16037"/>
                  <a:pt x="7541" y="15974"/>
                </a:cubicBezTo>
                <a:cubicBezTo>
                  <a:pt x="7550" y="15936"/>
                  <a:pt x="7554" y="15911"/>
                  <a:pt x="7565" y="15875"/>
                </a:cubicBezTo>
                <a:cubicBezTo>
                  <a:pt x="7578" y="15834"/>
                  <a:pt x="7605" y="15790"/>
                  <a:pt x="7615" y="15751"/>
                </a:cubicBezTo>
                <a:cubicBezTo>
                  <a:pt x="7627" y="15705"/>
                  <a:pt x="7626" y="15670"/>
                  <a:pt x="7640" y="15627"/>
                </a:cubicBezTo>
                <a:cubicBezTo>
                  <a:pt x="7653" y="15589"/>
                  <a:pt x="7682" y="15540"/>
                  <a:pt x="7689" y="15503"/>
                </a:cubicBezTo>
                <a:cubicBezTo>
                  <a:pt x="7694" y="15479"/>
                  <a:pt x="7684" y="15453"/>
                  <a:pt x="7689" y="15429"/>
                </a:cubicBezTo>
                <a:cubicBezTo>
                  <a:pt x="7691" y="15422"/>
                  <a:pt x="7704" y="15362"/>
                  <a:pt x="7714" y="15329"/>
                </a:cubicBezTo>
                <a:cubicBezTo>
                  <a:pt x="7725" y="15294"/>
                  <a:pt x="7753" y="15268"/>
                  <a:pt x="7764" y="15230"/>
                </a:cubicBezTo>
                <a:cubicBezTo>
                  <a:pt x="7776" y="15188"/>
                  <a:pt x="7780" y="15146"/>
                  <a:pt x="7789" y="15106"/>
                </a:cubicBezTo>
                <a:cubicBezTo>
                  <a:pt x="7798" y="15064"/>
                  <a:pt x="7800" y="15023"/>
                  <a:pt x="7813" y="14982"/>
                </a:cubicBezTo>
                <a:cubicBezTo>
                  <a:pt x="7826" y="14941"/>
                  <a:pt x="7851" y="14901"/>
                  <a:pt x="7863" y="14858"/>
                </a:cubicBezTo>
                <a:cubicBezTo>
                  <a:pt x="7873" y="14821"/>
                  <a:pt x="7880" y="14799"/>
                  <a:pt x="7888" y="14759"/>
                </a:cubicBezTo>
                <a:cubicBezTo>
                  <a:pt x="7897" y="14716"/>
                  <a:pt x="7899" y="14655"/>
                  <a:pt x="7913" y="14610"/>
                </a:cubicBezTo>
                <a:cubicBezTo>
                  <a:pt x="7922" y="14581"/>
                  <a:pt x="7958" y="14538"/>
                  <a:pt x="7962" y="14511"/>
                </a:cubicBezTo>
                <a:cubicBezTo>
                  <a:pt x="7971" y="14442"/>
                  <a:pt x="7975" y="14371"/>
                  <a:pt x="7987" y="14312"/>
                </a:cubicBezTo>
                <a:cubicBezTo>
                  <a:pt x="7995" y="14270"/>
                  <a:pt x="8005" y="14222"/>
                  <a:pt x="8012" y="14188"/>
                </a:cubicBezTo>
                <a:cubicBezTo>
                  <a:pt x="8022" y="14137"/>
                  <a:pt x="8023" y="14091"/>
                  <a:pt x="8037" y="14039"/>
                </a:cubicBezTo>
                <a:cubicBezTo>
                  <a:pt x="8053" y="13980"/>
                  <a:pt x="8074" y="13926"/>
                  <a:pt x="8086" y="13866"/>
                </a:cubicBezTo>
                <a:cubicBezTo>
                  <a:pt x="8095" y="13819"/>
                  <a:pt x="8103" y="13784"/>
                  <a:pt x="8111" y="13742"/>
                </a:cubicBezTo>
                <a:cubicBezTo>
                  <a:pt x="8121" y="13694"/>
                  <a:pt x="8126" y="13666"/>
                  <a:pt x="8136" y="13618"/>
                </a:cubicBezTo>
                <a:cubicBezTo>
                  <a:pt x="8145" y="13576"/>
                  <a:pt x="8148" y="13535"/>
                  <a:pt x="8161" y="13494"/>
                </a:cubicBezTo>
                <a:cubicBezTo>
                  <a:pt x="8175" y="13447"/>
                  <a:pt x="8194" y="13393"/>
                  <a:pt x="8210" y="13345"/>
                </a:cubicBezTo>
                <a:cubicBezTo>
                  <a:pt x="8227" y="13293"/>
                  <a:pt x="8247" y="13248"/>
                  <a:pt x="8260" y="13196"/>
                </a:cubicBezTo>
                <a:cubicBezTo>
                  <a:pt x="8269" y="13159"/>
                  <a:pt x="8272" y="13111"/>
                  <a:pt x="8285" y="13072"/>
                </a:cubicBezTo>
                <a:cubicBezTo>
                  <a:pt x="8300" y="13025"/>
                  <a:pt x="8319" y="12972"/>
                  <a:pt x="8334" y="12923"/>
                </a:cubicBezTo>
                <a:cubicBezTo>
                  <a:pt x="8348" y="12875"/>
                  <a:pt x="8372" y="12823"/>
                  <a:pt x="8384" y="12774"/>
                </a:cubicBezTo>
                <a:cubicBezTo>
                  <a:pt x="8396" y="12723"/>
                  <a:pt x="8389" y="12673"/>
                  <a:pt x="8409" y="12626"/>
                </a:cubicBezTo>
                <a:cubicBezTo>
                  <a:pt x="8427" y="12583"/>
                  <a:pt x="8461" y="12541"/>
                  <a:pt x="8483" y="12502"/>
                </a:cubicBezTo>
                <a:cubicBezTo>
                  <a:pt x="8506" y="12462"/>
                  <a:pt x="8543" y="12419"/>
                  <a:pt x="8558" y="12378"/>
                </a:cubicBezTo>
                <a:cubicBezTo>
                  <a:pt x="8573" y="12339"/>
                  <a:pt x="8568" y="12292"/>
                  <a:pt x="8582" y="12254"/>
                </a:cubicBezTo>
                <a:cubicBezTo>
                  <a:pt x="8599" y="12207"/>
                  <a:pt x="8621" y="12154"/>
                  <a:pt x="8632" y="12105"/>
                </a:cubicBezTo>
                <a:cubicBezTo>
                  <a:pt x="8640" y="12069"/>
                  <a:pt x="8648" y="12044"/>
                  <a:pt x="8657" y="12005"/>
                </a:cubicBezTo>
                <a:cubicBezTo>
                  <a:pt x="8664" y="11973"/>
                  <a:pt x="8671" y="11939"/>
                  <a:pt x="8682" y="11906"/>
                </a:cubicBezTo>
                <a:cubicBezTo>
                  <a:pt x="8695" y="11866"/>
                  <a:pt x="8721" y="11821"/>
                  <a:pt x="8731" y="11782"/>
                </a:cubicBezTo>
                <a:cubicBezTo>
                  <a:pt x="8743" y="11737"/>
                  <a:pt x="8742" y="11700"/>
                  <a:pt x="8756" y="11658"/>
                </a:cubicBezTo>
                <a:cubicBezTo>
                  <a:pt x="8769" y="11619"/>
                  <a:pt x="8791" y="11574"/>
                  <a:pt x="8806" y="11534"/>
                </a:cubicBezTo>
                <a:cubicBezTo>
                  <a:pt x="8821" y="11495"/>
                  <a:pt x="8842" y="11446"/>
                  <a:pt x="8855" y="11410"/>
                </a:cubicBezTo>
                <a:cubicBezTo>
                  <a:pt x="8871" y="11364"/>
                  <a:pt x="8891" y="11312"/>
                  <a:pt x="8905" y="11261"/>
                </a:cubicBezTo>
                <a:cubicBezTo>
                  <a:pt x="8914" y="11226"/>
                  <a:pt x="8920" y="11199"/>
                  <a:pt x="8930" y="11162"/>
                </a:cubicBezTo>
                <a:cubicBezTo>
                  <a:pt x="8941" y="11119"/>
                  <a:pt x="8945" y="11085"/>
                  <a:pt x="8954" y="11038"/>
                </a:cubicBezTo>
                <a:cubicBezTo>
                  <a:pt x="8962" y="10996"/>
                  <a:pt x="8966" y="10930"/>
                  <a:pt x="8979" y="10889"/>
                </a:cubicBezTo>
                <a:cubicBezTo>
                  <a:pt x="8996" y="10834"/>
                  <a:pt x="9011" y="10773"/>
                  <a:pt x="9029" y="10716"/>
                </a:cubicBezTo>
                <a:cubicBezTo>
                  <a:pt x="9044" y="10668"/>
                  <a:pt x="9067" y="10636"/>
                  <a:pt x="9079" y="10592"/>
                </a:cubicBezTo>
                <a:cubicBezTo>
                  <a:pt x="9091" y="10548"/>
                  <a:pt x="9089" y="10511"/>
                  <a:pt x="9103" y="10468"/>
                </a:cubicBezTo>
                <a:cubicBezTo>
                  <a:pt x="9114" y="10434"/>
                  <a:pt x="9117" y="10403"/>
                  <a:pt x="9128" y="10368"/>
                </a:cubicBezTo>
                <a:cubicBezTo>
                  <a:pt x="9141" y="10327"/>
                  <a:pt x="9169" y="10289"/>
                  <a:pt x="9178" y="10244"/>
                </a:cubicBezTo>
                <a:cubicBezTo>
                  <a:pt x="9183" y="10220"/>
                  <a:pt x="9173" y="10194"/>
                  <a:pt x="9178" y="10170"/>
                </a:cubicBezTo>
                <a:cubicBezTo>
                  <a:pt x="9178" y="10168"/>
                  <a:pt x="9202" y="10132"/>
                  <a:pt x="9203" y="10096"/>
                </a:cubicBezTo>
                <a:cubicBezTo>
                  <a:pt x="9205" y="10030"/>
                  <a:pt x="9216" y="9976"/>
                  <a:pt x="9227" y="9922"/>
                </a:cubicBezTo>
                <a:cubicBezTo>
                  <a:pt x="9237" y="9873"/>
                  <a:pt x="9238" y="9842"/>
                  <a:pt x="9252" y="9798"/>
                </a:cubicBezTo>
                <a:cubicBezTo>
                  <a:pt x="9266" y="9755"/>
                  <a:pt x="9291" y="9712"/>
                  <a:pt x="9302" y="9674"/>
                </a:cubicBezTo>
                <a:cubicBezTo>
                  <a:pt x="9313" y="9638"/>
                  <a:pt x="9315" y="9609"/>
                  <a:pt x="9327" y="9575"/>
                </a:cubicBezTo>
              </a:path>
              <a:path w="3226" h="8385">
                <a:moveTo>
                  <a:pt x="7417" y="16297"/>
                </a:moveTo>
                <a:cubicBezTo>
                  <a:pt x="7417" y="16342"/>
                  <a:pt x="7396" y="16356"/>
                  <a:pt x="7392" y="16396"/>
                </a:cubicBezTo>
                <a:cubicBezTo>
                  <a:pt x="7387" y="16443"/>
                  <a:pt x="7380" y="16455"/>
                  <a:pt x="7367" y="16495"/>
                </a:cubicBezTo>
                <a:cubicBezTo>
                  <a:pt x="7357" y="16525"/>
                  <a:pt x="7345" y="16565"/>
                  <a:pt x="7342" y="16594"/>
                </a:cubicBezTo>
                <a:cubicBezTo>
                  <a:pt x="7338" y="16631"/>
                  <a:pt x="7336" y="16665"/>
                  <a:pt x="7317" y="16694"/>
                </a:cubicBezTo>
                <a:cubicBezTo>
                  <a:pt x="7291" y="16733"/>
                  <a:pt x="7293" y="16782"/>
                  <a:pt x="7268" y="16818"/>
                </a:cubicBezTo>
                <a:cubicBezTo>
                  <a:pt x="7226" y="16880"/>
                  <a:pt x="7252" y="16864"/>
                  <a:pt x="7268" y="16818"/>
                </a:cubicBezTo>
                <a:cubicBezTo>
                  <a:pt x="7281" y="16778"/>
                  <a:pt x="7275" y="16731"/>
                  <a:pt x="7293" y="16694"/>
                </a:cubicBezTo>
                <a:cubicBezTo>
                  <a:pt x="7318" y="16643"/>
                  <a:pt x="7355" y="16582"/>
                  <a:pt x="7367" y="16520"/>
                </a:cubicBezTo>
                <a:cubicBezTo>
                  <a:pt x="7380" y="16458"/>
                  <a:pt x="7375" y="16382"/>
                  <a:pt x="7392" y="16321"/>
                </a:cubicBezTo>
                <a:cubicBezTo>
                  <a:pt x="7408" y="16264"/>
                  <a:pt x="7432" y="16206"/>
                  <a:pt x="7441" y="16148"/>
                </a:cubicBezTo>
                <a:cubicBezTo>
                  <a:pt x="7453" y="16072"/>
                  <a:pt x="7493" y="16023"/>
                  <a:pt x="7516" y="15949"/>
                </a:cubicBezTo>
                <a:cubicBezTo>
                  <a:pt x="7516" y="15941"/>
                  <a:pt x="7516" y="15933"/>
                  <a:pt x="7516" y="15925"/>
                </a:cubicBezTo>
              </a:path>
              <a:path w="3226" h="8385">
                <a:moveTo>
                  <a:pt x="7913" y="14436"/>
                </a:moveTo>
                <a:cubicBezTo>
                  <a:pt x="7954" y="14436"/>
                  <a:pt x="7893" y="14473"/>
                  <a:pt x="7863" y="14486"/>
                </a:cubicBezTo>
                <a:cubicBezTo>
                  <a:pt x="7825" y="14503"/>
                  <a:pt x="7779" y="14510"/>
                  <a:pt x="7739" y="14536"/>
                </a:cubicBezTo>
                <a:cubicBezTo>
                  <a:pt x="7706" y="14557"/>
                  <a:pt x="7679" y="14581"/>
                  <a:pt x="7640" y="14585"/>
                </a:cubicBezTo>
                <a:cubicBezTo>
                  <a:pt x="7614" y="14588"/>
                  <a:pt x="7582" y="14633"/>
                  <a:pt x="7615" y="14610"/>
                </a:cubicBezTo>
                <a:cubicBezTo>
                  <a:pt x="7652" y="14584"/>
                  <a:pt x="7679" y="14571"/>
                  <a:pt x="7714" y="14536"/>
                </a:cubicBezTo>
                <a:cubicBezTo>
                  <a:pt x="7746" y="14504"/>
                  <a:pt x="7814" y="14466"/>
                  <a:pt x="7838" y="14436"/>
                </a:cubicBezTo>
                <a:cubicBezTo>
                  <a:pt x="7862" y="14405"/>
                  <a:pt x="7883" y="14349"/>
                  <a:pt x="7913" y="14312"/>
                </a:cubicBezTo>
                <a:cubicBezTo>
                  <a:pt x="7956" y="14334"/>
                  <a:pt x="8007" y="14385"/>
                  <a:pt x="8037" y="14436"/>
                </a:cubicBezTo>
                <a:cubicBezTo>
                  <a:pt x="8076" y="14501"/>
                  <a:pt x="8120" y="14549"/>
                  <a:pt x="8161" y="14610"/>
                </a:cubicBezTo>
                <a:cubicBezTo>
                  <a:pt x="8183" y="14653"/>
                  <a:pt x="8186" y="14665"/>
                  <a:pt x="8210" y="14684"/>
                </a:cubicBezTo>
              </a:path>
              <a:path w="3226" h="8385">
                <a:moveTo>
                  <a:pt x="6276" y="13593"/>
                </a:moveTo>
                <a:cubicBezTo>
                  <a:pt x="6310" y="13581"/>
                  <a:pt x="6300" y="13585"/>
                  <a:pt x="6300" y="13543"/>
                </a:cubicBezTo>
                <a:cubicBezTo>
                  <a:pt x="6249" y="13543"/>
                  <a:pt x="6214" y="13534"/>
                  <a:pt x="6176" y="13568"/>
                </a:cubicBezTo>
                <a:cubicBezTo>
                  <a:pt x="6138" y="13603"/>
                  <a:pt x="6115" y="13641"/>
                  <a:pt x="6102" y="13692"/>
                </a:cubicBezTo>
                <a:cubicBezTo>
                  <a:pt x="6093" y="13729"/>
                  <a:pt x="6102" y="13777"/>
                  <a:pt x="6102" y="13816"/>
                </a:cubicBezTo>
                <a:cubicBezTo>
                  <a:pt x="6160" y="13802"/>
                  <a:pt x="6194" y="13771"/>
                  <a:pt x="6226" y="13717"/>
                </a:cubicBezTo>
                <a:cubicBezTo>
                  <a:pt x="6256" y="13667"/>
                  <a:pt x="6265" y="13598"/>
                  <a:pt x="6276" y="13543"/>
                </a:cubicBezTo>
                <a:cubicBezTo>
                  <a:pt x="6305" y="13594"/>
                  <a:pt x="6309" y="13641"/>
                  <a:pt x="6350" y="13692"/>
                </a:cubicBezTo>
              </a:path>
              <a:path w="3226" h="8385">
                <a:moveTo>
                  <a:pt x="6400" y="13915"/>
                </a:moveTo>
                <a:cubicBezTo>
                  <a:pt x="6386" y="13875"/>
                  <a:pt x="6350" y="13891"/>
                  <a:pt x="6300" y="13891"/>
                </a:cubicBezTo>
                <a:cubicBezTo>
                  <a:pt x="6246" y="13891"/>
                  <a:pt x="6230" y="13908"/>
                  <a:pt x="6176" y="13915"/>
                </a:cubicBezTo>
              </a:path>
              <a:path w="3226" h="8385">
                <a:moveTo>
                  <a:pt x="6821" y="13717"/>
                </a:moveTo>
                <a:cubicBezTo>
                  <a:pt x="6829" y="13717"/>
                  <a:pt x="6838" y="13717"/>
                  <a:pt x="6846" y="13717"/>
                </a:cubicBezTo>
                <a:cubicBezTo>
                  <a:pt x="6791" y="13717"/>
                  <a:pt x="6776" y="13729"/>
                  <a:pt x="6722" y="13742"/>
                </a:cubicBezTo>
                <a:cubicBezTo>
                  <a:pt x="6679" y="13753"/>
                  <a:pt x="6644" y="13767"/>
                  <a:pt x="6598" y="13767"/>
                </a:cubicBezTo>
              </a:path>
              <a:path w="3226" h="8385">
                <a:moveTo>
                  <a:pt x="6722" y="13568"/>
                </a:moveTo>
                <a:cubicBezTo>
                  <a:pt x="6730" y="13568"/>
                  <a:pt x="6739" y="13568"/>
                  <a:pt x="6747" y="13568"/>
                </a:cubicBezTo>
                <a:cubicBezTo>
                  <a:pt x="6747" y="13657"/>
                  <a:pt x="6741" y="13734"/>
                  <a:pt x="6772" y="13816"/>
                </a:cubicBezTo>
              </a:path>
              <a:path w="3226" h="8385">
                <a:moveTo>
                  <a:pt x="7119" y="13494"/>
                </a:moveTo>
                <a:cubicBezTo>
                  <a:pt x="7130" y="13462"/>
                  <a:pt x="7144" y="13386"/>
                  <a:pt x="7144" y="13419"/>
                </a:cubicBezTo>
                <a:cubicBezTo>
                  <a:pt x="7144" y="13551"/>
                  <a:pt x="7144" y="13684"/>
                  <a:pt x="7144" y="13816"/>
                </a:cubicBezTo>
                <a:cubicBezTo>
                  <a:pt x="7180" y="13804"/>
                  <a:pt x="7172" y="13762"/>
                  <a:pt x="7218" y="13742"/>
                </a:cubicBezTo>
                <a:cubicBezTo>
                  <a:pt x="7246" y="13730"/>
                  <a:pt x="7303" y="13739"/>
                  <a:pt x="7317" y="13767"/>
                </a:cubicBezTo>
                <a:cubicBezTo>
                  <a:pt x="7327" y="13788"/>
                  <a:pt x="7317" y="13842"/>
                  <a:pt x="7317" y="13866"/>
                </a:cubicBezTo>
                <a:cubicBezTo>
                  <a:pt x="7268" y="13866"/>
                  <a:pt x="7218" y="13866"/>
                  <a:pt x="7169" y="13866"/>
                </a:cubicBezTo>
              </a:path>
              <a:path w="3226" h="8385">
                <a:moveTo>
                  <a:pt x="7367" y="14015"/>
                </a:moveTo>
                <a:cubicBezTo>
                  <a:pt x="7317" y="14015"/>
                  <a:pt x="7268" y="14015"/>
                  <a:pt x="7218" y="140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62120" y="2205000"/>
            <a:ext cx="2644920" cy="4359240"/>
          </a:xfrm>
          <a:custGeom>
            <a:avLst/>
            <a:gdLst/>
            <a:ahLst/>
            <a:rect l="l" t="t" r="r" b="b"/>
            <a:pathLst>
              <a:path w="7343" h="12105">
                <a:moveTo>
                  <a:pt x="13072" y="6176"/>
                </a:moveTo>
                <a:cubicBezTo>
                  <a:pt x="13038" y="6132"/>
                  <a:pt x="13047" y="6115"/>
                  <a:pt x="13047" y="6176"/>
                </a:cubicBezTo>
                <a:cubicBezTo>
                  <a:pt x="13047" y="6224"/>
                  <a:pt x="13030" y="6201"/>
                  <a:pt x="13022" y="6176"/>
                </a:cubicBezTo>
              </a:path>
              <a:path w="7343" h="12105">
                <a:moveTo>
                  <a:pt x="13047" y="11881"/>
                </a:moveTo>
                <a:cubicBezTo>
                  <a:pt x="13047" y="11873"/>
                  <a:pt x="13047" y="11865"/>
                  <a:pt x="13047" y="11857"/>
                </a:cubicBezTo>
              </a:path>
              <a:path w="7343" h="12105">
                <a:moveTo>
                  <a:pt x="13047" y="11385"/>
                </a:moveTo>
                <a:cubicBezTo>
                  <a:pt x="13047" y="11361"/>
                  <a:pt x="13047" y="11352"/>
                  <a:pt x="13047" y="11336"/>
                </a:cubicBezTo>
              </a:path>
              <a:path w="7343" h="12105">
                <a:moveTo>
                  <a:pt x="13047" y="11212"/>
                </a:moveTo>
                <a:cubicBezTo>
                  <a:pt x="13047" y="11187"/>
                  <a:pt x="13047" y="11179"/>
                  <a:pt x="13072" y="11187"/>
                </a:cubicBezTo>
              </a:path>
              <a:path w="7343" h="12105">
                <a:moveTo>
                  <a:pt x="13072" y="11137"/>
                </a:moveTo>
                <a:cubicBezTo>
                  <a:pt x="13072" y="11104"/>
                  <a:pt x="13072" y="11071"/>
                  <a:pt x="13072" y="11038"/>
                </a:cubicBezTo>
                <a:cubicBezTo>
                  <a:pt x="13107" y="11026"/>
                  <a:pt x="13097" y="11031"/>
                  <a:pt x="13097" y="10988"/>
                </a:cubicBezTo>
              </a:path>
              <a:path w="7343" h="12105">
                <a:moveTo>
                  <a:pt x="13122" y="10567"/>
                </a:moveTo>
                <a:cubicBezTo>
                  <a:pt x="13122" y="10448"/>
                  <a:pt x="13115" y="10325"/>
                  <a:pt x="13146" y="10220"/>
                </a:cubicBezTo>
                <a:cubicBezTo>
                  <a:pt x="13161" y="10168"/>
                  <a:pt x="13158" y="10100"/>
                  <a:pt x="13171" y="10046"/>
                </a:cubicBezTo>
                <a:cubicBezTo>
                  <a:pt x="13184" y="9995"/>
                  <a:pt x="13171" y="9924"/>
                  <a:pt x="13171" y="9872"/>
                </a:cubicBezTo>
              </a:path>
              <a:path w="7343" h="12105">
                <a:moveTo>
                  <a:pt x="13072" y="9203"/>
                </a:moveTo>
                <a:cubicBezTo>
                  <a:pt x="13072" y="9140"/>
                  <a:pt x="13080" y="9106"/>
                  <a:pt x="13097" y="9054"/>
                </a:cubicBezTo>
                <a:cubicBezTo>
                  <a:pt x="13097" y="9029"/>
                  <a:pt x="13097" y="9021"/>
                  <a:pt x="13097" y="9004"/>
                </a:cubicBezTo>
              </a:path>
              <a:path w="7343" h="12105">
                <a:moveTo>
                  <a:pt x="13122" y="8930"/>
                </a:moveTo>
                <a:cubicBezTo>
                  <a:pt x="13122" y="8905"/>
                  <a:pt x="13122" y="8880"/>
                  <a:pt x="13122" y="8855"/>
                </a:cubicBezTo>
              </a:path>
              <a:path w="7343" h="12105">
                <a:moveTo>
                  <a:pt x="13122" y="8582"/>
                </a:moveTo>
                <a:cubicBezTo>
                  <a:pt x="13115" y="8531"/>
                  <a:pt x="13097" y="8509"/>
                  <a:pt x="13097" y="8458"/>
                </a:cubicBezTo>
                <a:cubicBezTo>
                  <a:pt x="13097" y="8434"/>
                  <a:pt x="13097" y="8425"/>
                  <a:pt x="13097" y="8409"/>
                </a:cubicBezTo>
              </a:path>
              <a:path w="7343" h="12105">
                <a:moveTo>
                  <a:pt x="13097" y="8136"/>
                </a:moveTo>
                <a:cubicBezTo>
                  <a:pt x="13097" y="8095"/>
                  <a:pt x="13097" y="8053"/>
                  <a:pt x="13097" y="8012"/>
                </a:cubicBezTo>
              </a:path>
              <a:path w="7343" h="12105">
                <a:moveTo>
                  <a:pt x="13047" y="7640"/>
                </a:moveTo>
                <a:cubicBezTo>
                  <a:pt x="13047" y="7598"/>
                  <a:pt x="13047" y="7590"/>
                  <a:pt x="13047" y="7565"/>
                </a:cubicBezTo>
              </a:path>
              <a:path w="7343" h="12105">
                <a:moveTo>
                  <a:pt x="13022" y="7144"/>
                </a:moveTo>
                <a:cubicBezTo>
                  <a:pt x="13022" y="7136"/>
                  <a:pt x="13022" y="7127"/>
                  <a:pt x="13022" y="7119"/>
                </a:cubicBezTo>
              </a:path>
              <a:path w="7343" h="12105">
                <a:moveTo>
                  <a:pt x="12998" y="6846"/>
                </a:moveTo>
                <a:cubicBezTo>
                  <a:pt x="12998" y="6821"/>
                  <a:pt x="12998" y="6797"/>
                  <a:pt x="12998" y="6772"/>
                </a:cubicBezTo>
              </a:path>
              <a:path w="7343" h="12105">
                <a:moveTo>
                  <a:pt x="12973" y="6573"/>
                </a:moveTo>
                <a:cubicBezTo>
                  <a:pt x="12973" y="6540"/>
                  <a:pt x="12973" y="6507"/>
                  <a:pt x="12973" y="6474"/>
                </a:cubicBezTo>
              </a:path>
              <a:path w="7343" h="12105">
                <a:moveTo>
                  <a:pt x="12105" y="8384"/>
                </a:moveTo>
                <a:cubicBezTo>
                  <a:pt x="12117" y="8347"/>
                  <a:pt x="12129" y="8362"/>
                  <a:pt x="12129" y="8310"/>
                </a:cubicBezTo>
                <a:cubicBezTo>
                  <a:pt x="12099" y="8351"/>
                  <a:pt x="12093" y="8368"/>
                  <a:pt x="12129" y="8409"/>
                </a:cubicBezTo>
                <a:cubicBezTo>
                  <a:pt x="12171" y="8457"/>
                  <a:pt x="12230" y="8457"/>
                  <a:pt x="12278" y="8483"/>
                </a:cubicBezTo>
                <a:cubicBezTo>
                  <a:pt x="12345" y="8519"/>
                  <a:pt x="12372" y="8532"/>
                  <a:pt x="12378" y="8607"/>
                </a:cubicBezTo>
                <a:cubicBezTo>
                  <a:pt x="12380" y="8632"/>
                  <a:pt x="12378" y="8657"/>
                  <a:pt x="12378" y="8682"/>
                </a:cubicBezTo>
                <a:cubicBezTo>
                  <a:pt x="12303" y="8682"/>
                  <a:pt x="12213" y="8701"/>
                  <a:pt x="12154" y="8657"/>
                </a:cubicBezTo>
              </a:path>
              <a:path w="7343" h="12105">
                <a:moveTo>
                  <a:pt x="12402" y="8186"/>
                </a:moveTo>
                <a:cubicBezTo>
                  <a:pt x="12419" y="8178"/>
                  <a:pt x="12435" y="8169"/>
                  <a:pt x="12452" y="8161"/>
                </a:cubicBezTo>
                <a:cubicBezTo>
                  <a:pt x="12416" y="8170"/>
                  <a:pt x="12362" y="8187"/>
                  <a:pt x="12328" y="8210"/>
                </a:cubicBezTo>
                <a:cubicBezTo>
                  <a:pt x="12320" y="8218"/>
                  <a:pt x="12311" y="8227"/>
                  <a:pt x="12303" y="8235"/>
                </a:cubicBezTo>
              </a:path>
              <a:path w="7343" h="12105">
                <a:moveTo>
                  <a:pt x="14288" y="11881"/>
                </a:moveTo>
                <a:cubicBezTo>
                  <a:pt x="14279" y="11844"/>
                  <a:pt x="14270" y="11822"/>
                  <a:pt x="14263" y="11782"/>
                </a:cubicBezTo>
                <a:cubicBezTo>
                  <a:pt x="14263" y="11774"/>
                  <a:pt x="14263" y="11765"/>
                  <a:pt x="14263" y="11757"/>
                </a:cubicBezTo>
                <a:cubicBezTo>
                  <a:pt x="14262" y="11752"/>
                  <a:pt x="14241" y="11720"/>
                  <a:pt x="14238" y="11683"/>
                </a:cubicBezTo>
                <a:cubicBezTo>
                  <a:pt x="14238" y="11675"/>
                  <a:pt x="14238" y="11666"/>
                  <a:pt x="14238" y="11658"/>
                </a:cubicBezTo>
                <a:cubicBezTo>
                  <a:pt x="14231" y="11644"/>
                  <a:pt x="14201" y="11617"/>
                  <a:pt x="14188" y="11584"/>
                </a:cubicBezTo>
                <a:cubicBezTo>
                  <a:pt x="14176" y="11553"/>
                  <a:pt x="14172" y="11516"/>
                  <a:pt x="14163" y="11485"/>
                </a:cubicBezTo>
                <a:cubicBezTo>
                  <a:pt x="14153" y="11448"/>
                  <a:pt x="14152" y="11419"/>
                  <a:pt x="14139" y="11385"/>
                </a:cubicBezTo>
                <a:cubicBezTo>
                  <a:pt x="14125" y="11350"/>
                  <a:pt x="14101" y="11323"/>
                  <a:pt x="14089" y="11286"/>
                </a:cubicBezTo>
                <a:cubicBezTo>
                  <a:pt x="14076" y="11247"/>
                  <a:pt x="14077" y="11205"/>
                  <a:pt x="14064" y="11162"/>
                </a:cubicBezTo>
                <a:cubicBezTo>
                  <a:pt x="14057" y="11137"/>
                  <a:pt x="14046" y="11117"/>
                  <a:pt x="14039" y="11088"/>
                </a:cubicBezTo>
                <a:cubicBezTo>
                  <a:pt x="14038" y="11087"/>
                  <a:pt x="14024" y="11028"/>
                  <a:pt x="14015" y="11013"/>
                </a:cubicBezTo>
                <a:cubicBezTo>
                  <a:pt x="13998" y="10984"/>
                  <a:pt x="13950" y="10945"/>
                  <a:pt x="13940" y="10914"/>
                </a:cubicBezTo>
                <a:cubicBezTo>
                  <a:pt x="13933" y="10892"/>
                  <a:pt x="13947" y="10862"/>
                  <a:pt x="13940" y="10840"/>
                </a:cubicBezTo>
                <a:cubicBezTo>
                  <a:pt x="13925" y="10816"/>
                  <a:pt x="13922" y="10816"/>
                  <a:pt x="13915" y="10765"/>
                </a:cubicBezTo>
                <a:cubicBezTo>
                  <a:pt x="13905" y="10725"/>
                  <a:pt x="13901" y="10706"/>
                  <a:pt x="13891" y="10666"/>
                </a:cubicBezTo>
                <a:cubicBezTo>
                  <a:pt x="13882" y="10630"/>
                  <a:pt x="13876" y="10584"/>
                  <a:pt x="13866" y="10542"/>
                </a:cubicBezTo>
                <a:cubicBezTo>
                  <a:pt x="13858" y="10507"/>
                  <a:pt x="13850" y="10459"/>
                  <a:pt x="13841" y="10418"/>
                </a:cubicBezTo>
                <a:cubicBezTo>
                  <a:pt x="13833" y="10383"/>
                  <a:pt x="13825" y="10356"/>
                  <a:pt x="13816" y="10319"/>
                </a:cubicBezTo>
                <a:cubicBezTo>
                  <a:pt x="13805" y="10274"/>
                  <a:pt x="13801" y="10236"/>
                  <a:pt x="13791" y="10195"/>
                </a:cubicBezTo>
                <a:cubicBezTo>
                  <a:pt x="13783" y="10161"/>
                  <a:pt x="13770" y="10128"/>
                  <a:pt x="13767" y="10096"/>
                </a:cubicBezTo>
                <a:cubicBezTo>
                  <a:pt x="13760" y="10024"/>
                  <a:pt x="13746" y="9930"/>
                  <a:pt x="13742" y="9872"/>
                </a:cubicBezTo>
                <a:cubicBezTo>
                  <a:pt x="13738" y="9813"/>
                  <a:pt x="13721" y="9744"/>
                  <a:pt x="13717" y="9699"/>
                </a:cubicBezTo>
                <a:cubicBezTo>
                  <a:pt x="13707" y="9599"/>
                  <a:pt x="13698" y="9496"/>
                  <a:pt x="13692" y="9401"/>
                </a:cubicBezTo>
                <a:cubicBezTo>
                  <a:pt x="13688" y="9344"/>
                  <a:pt x="13670" y="9270"/>
                  <a:pt x="13667" y="9227"/>
                </a:cubicBezTo>
                <a:cubicBezTo>
                  <a:pt x="13660" y="9130"/>
                  <a:pt x="13649" y="9014"/>
                  <a:pt x="13643" y="8930"/>
                </a:cubicBezTo>
                <a:cubicBezTo>
                  <a:pt x="13637" y="8850"/>
                  <a:pt x="13622" y="8748"/>
                  <a:pt x="13618" y="8682"/>
                </a:cubicBezTo>
                <a:cubicBezTo>
                  <a:pt x="13614" y="8625"/>
                  <a:pt x="13602" y="8579"/>
                  <a:pt x="13593" y="8533"/>
                </a:cubicBezTo>
                <a:cubicBezTo>
                  <a:pt x="13583" y="8480"/>
                  <a:pt x="13573" y="8411"/>
                  <a:pt x="13568" y="8359"/>
                </a:cubicBezTo>
                <a:cubicBezTo>
                  <a:pt x="13562" y="8295"/>
                  <a:pt x="13547" y="8211"/>
                  <a:pt x="13543" y="8161"/>
                </a:cubicBezTo>
                <a:cubicBezTo>
                  <a:pt x="13538" y="8106"/>
                  <a:pt x="13528" y="8057"/>
                  <a:pt x="13519" y="8012"/>
                </a:cubicBezTo>
                <a:cubicBezTo>
                  <a:pt x="13507" y="7951"/>
                  <a:pt x="13509" y="7898"/>
                  <a:pt x="13494" y="7838"/>
                </a:cubicBezTo>
                <a:cubicBezTo>
                  <a:pt x="13483" y="7794"/>
                  <a:pt x="13478" y="7755"/>
                  <a:pt x="13469" y="7714"/>
                </a:cubicBezTo>
                <a:cubicBezTo>
                  <a:pt x="13461" y="7676"/>
                  <a:pt x="13450" y="7621"/>
                  <a:pt x="13444" y="7590"/>
                </a:cubicBezTo>
                <a:cubicBezTo>
                  <a:pt x="13433" y="7537"/>
                  <a:pt x="13429" y="7489"/>
                  <a:pt x="13419" y="7441"/>
                </a:cubicBezTo>
                <a:cubicBezTo>
                  <a:pt x="13406" y="7380"/>
                  <a:pt x="13407" y="7326"/>
                  <a:pt x="13395" y="7268"/>
                </a:cubicBezTo>
                <a:cubicBezTo>
                  <a:pt x="13384" y="7218"/>
                  <a:pt x="13381" y="7169"/>
                  <a:pt x="13370" y="7119"/>
                </a:cubicBezTo>
                <a:cubicBezTo>
                  <a:pt x="13363" y="7088"/>
                  <a:pt x="13354" y="7033"/>
                  <a:pt x="13345" y="6995"/>
                </a:cubicBezTo>
                <a:cubicBezTo>
                  <a:pt x="13337" y="6960"/>
                  <a:pt x="13329" y="6913"/>
                  <a:pt x="13320" y="6871"/>
                </a:cubicBezTo>
                <a:cubicBezTo>
                  <a:pt x="13304" y="6801"/>
                  <a:pt x="13287" y="6738"/>
                  <a:pt x="13271" y="6672"/>
                </a:cubicBezTo>
                <a:cubicBezTo>
                  <a:pt x="13260" y="6629"/>
                  <a:pt x="13233" y="6589"/>
                  <a:pt x="13221" y="6548"/>
                </a:cubicBezTo>
                <a:cubicBezTo>
                  <a:pt x="13207" y="6500"/>
                  <a:pt x="13207" y="6444"/>
                  <a:pt x="13196" y="6400"/>
                </a:cubicBezTo>
                <a:cubicBezTo>
                  <a:pt x="13189" y="6369"/>
                  <a:pt x="13183" y="6330"/>
                  <a:pt x="13171" y="6300"/>
                </a:cubicBezTo>
                <a:cubicBezTo>
                  <a:pt x="13155" y="6259"/>
                  <a:pt x="13135" y="6220"/>
                  <a:pt x="13122" y="6176"/>
                </a:cubicBezTo>
              </a:path>
              <a:path w="7343" h="12105">
                <a:moveTo>
                  <a:pt x="13618" y="9004"/>
                </a:moveTo>
                <a:cubicBezTo>
                  <a:pt x="13605" y="9042"/>
                  <a:pt x="13596" y="9033"/>
                  <a:pt x="13568" y="9054"/>
                </a:cubicBezTo>
                <a:cubicBezTo>
                  <a:pt x="13533" y="9080"/>
                  <a:pt x="13536" y="9105"/>
                  <a:pt x="13519" y="9128"/>
                </a:cubicBezTo>
                <a:cubicBezTo>
                  <a:pt x="13503" y="9150"/>
                  <a:pt x="13473" y="9196"/>
                  <a:pt x="13469" y="9203"/>
                </a:cubicBezTo>
                <a:cubicBezTo>
                  <a:pt x="13446" y="9248"/>
                  <a:pt x="13491" y="9177"/>
                  <a:pt x="13494" y="9153"/>
                </a:cubicBezTo>
                <a:cubicBezTo>
                  <a:pt x="13496" y="9132"/>
                  <a:pt x="13509" y="9073"/>
                  <a:pt x="13519" y="9054"/>
                </a:cubicBezTo>
                <a:cubicBezTo>
                  <a:pt x="13533" y="9028"/>
                  <a:pt x="13564" y="8987"/>
                  <a:pt x="13568" y="8979"/>
                </a:cubicBezTo>
                <a:cubicBezTo>
                  <a:pt x="13568" y="8954"/>
                  <a:pt x="13568" y="8946"/>
                  <a:pt x="13593" y="8954"/>
                </a:cubicBezTo>
                <a:cubicBezTo>
                  <a:pt x="13626" y="8979"/>
                  <a:pt x="13655" y="9005"/>
                  <a:pt x="13692" y="9029"/>
                </a:cubicBezTo>
                <a:cubicBezTo>
                  <a:pt x="13741" y="9061"/>
                  <a:pt x="13774" y="9086"/>
                  <a:pt x="13816" y="9128"/>
                </a:cubicBezTo>
              </a:path>
              <a:path w="7343" h="12105">
                <a:moveTo>
                  <a:pt x="14188" y="8260"/>
                </a:moveTo>
                <a:cubicBezTo>
                  <a:pt x="14210" y="8216"/>
                  <a:pt x="14213" y="8205"/>
                  <a:pt x="14238" y="8186"/>
                </a:cubicBezTo>
                <a:cubicBezTo>
                  <a:pt x="14238" y="8236"/>
                  <a:pt x="14225" y="8287"/>
                  <a:pt x="14213" y="8334"/>
                </a:cubicBezTo>
                <a:cubicBezTo>
                  <a:pt x="14188" y="8429"/>
                  <a:pt x="14188" y="8507"/>
                  <a:pt x="14188" y="8607"/>
                </a:cubicBezTo>
                <a:cubicBezTo>
                  <a:pt x="14188" y="8656"/>
                  <a:pt x="14182" y="8662"/>
                  <a:pt x="14213" y="8682"/>
                </a:cubicBezTo>
                <a:cubicBezTo>
                  <a:pt x="14213" y="8631"/>
                  <a:pt x="14231" y="8601"/>
                  <a:pt x="14263" y="8558"/>
                </a:cubicBezTo>
                <a:cubicBezTo>
                  <a:pt x="14283" y="8532"/>
                  <a:pt x="14324" y="8487"/>
                  <a:pt x="14362" y="8508"/>
                </a:cubicBezTo>
                <a:cubicBezTo>
                  <a:pt x="14391" y="8524"/>
                  <a:pt x="14422" y="8601"/>
                  <a:pt x="14412" y="8632"/>
                </a:cubicBezTo>
                <a:cubicBezTo>
                  <a:pt x="14397" y="8677"/>
                  <a:pt x="14380" y="8682"/>
                  <a:pt x="14337" y="8682"/>
                </a:cubicBezTo>
                <a:cubicBezTo>
                  <a:pt x="14278" y="8682"/>
                  <a:pt x="14277" y="8671"/>
                  <a:pt x="14238" y="8632"/>
                </a:cubicBezTo>
              </a:path>
              <a:path w="7343" h="12105">
                <a:moveTo>
                  <a:pt x="14461" y="8880"/>
                </a:moveTo>
                <a:cubicBezTo>
                  <a:pt x="14398" y="8880"/>
                  <a:pt x="14364" y="8887"/>
                  <a:pt x="14312" y="8905"/>
                </a:cubicBezTo>
                <a:cubicBezTo>
                  <a:pt x="14304" y="8905"/>
                  <a:pt x="14296" y="8905"/>
                  <a:pt x="14288" y="8905"/>
                </a:cubicBezTo>
              </a:path>
              <a:path w="7343" h="12105">
                <a:moveTo>
                  <a:pt x="7317" y="17983"/>
                </a:moveTo>
                <a:lnTo>
                  <a:pt x="7317" y="17983"/>
                </a:lnTo>
                <a:lnTo>
                  <a:pt x="7317" y="17983"/>
                </a:lnTo>
                <a:lnTo>
                  <a:pt x="7317" y="17983"/>
                </a:lnTo>
                <a:lnTo>
                  <a:pt x="7317" y="17983"/>
                </a:lnTo>
                <a:lnTo>
                  <a:pt x="7317" y="17983"/>
                </a:lnTo>
                <a:lnTo>
                  <a:pt x="7317" y="17983"/>
                </a:lnTo>
                <a:lnTo>
                  <a:pt x="7317" y="17983"/>
                </a:lnTo>
                <a:lnTo>
                  <a:pt x="7317" y="17983"/>
                </a:lnTo>
                <a:lnTo>
                  <a:pt x="7317" y="17983"/>
                </a:lnTo>
                <a:lnTo>
                  <a:pt x="7317" y="17983"/>
                </a:lnTo>
                <a:lnTo>
                  <a:pt x="7317" y="17983"/>
                </a:lnTo>
              </a:path>
              <a:path w="7343" h="12105">
                <a:moveTo>
                  <a:pt x="7541" y="17909"/>
                </a:moveTo>
                <a:cubicBezTo>
                  <a:pt x="7581" y="17878"/>
                  <a:pt x="7603" y="17905"/>
                  <a:pt x="7640" y="17884"/>
                </a:cubicBezTo>
                <a:cubicBezTo>
                  <a:pt x="7662" y="17862"/>
                  <a:pt x="7667" y="17853"/>
                  <a:pt x="7689" y="17859"/>
                </a:cubicBezTo>
              </a:path>
              <a:path w="7343" h="12105">
                <a:moveTo>
                  <a:pt x="7838" y="17785"/>
                </a:moveTo>
                <a:cubicBezTo>
                  <a:pt x="7877" y="17775"/>
                  <a:pt x="7893" y="17760"/>
                  <a:pt x="7938" y="17760"/>
                </a:cubicBezTo>
                <a:cubicBezTo>
                  <a:pt x="7946" y="17760"/>
                  <a:pt x="7954" y="17760"/>
                  <a:pt x="7962" y="17760"/>
                </a:cubicBezTo>
              </a:path>
              <a:path w="7343" h="12105">
                <a:moveTo>
                  <a:pt x="8136" y="17735"/>
                </a:moveTo>
                <a:cubicBezTo>
                  <a:pt x="8174" y="17708"/>
                  <a:pt x="8188" y="17711"/>
                  <a:pt x="8235" y="17711"/>
                </a:cubicBezTo>
                <a:cubicBezTo>
                  <a:pt x="8260" y="17711"/>
                  <a:pt x="8285" y="17711"/>
                  <a:pt x="8310" y="17711"/>
                </a:cubicBezTo>
              </a:path>
              <a:path w="7343" h="12105">
                <a:moveTo>
                  <a:pt x="8458" y="17686"/>
                </a:moveTo>
                <a:cubicBezTo>
                  <a:pt x="8521" y="17667"/>
                  <a:pt x="8546" y="17661"/>
                  <a:pt x="8607" y="17661"/>
                </a:cubicBezTo>
                <a:cubicBezTo>
                  <a:pt x="8632" y="17661"/>
                  <a:pt x="8657" y="17661"/>
                  <a:pt x="8682" y="17661"/>
                </a:cubicBezTo>
              </a:path>
              <a:path w="7343" h="12105">
                <a:moveTo>
                  <a:pt x="9004" y="17686"/>
                </a:moveTo>
                <a:cubicBezTo>
                  <a:pt x="9069" y="17693"/>
                  <a:pt x="9094" y="17711"/>
                  <a:pt x="9153" y="17711"/>
                </a:cubicBezTo>
                <a:cubicBezTo>
                  <a:pt x="9178" y="17711"/>
                  <a:pt x="9202" y="17711"/>
                  <a:pt x="9227" y="17711"/>
                </a:cubicBezTo>
              </a:path>
              <a:path w="7343" h="12105">
                <a:moveTo>
                  <a:pt x="9475" y="17760"/>
                </a:moveTo>
                <a:cubicBezTo>
                  <a:pt x="9538" y="17777"/>
                  <a:pt x="9596" y="17792"/>
                  <a:pt x="9649" y="17810"/>
                </a:cubicBezTo>
                <a:cubicBezTo>
                  <a:pt x="9671" y="17817"/>
                  <a:pt x="9729" y="17810"/>
                  <a:pt x="9748" y="17810"/>
                </a:cubicBezTo>
              </a:path>
              <a:path w="7343" h="12105">
                <a:moveTo>
                  <a:pt x="10046" y="17810"/>
                </a:moveTo>
                <a:cubicBezTo>
                  <a:pt x="10178" y="17810"/>
                  <a:pt x="10311" y="17810"/>
                  <a:pt x="10443" y="17810"/>
                </a:cubicBezTo>
              </a:path>
              <a:path w="7343" h="12105">
                <a:moveTo>
                  <a:pt x="10616" y="17760"/>
                </a:moveTo>
                <a:cubicBezTo>
                  <a:pt x="10642" y="17749"/>
                  <a:pt x="10706" y="17716"/>
                  <a:pt x="10740" y="17735"/>
                </a:cubicBezTo>
                <a:cubicBezTo>
                  <a:pt x="10748" y="17743"/>
                  <a:pt x="10757" y="17752"/>
                  <a:pt x="10765" y="17760"/>
                </a:cubicBezTo>
              </a:path>
              <a:path w="7343" h="12105">
                <a:moveTo>
                  <a:pt x="10815" y="17735"/>
                </a:moveTo>
                <a:cubicBezTo>
                  <a:pt x="10815" y="17727"/>
                  <a:pt x="10815" y="17719"/>
                  <a:pt x="10815" y="17711"/>
                </a:cubicBezTo>
              </a:path>
              <a:path w="7343" h="12105">
                <a:moveTo>
                  <a:pt x="10840" y="17487"/>
                </a:moveTo>
                <a:cubicBezTo>
                  <a:pt x="10815" y="17462"/>
                  <a:pt x="10807" y="17454"/>
                  <a:pt x="10840" y="17438"/>
                </a:cubicBezTo>
              </a:path>
              <a:path w="7343" h="12105">
                <a:moveTo>
                  <a:pt x="10815" y="17214"/>
                </a:moveTo>
                <a:cubicBezTo>
                  <a:pt x="10815" y="17181"/>
                  <a:pt x="10815" y="17148"/>
                  <a:pt x="10815" y="17115"/>
                </a:cubicBezTo>
              </a:path>
              <a:path w="7343" h="12105">
                <a:moveTo>
                  <a:pt x="10815" y="16892"/>
                </a:moveTo>
                <a:cubicBezTo>
                  <a:pt x="10792" y="16869"/>
                  <a:pt x="10784" y="16865"/>
                  <a:pt x="10790" y="16842"/>
                </a:cubicBezTo>
              </a:path>
              <a:path w="7343" h="12105">
                <a:moveTo>
                  <a:pt x="10765" y="16644"/>
                </a:moveTo>
                <a:cubicBezTo>
                  <a:pt x="10757" y="16627"/>
                  <a:pt x="10748" y="16611"/>
                  <a:pt x="10740" y="16594"/>
                </a:cubicBezTo>
              </a:path>
              <a:path w="7343" h="12105">
                <a:moveTo>
                  <a:pt x="10716" y="16396"/>
                </a:moveTo>
                <a:cubicBezTo>
                  <a:pt x="10695" y="16347"/>
                  <a:pt x="10691" y="16345"/>
                  <a:pt x="10691" y="16297"/>
                </a:cubicBezTo>
              </a:path>
              <a:path w="7343" h="12105">
                <a:moveTo>
                  <a:pt x="10666" y="15751"/>
                </a:moveTo>
                <a:cubicBezTo>
                  <a:pt x="10666" y="15668"/>
                  <a:pt x="10666" y="15586"/>
                  <a:pt x="10666" y="15503"/>
                </a:cubicBezTo>
              </a:path>
              <a:path w="7343" h="12105">
                <a:moveTo>
                  <a:pt x="9004" y="17959"/>
                </a:moveTo>
                <a:cubicBezTo>
                  <a:pt x="8962" y="17945"/>
                  <a:pt x="8973" y="17919"/>
                  <a:pt x="9004" y="17884"/>
                </a:cubicBezTo>
                <a:cubicBezTo>
                  <a:pt x="9031" y="17854"/>
                  <a:pt x="9094" y="17845"/>
                  <a:pt x="9128" y="17835"/>
                </a:cubicBezTo>
                <a:cubicBezTo>
                  <a:pt x="9136" y="17835"/>
                  <a:pt x="9145" y="17835"/>
                  <a:pt x="9153" y="17835"/>
                </a:cubicBezTo>
                <a:cubicBezTo>
                  <a:pt x="9185" y="17877"/>
                  <a:pt x="9178" y="17903"/>
                  <a:pt x="9178" y="17959"/>
                </a:cubicBezTo>
                <a:cubicBezTo>
                  <a:pt x="9178" y="18013"/>
                  <a:pt x="9133" y="18012"/>
                  <a:pt x="9103" y="18033"/>
                </a:cubicBezTo>
                <a:cubicBezTo>
                  <a:pt x="9079" y="18058"/>
                  <a:pt x="9071" y="18067"/>
                  <a:pt x="9054" y="18083"/>
                </a:cubicBezTo>
                <a:cubicBezTo>
                  <a:pt x="9071" y="18133"/>
                  <a:pt x="9105" y="18108"/>
                  <a:pt x="9153" y="18132"/>
                </a:cubicBezTo>
                <a:cubicBezTo>
                  <a:pt x="9192" y="18152"/>
                  <a:pt x="9217" y="18164"/>
                  <a:pt x="9227" y="18207"/>
                </a:cubicBezTo>
                <a:cubicBezTo>
                  <a:pt x="9181" y="18241"/>
                  <a:pt x="9139" y="18231"/>
                  <a:pt x="9079" y="18231"/>
                </a:cubicBezTo>
                <a:cubicBezTo>
                  <a:pt x="9037" y="18231"/>
                  <a:pt x="9029" y="18231"/>
                  <a:pt x="9004" y="18231"/>
                </a:cubicBezTo>
              </a:path>
              <a:path w="7343" h="12105">
                <a:moveTo>
                  <a:pt x="11088" y="16694"/>
                </a:moveTo>
                <a:cubicBezTo>
                  <a:pt x="11075" y="16654"/>
                  <a:pt x="11076" y="16684"/>
                  <a:pt x="11063" y="16644"/>
                </a:cubicBezTo>
                <a:cubicBezTo>
                  <a:pt x="11109" y="16598"/>
                  <a:pt x="11120" y="16594"/>
                  <a:pt x="11187" y="16594"/>
                </a:cubicBezTo>
                <a:cubicBezTo>
                  <a:pt x="11244" y="16594"/>
                  <a:pt x="11303" y="16574"/>
                  <a:pt x="11311" y="16644"/>
                </a:cubicBezTo>
                <a:cubicBezTo>
                  <a:pt x="11316" y="16688"/>
                  <a:pt x="11262" y="16759"/>
                  <a:pt x="11237" y="16793"/>
                </a:cubicBezTo>
                <a:cubicBezTo>
                  <a:pt x="11212" y="16818"/>
                  <a:pt x="11204" y="16826"/>
                  <a:pt x="11187" y="16842"/>
                </a:cubicBezTo>
                <a:cubicBezTo>
                  <a:pt x="11234" y="16877"/>
                  <a:pt x="11274" y="16867"/>
                  <a:pt x="11336" y="16867"/>
                </a:cubicBezTo>
                <a:cubicBezTo>
                  <a:pt x="11394" y="16867"/>
                  <a:pt x="11451" y="16867"/>
                  <a:pt x="11509" y="16867"/>
                </a:cubicBezTo>
              </a:path>
              <a:path w="7343" h="12105">
                <a:moveTo>
                  <a:pt x="7119" y="17884"/>
                </a:moveTo>
                <a:cubicBezTo>
                  <a:pt x="7119" y="17876"/>
                  <a:pt x="7119" y="17867"/>
                  <a:pt x="7119" y="17859"/>
                </a:cubicBezTo>
                <a:cubicBezTo>
                  <a:pt x="7147" y="17852"/>
                  <a:pt x="7148" y="17850"/>
                  <a:pt x="7169" y="17835"/>
                </a:cubicBezTo>
                <a:cubicBezTo>
                  <a:pt x="7190" y="17802"/>
                  <a:pt x="7210" y="17769"/>
                  <a:pt x="7243" y="17735"/>
                </a:cubicBezTo>
                <a:cubicBezTo>
                  <a:pt x="7279" y="17698"/>
                  <a:pt x="7300" y="17675"/>
                  <a:pt x="7342" y="17636"/>
                </a:cubicBezTo>
                <a:cubicBezTo>
                  <a:pt x="7374" y="17607"/>
                  <a:pt x="7396" y="17560"/>
                  <a:pt x="7417" y="17537"/>
                </a:cubicBezTo>
                <a:cubicBezTo>
                  <a:pt x="7445" y="17507"/>
                  <a:pt x="7471" y="17462"/>
                  <a:pt x="7491" y="17438"/>
                </a:cubicBezTo>
                <a:cubicBezTo>
                  <a:pt x="7527" y="17395"/>
                  <a:pt x="7563" y="17354"/>
                  <a:pt x="7590" y="17314"/>
                </a:cubicBezTo>
                <a:cubicBezTo>
                  <a:pt x="7606" y="17290"/>
                  <a:pt x="7627" y="17258"/>
                  <a:pt x="7640" y="17239"/>
                </a:cubicBezTo>
                <a:cubicBezTo>
                  <a:pt x="7671" y="17215"/>
                  <a:pt x="7690" y="17196"/>
                  <a:pt x="7714" y="17165"/>
                </a:cubicBezTo>
                <a:cubicBezTo>
                  <a:pt x="7742" y="17159"/>
                  <a:pt x="7764" y="17151"/>
                  <a:pt x="7789" y="17140"/>
                </a:cubicBezTo>
                <a:cubicBezTo>
                  <a:pt x="7805" y="17126"/>
                  <a:pt x="7830" y="17090"/>
                  <a:pt x="7863" y="17066"/>
                </a:cubicBezTo>
                <a:cubicBezTo>
                  <a:pt x="7890" y="17047"/>
                  <a:pt x="7942" y="17034"/>
                  <a:pt x="7962" y="17016"/>
                </a:cubicBezTo>
                <a:cubicBezTo>
                  <a:pt x="7985" y="16993"/>
                  <a:pt x="7993" y="16989"/>
                  <a:pt x="7987" y="16966"/>
                </a:cubicBezTo>
                <a:cubicBezTo>
                  <a:pt x="8034" y="16941"/>
                  <a:pt x="8083" y="16919"/>
                  <a:pt x="8136" y="16892"/>
                </a:cubicBezTo>
                <a:cubicBezTo>
                  <a:pt x="8170" y="16875"/>
                  <a:pt x="8200" y="16863"/>
                  <a:pt x="8235" y="16842"/>
                </a:cubicBezTo>
                <a:cubicBezTo>
                  <a:pt x="8277" y="16817"/>
                  <a:pt x="8318" y="16789"/>
                  <a:pt x="8359" y="16768"/>
                </a:cubicBezTo>
                <a:cubicBezTo>
                  <a:pt x="8406" y="16744"/>
                  <a:pt x="8435" y="16723"/>
                  <a:pt x="8483" y="16694"/>
                </a:cubicBezTo>
                <a:cubicBezTo>
                  <a:pt x="8524" y="16669"/>
                  <a:pt x="8563" y="16648"/>
                  <a:pt x="8607" y="16619"/>
                </a:cubicBezTo>
                <a:cubicBezTo>
                  <a:pt x="8651" y="16590"/>
                  <a:pt x="8688" y="16550"/>
                  <a:pt x="8731" y="16520"/>
                </a:cubicBezTo>
                <a:cubicBezTo>
                  <a:pt x="8764" y="16497"/>
                  <a:pt x="8816" y="16470"/>
                  <a:pt x="8855" y="16446"/>
                </a:cubicBezTo>
                <a:cubicBezTo>
                  <a:pt x="8913" y="16411"/>
                  <a:pt x="8971" y="16378"/>
                  <a:pt x="9029" y="16346"/>
                </a:cubicBezTo>
                <a:cubicBezTo>
                  <a:pt x="9087" y="16314"/>
                  <a:pt x="9148" y="16294"/>
                  <a:pt x="9203" y="16247"/>
                </a:cubicBezTo>
                <a:cubicBezTo>
                  <a:pt x="9253" y="16205"/>
                  <a:pt x="9303" y="16165"/>
                  <a:pt x="9351" y="16123"/>
                </a:cubicBezTo>
                <a:cubicBezTo>
                  <a:pt x="9436" y="16048"/>
                  <a:pt x="9507" y="15965"/>
                  <a:pt x="9599" y="15900"/>
                </a:cubicBezTo>
                <a:cubicBezTo>
                  <a:pt x="9645" y="15868"/>
                  <a:pt x="9705" y="15837"/>
                  <a:pt x="9748" y="15801"/>
                </a:cubicBezTo>
                <a:cubicBezTo>
                  <a:pt x="9797" y="15759"/>
                  <a:pt x="9839" y="15718"/>
                  <a:pt x="9897" y="15677"/>
                </a:cubicBezTo>
                <a:cubicBezTo>
                  <a:pt x="9947" y="15642"/>
                  <a:pt x="10004" y="15628"/>
                  <a:pt x="10046" y="15602"/>
                </a:cubicBezTo>
                <a:cubicBezTo>
                  <a:pt x="10090" y="15576"/>
                  <a:pt x="10125" y="15528"/>
                  <a:pt x="10170" y="15503"/>
                </a:cubicBezTo>
                <a:cubicBezTo>
                  <a:pt x="10199" y="15487"/>
                  <a:pt x="10238" y="15468"/>
                  <a:pt x="10269" y="15453"/>
                </a:cubicBezTo>
                <a:cubicBezTo>
                  <a:pt x="10315" y="15431"/>
                  <a:pt x="10368" y="15411"/>
                  <a:pt x="10418" y="15404"/>
                </a:cubicBezTo>
                <a:cubicBezTo>
                  <a:pt x="10466" y="15397"/>
                  <a:pt x="10518" y="15407"/>
                  <a:pt x="10567" y="15404"/>
                </a:cubicBezTo>
              </a:path>
              <a:path w="7343" h="12105">
                <a:moveTo>
                  <a:pt x="8954" y="16396"/>
                </a:moveTo>
                <a:cubicBezTo>
                  <a:pt x="8966" y="16458"/>
                  <a:pt x="8979" y="16503"/>
                  <a:pt x="8979" y="16570"/>
                </a:cubicBezTo>
                <a:cubicBezTo>
                  <a:pt x="8979" y="16619"/>
                  <a:pt x="8979" y="16669"/>
                  <a:pt x="8979" y="16718"/>
                </a:cubicBezTo>
                <a:cubicBezTo>
                  <a:pt x="8979" y="16664"/>
                  <a:pt x="8995" y="16636"/>
                  <a:pt x="9004" y="16594"/>
                </a:cubicBezTo>
                <a:cubicBezTo>
                  <a:pt x="9016" y="16541"/>
                  <a:pt x="9013" y="16516"/>
                  <a:pt x="9029" y="16470"/>
                </a:cubicBezTo>
                <a:cubicBezTo>
                  <a:pt x="9029" y="16446"/>
                  <a:pt x="9029" y="16437"/>
                  <a:pt x="9029" y="16421"/>
                </a:cubicBezTo>
                <a:cubicBezTo>
                  <a:pt x="8972" y="16421"/>
                  <a:pt x="8933" y="16405"/>
                  <a:pt x="8880" y="16396"/>
                </a:cubicBezTo>
                <a:cubicBezTo>
                  <a:pt x="8794" y="16382"/>
                  <a:pt x="8719" y="16351"/>
                  <a:pt x="8632" y="16346"/>
                </a:cubicBezTo>
                <a:cubicBezTo>
                  <a:pt x="8624" y="16346"/>
                  <a:pt x="8615" y="16346"/>
                  <a:pt x="8607" y="16346"/>
                </a:cubicBezTo>
              </a:path>
              <a:path w="7343" h="12105">
                <a:moveTo>
                  <a:pt x="8558" y="15751"/>
                </a:moveTo>
                <a:cubicBezTo>
                  <a:pt x="8566" y="15743"/>
                  <a:pt x="8574" y="15734"/>
                  <a:pt x="8582" y="15726"/>
                </a:cubicBezTo>
                <a:cubicBezTo>
                  <a:pt x="8532" y="15726"/>
                  <a:pt x="8524" y="15737"/>
                  <a:pt x="8483" y="15751"/>
                </a:cubicBezTo>
                <a:cubicBezTo>
                  <a:pt x="8432" y="15768"/>
                  <a:pt x="8443" y="15787"/>
                  <a:pt x="8409" y="15825"/>
                </a:cubicBezTo>
                <a:cubicBezTo>
                  <a:pt x="8385" y="15852"/>
                  <a:pt x="8360" y="15901"/>
                  <a:pt x="8409" y="15925"/>
                </a:cubicBezTo>
                <a:cubicBezTo>
                  <a:pt x="8443" y="15942"/>
                  <a:pt x="8541" y="15928"/>
                  <a:pt x="8558" y="15900"/>
                </a:cubicBezTo>
                <a:cubicBezTo>
                  <a:pt x="8583" y="15859"/>
                  <a:pt x="8607" y="15728"/>
                  <a:pt x="8607" y="15776"/>
                </a:cubicBezTo>
                <a:cubicBezTo>
                  <a:pt x="8607" y="15826"/>
                  <a:pt x="8563" y="15837"/>
                  <a:pt x="8582" y="15900"/>
                </a:cubicBezTo>
                <a:cubicBezTo>
                  <a:pt x="8600" y="15962"/>
                  <a:pt x="8652" y="16062"/>
                  <a:pt x="8706" y="16098"/>
                </a:cubicBezTo>
                <a:cubicBezTo>
                  <a:pt x="8726" y="16111"/>
                  <a:pt x="8781" y="16098"/>
                  <a:pt x="8806" y="16098"/>
                </a:cubicBezTo>
              </a:path>
              <a:path w="7343" h="12105">
                <a:moveTo>
                  <a:pt x="8632" y="16247"/>
                </a:moveTo>
                <a:cubicBezTo>
                  <a:pt x="8620" y="16199"/>
                  <a:pt x="8586" y="16186"/>
                  <a:pt x="8533" y="16173"/>
                </a:cubicBezTo>
                <a:cubicBezTo>
                  <a:pt x="8512" y="16168"/>
                  <a:pt x="8480" y="16173"/>
                  <a:pt x="8458" y="16173"/>
                </a:cubicBezTo>
              </a:path>
              <a:path w="7343" h="12105">
                <a:moveTo>
                  <a:pt x="10567" y="15379"/>
                </a:moveTo>
                <a:cubicBezTo>
                  <a:pt x="10559" y="15379"/>
                  <a:pt x="10550" y="15379"/>
                  <a:pt x="10542" y="15379"/>
                </a:cubicBezTo>
              </a:path>
              <a:path w="7343" h="12105">
                <a:moveTo>
                  <a:pt x="10468" y="15354"/>
                </a:moveTo>
                <a:cubicBezTo>
                  <a:pt x="10443" y="15354"/>
                  <a:pt x="10435" y="15354"/>
                  <a:pt x="10418" y="15354"/>
                </a:cubicBezTo>
              </a:path>
              <a:path w="7343" h="12105">
                <a:moveTo>
                  <a:pt x="10368" y="15354"/>
                </a:moveTo>
                <a:cubicBezTo>
                  <a:pt x="10326" y="15354"/>
                  <a:pt x="10331" y="15344"/>
                  <a:pt x="10319" y="15379"/>
                </a:cubicBezTo>
              </a:path>
              <a:path w="7343" h="12105">
                <a:moveTo>
                  <a:pt x="10220" y="15379"/>
                </a:moveTo>
                <a:cubicBezTo>
                  <a:pt x="10179" y="15389"/>
                  <a:pt x="10161" y="15419"/>
                  <a:pt x="10120" y="15429"/>
                </a:cubicBezTo>
              </a:path>
              <a:path w="7343" h="12105">
                <a:moveTo>
                  <a:pt x="10096" y="15453"/>
                </a:moveTo>
                <a:cubicBezTo>
                  <a:pt x="10073" y="15431"/>
                  <a:pt x="10068" y="15423"/>
                  <a:pt x="10046" y="15429"/>
                </a:cubicBezTo>
                <a:cubicBezTo>
                  <a:pt x="10034" y="15463"/>
                  <a:pt x="10038" y="15453"/>
                  <a:pt x="9996" y="15453"/>
                </a:cubicBezTo>
              </a:path>
              <a:path w="7343" h="12105">
                <a:moveTo>
                  <a:pt x="9823" y="15478"/>
                </a:moveTo>
                <a:cubicBezTo>
                  <a:pt x="9782" y="15498"/>
                  <a:pt x="9776" y="15507"/>
                  <a:pt x="9748" y="15503"/>
                </a:cubicBezTo>
              </a:path>
              <a:path w="7343" h="12105">
                <a:moveTo>
                  <a:pt x="9624" y="15503"/>
                </a:moveTo>
                <a:cubicBezTo>
                  <a:pt x="9599" y="15503"/>
                  <a:pt x="9591" y="15503"/>
                  <a:pt x="9575" y="15503"/>
                </a:cubicBezTo>
              </a:path>
              <a:path w="7343" h="12105">
                <a:moveTo>
                  <a:pt x="9922" y="10716"/>
                </a:moveTo>
                <a:cubicBezTo>
                  <a:pt x="9948" y="10768"/>
                  <a:pt x="9968" y="10808"/>
                  <a:pt x="9971" y="10864"/>
                </a:cubicBezTo>
                <a:cubicBezTo>
                  <a:pt x="9973" y="10905"/>
                  <a:pt x="9980" y="10929"/>
                  <a:pt x="9996" y="10964"/>
                </a:cubicBezTo>
                <a:cubicBezTo>
                  <a:pt x="10012" y="10999"/>
                  <a:pt x="10019" y="11022"/>
                  <a:pt x="10021" y="11063"/>
                </a:cubicBezTo>
                <a:cubicBezTo>
                  <a:pt x="10021" y="11088"/>
                  <a:pt x="10021" y="11096"/>
                  <a:pt x="10021" y="11112"/>
                </a:cubicBezTo>
                <a:cubicBezTo>
                  <a:pt x="10033" y="11133"/>
                  <a:pt x="10032" y="11147"/>
                  <a:pt x="10046" y="11187"/>
                </a:cubicBezTo>
                <a:cubicBezTo>
                  <a:pt x="10059" y="11224"/>
                  <a:pt x="10068" y="11244"/>
                  <a:pt x="10071" y="11286"/>
                </a:cubicBezTo>
                <a:cubicBezTo>
                  <a:pt x="10074" y="11337"/>
                  <a:pt x="10088" y="11370"/>
                  <a:pt x="10096" y="11410"/>
                </a:cubicBezTo>
                <a:cubicBezTo>
                  <a:pt x="10109" y="11474"/>
                  <a:pt x="10109" y="11553"/>
                  <a:pt x="10120" y="11609"/>
                </a:cubicBezTo>
                <a:cubicBezTo>
                  <a:pt x="10130" y="11662"/>
                  <a:pt x="10138" y="11738"/>
                  <a:pt x="10145" y="11782"/>
                </a:cubicBezTo>
                <a:cubicBezTo>
                  <a:pt x="10154" y="11843"/>
                  <a:pt x="10160" y="11904"/>
                  <a:pt x="10170" y="11956"/>
                </a:cubicBezTo>
                <a:cubicBezTo>
                  <a:pt x="10183" y="12020"/>
                  <a:pt x="10184" y="12098"/>
                  <a:pt x="10195" y="12154"/>
                </a:cubicBezTo>
                <a:cubicBezTo>
                  <a:pt x="10205" y="12203"/>
                  <a:pt x="10213" y="12263"/>
                  <a:pt x="10220" y="12303"/>
                </a:cubicBezTo>
                <a:cubicBezTo>
                  <a:pt x="10229" y="12352"/>
                  <a:pt x="10236" y="12410"/>
                  <a:pt x="10244" y="12452"/>
                </a:cubicBezTo>
                <a:cubicBezTo>
                  <a:pt x="10252" y="12494"/>
                  <a:pt x="10262" y="12543"/>
                  <a:pt x="10269" y="12576"/>
                </a:cubicBezTo>
                <a:cubicBezTo>
                  <a:pt x="10274" y="12600"/>
                  <a:pt x="10266" y="12626"/>
                  <a:pt x="10269" y="12650"/>
                </a:cubicBezTo>
              </a:path>
              <a:path w="7343" h="12105">
                <a:moveTo>
                  <a:pt x="10319" y="12874"/>
                </a:moveTo>
                <a:cubicBezTo>
                  <a:pt x="10337" y="12922"/>
                  <a:pt x="10330" y="12953"/>
                  <a:pt x="10344" y="12998"/>
                </a:cubicBezTo>
                <a:cubicBezTo>
                  <a:pt x="10356" y="13035"/>
                  <a:pt x="10356" y="13080"/>
                  <a:pt x="10368" y="13122"/>
                </a:cubicBezTo>
                <a:cubicBezTo>
                  <a:pt x="10379" y="13160"/>
                  <a:pt x="10391" y="13173"/>
                  <a:pt x="10393" y="13221"/>
                </a:cubicBezTo>
                <a:cubicBezTo>
                  <a:pt x="10395" y="13274"/>
                  <a:pt x="10411" y="13300"/>
                  <a:pt x="10418" y="13345"/>
                </a:cubicBezTo>
                <a:cubicBezTo>
                  <a:pt x="10425" y="13386"/>
                  <a:pt x="10438" y="13437"/>
                  <a:pt x="10443" y="13469"/>
                </a:cubicBezTo>
                <a:cubicBezTo>
                  <a:pt x="10453" y="13526"/>
                  <a:pt x="10460" y="13595"/>
                  <a:pt x="10468" y="13643"/>
                </a:cubicBezTo>
                <a:cubicBezTo>
                  <a:pt x="10477" y="13699"/>
                  <a:pt x="10484" y="13769"/>
                  <a:pt x="10492" y="13816"/>
                </a:cubicBezTo>
                <a:cubicBezTo>
                  <a:pt x="10498" y="13850"/>
                  <a:pt x="10513" y="13890"/>
                  <a:pt x="10517" y="13915"/>
                </a:cubicBezTo>
                <a:cubicBezTo>
                  <a:pt x="10528" y="13980"/>
                  <a:pt x="10533" y="14059"/>
                  <a:pt x="10542" y="14114"/>
                </a:cubicBezTo>
                <a:cubicBezTo>
                  <a:pt x="10549" y="14154"/>
                  <a:pt x="10563" y="14208"/>
                  <a:pt x="10567" y="14238"/>
                </a:cubicBezTo>
                <a:cubicBezTo>
                  <a:pt x="10574" y="14289"/>
                  <a:pt x="10585" y="14346"/>
                  <a:pt x="10592" y="14387"/>
                </a:cubicBezTo>
                <a:cubicBezTo>
                  <a:pt x="10601" y="14443"/>
                  <a:pt x="10608" y="14513"/>
                  <a:pt x="10616" y="14560"/>
                </a:cubicBezTo>
                <a:cubicBezTo>
                  <a:pt x="10630" y="14649"/>
                  <a:pt x="10628" y="14754"/>
                  <a:pt x="10641" y="14833"/>
                </a:cubicBezTo>
                <a:cubicBezTo>
                  <a:pt x="10655" y="14914"/>
                  <a:pt x="10654" y="15010"/>
                  <a:pt x="10666" y="15081"/>
                </a:cubicBezTo>
                <a:cubicBezTo>
                  <a:pt x="10683" y="15182"/>
                  <a:pt x="10666" y="15301"/>
                  <a:pt x="10666" y="15404"/>
                </a:cubicBezTo>
              </a:path>
              <a:path w="7343" h="12105">
                <a:moveTo>
                  <a:pt x="10889" y="12030"/>
                </a:moveTo>
                <a:cubicBezTo>
                  <a:pt x="10911" y="12001"/>
                  <a:pt x="10914" y="11895"/>
                  <a:pt x="10914" y="11931"/>
                </a:cubicBezTo>
                <a:cubicBezTo>
                  <a:pt x="10914" y="12113"/>
                  <a:pt x="10914" y="12295"/>
                  <a:pt x="10914" y="12477"/>
                </a:cubicBezTo>
                <a:cubicBezTo>
                  <a:pt x="10914" y="12439"/>
                  <a:pt x="10924" y="12383"/>
                  <a:pt x="10939" y="12353"/>
                </a:cubicBezTo>
                <a:cubicBezTo>
                  <a:pt x="10959" y="12314"/>
                  <a:pt x="11018" y="12263"/>
                  <a:pt x="11063" y="12278"/>
                </a:cubicBezTo>
                <a:cubicBezTo>
                  <a:pt x="11132" y="12301"/>
                  <a:pt x="11157" y="12392"/>
                  <a:pt x="11162" y="12452"/>
                </a:cubicBezTo>
                <a:cubicBezTo>
                  <a:pt x="11167" y="12517"/>
                  <a:pt x="11150" y="12521"/>
                  <a:pt x="11088" y="12526"/>
                </a:cubicBezTo>
                <a:cubicBezTo>
                  <a:pt x="11037" y="12530"/>
                  <a:pt x="10988" y="12487"/>
                  <a:pt x="10939" y="12477"/>
                </a:cubicBezTo>
              </a:path>
              <a:path w="7343" h="12105">
                <a:moveTo>
                  <a:pt x="10220" y="12427"/>
                </a:moveTo>
                <a:cubicBezTo>
                  <a:pt x="10220" y="12419"/>
                  <a:pt x="10220" y="12410"/>
                  <a:pt x="10220" y="12402"/>
                </a:cubicBezTo>
                <a:cubicBezTo>
                  <a:pt x="10173" y="12414"/>
                  <a:pt x="10139" y="12451"/>
                  <a:pt x="10120" y="12477"/>
                </a:cubicBezTo>
                <a:cubicBezTo>
                  <a:pt x="10100" y="12505"/>
                  <a:pt x="10060" y="12544"/>
                  <a:pt x="10046" y="12576"/>
                </a:cubicBezTo>
                <a:cubicBezTo>
                  <a:pt x="10046" y="12604"/>
                  <a:pt x="10044" y="12615"/>
                  <a:pt x="10021" y="12626"/>
                </a:cubicBezTo>
                <a:cubicBezTo>
                  <a:pt x="10021" y="12575"/>
                  <a:pt x="10035" y="12572"/>
                  <a:pt x="10046" y="12551"/>
                </a:cubicBezTo>
                <a:cubicBezTo>
                  <a:pt x="10060" y="12523"/>
                  <a:pt x="10053" y="12479"/>
                  <a:pt x="10071" y="12452"/>
                </a:cubicBezTo>
                <a:cubicBezTo>
                  <a:pt x="10084" y="12432"/>
                  <a:pt x="10112" y="12382"/>
                  <a:pt x="10120" y="12378"/>
                </a:cubicBezTo>
                <a:cubicBezTo>
                  <a:pt x="10167" y="12355"/>
                  <a:pt x="10211" y="12407"/>
                  <a:pt x="10244" y="12427"/>
                </a:cubicBezTo>
                <a:cubicBezTo>
                  <a:pt x="10302" y="12462"/>
                  <a:pt x="10365" y="12486"/>
                  <a:pt x="10418" y="12526"/>
                </a:cubicBezTo>
                <a:cubicBezTo>
                  <a:pt x="10441" y="12549"/>
                  <a:pt x="10445" y="12557"/>
                  <a:pt x="10468" y="12551"/>
                </a:cubicBezTo>
              </a:path>
              <a:path w="7343" h="12105">
                <a:moveTo>
                  <a:pt x="11187" y="12725"/>
                </a:moveTo>
                <a:cubicBezTo>
                  <a:pt x="11096" y="12725"/>
                  <a:pt x="11005" y="12725"/>
                  <a:pt x="10914" y="12725"/>
                </a:cubicBezTo>
              </a:path>
              <a:path w="7343" h="12105">
                <a:moveTo>
                  <a:pt x="7169" y="17909"/>
                </a:moveTo>
                <a:cubicBezTo>
                  <a:pt x="7169" y="17917"/>
                  <a:pt x="7169" y="17926"/>
                  <a:pt x="7169" y="17934"/>
                </a:cubicBezTo>
              </a:path>
              <a:path w="7343" h="12105">
                <a:moveTo>
                  <a:pt x="7293" y="17884"/>
                </a:moveTo>
                <a:cubicBezTo>
                  <a:pt x="7334" y="17884"/>
                  <a:pt x="7376" y="17884"/>
                  <a:pt x="7417" y="17884"/>
                </a:cubicBezTo>
                <a:cubicBezTo>
                  <a:pt x="7429" y="17846"/>
                  <a:pt x="7446" y="17859"/>
                  <a:pt x="7491" y="17859"/>
                </a:cubicBezTo>
                <a:cubicBezTo>
                  <a:pt x="7567" y="17859"/>
                  <a:pt x="7625" y="17856"/>
                  <a:pt x="7689" y="17835"/>
                </a:cubicBezTo>
                <a:cubicBezTo>
                  <a:pt x="7697" y="17835"/>
                  <a:pt x="7706" y="17835"/>
                  <a:pt x="7714" y="17835"/>
                </a:cubicBezTo>
              </a:path>
              <a:path w="7343" h="12105">
                <a:moveTo>
                  <a:pt x="7913" y="17909"/>
                </a:moveTo>
                <a:cubicBezTo>
                  <a:pt x="7946" y="17909"/>
                  <a:pt x="7979" y="17909"/>
                  <a:pt x="8012" y="17909"/>
                </a:cubicBezTo>
              </a:path>
              <a:path w="7343" h="12105">
                <a:moveTo>
                  <a:pt x="8235" y="17884"/>
                </a:moveTo>
                <a:cubicBezTo>
                  <a:pt x="8260" y="17884"/>
                  <a:pt x="8285" y="17884"/>
                  <a:pt x="8310" y="17884"/>
                </a:cubicBezTo>
              </a:path>
              <a:path w="7343" h="12105">
                <a:moveTo>
                  <a:pt x="8434" y="17884"/>
                </a:moveTo>
                <a:cubicBezTo>
                  <a:pt x="8502" y="17884"/>
                  <a:pt x="8528" y="17891"/>
                  <a:pt x="8582" y="17909"/>
                </a:cubicBezTo>
                <a:cubicBezTo>
                  <a:pt x="8601" y="17915"/>
                  <a:pt x="8637" y="17909"/>
                  <a:pt x="8657" y="17909"/>
                </a:cubicBezTo>
              </a:path>
              <a:path w="7343" h="12105">
                <a:moveTo>
                  <a:pt x="8756" y="17909"/>
                </a:moveTo>
                <a:cubicBezTo>
                  <a:pt x="8806" y="17909"/>
                  <a:pt x="8855" y="17909"/>
                  <a:pt x="8905" y="17909"/>
                </a:cubicBezTo>
              </a:path>
              <a:path w="7343" h="12105">
                <a:moveTo>
                  <a:pt x="9203" y="17909"/>
                </a:moveTo>
                <a:cubicBezTo>
                  <a:pt x="9244" y="17909"/>
                  <a:pt x="9286" y="17909"/>
                  <a:pt x="9327" y="17909"/>
                </a:cubicBezTo>
              </a:path>
              <a:path w="7343" h="12105">
                <a:moveTo>
                  <a:pt x="9550" y="17934"/>
                </a:moveTo>
                <a:cubicBezTo>
                  <a:pt x="9550" y="17909"/>
                  <a:pt x="9550" y="17901"/>
                  <a:pt x="9525" y="17909"/>
                </a:cubicBezTo>
              </a:path>
              <a:path w="7343" h="12105">
                <a:moveTo>
                  <a:pt x="9525" y="17835"/>
                </a:moveTo>
                <a:cubicBezTo>
                  <a:pt x="9525" y="17760"/>
                  <a:pt x="9525" y="17686"/>
                  <a:pt x="9525" y="17611"/>
                </a:cubicBezTo>
              </a:path>
              <a:path w="7343" h="12105">
                <a:moveTo>
                  <a:pt x="9500" y="17487"/>
                </a:moveTo>
                <a:cubicBezTo>
                  <a:pt x="9500" y="17437"/>
                  <a:pt x="9500" y="17388"/>
                  <a:pt x="9500" y="17338"/>
                </a:cubicBezTo>
              </a:path>
              <a:path w="7343" h="12105">
                <a:moveTo>
                  <a:pt x="9451" y="17140"/>
                </a:moveTo>
                <a:cubicBezTo>
                  <a:pt x="9431" y="17100"/>
                  <a:pt x="9422" y="17093"/>
                  <a:pt x="9426" y="17066"/>
                </a:cubicBezTo>
              </a:path>
              <a:path w="7343" h="12105">
                <a:moveTo>
                  <a:pt x="9426" y="16867"/>
                </a:moveTo>
                <a:cubicBezTo>
                  <a:pt x="9426" y="16834"/>
                  <a:pt x="9426" y="16801"/>
                  <a:pt x="9426" y="16768"/>
                </a:cubicBezTo>
              </a:path>
              <a:path w="7343" h="12105">
                <a:moveTo>
                  <a:pt x="9401" y="16570"/>
                </a:moveTo>
                <a:cubicBezTo>
                  <a:pt x="9401" y="16528"/>
                  <a:pt x="9401" y="16520"/>
                  <a:pt x="9401" y="16495"/>
                </a:cubicBezTo>
              </a:path>
              <a:path w="7343" h="12105">
                <a:moveTo>
                  <a:pt x="9401" y="16297"/>
                </a:moveTo>
                <a:cubicBezTo>
                  <a:pt x="9401" y="16240"/>
                  <a:pt x="9353" y="16238"/>
                  <a:pt x="9401" y="16222"/>
                </a:cubicBezTo>
              </a:path>
              <a:path w="7343" h="12105">
                <a:moveTo>
                  <a:pt x="9351" y="15900"/>
                </a:moveTo>
                <a:cubicBezTo>
                  <a:pt x="9351" y="15795"/>
                  <a:pt x="9357" y="15833"/>
                  <a:pt x="9376" y="15776"/>
                </a:cubicBezTo>
              </a:path>
              <a:path w="7343" h="12105">
                <a:moveTo>
                  <a:pt x="9401" y="15528"/>
                </a:moveTo>
                <a:cubicBezTo>
                  <a:pt x="9401" y="15503"/>
                  <a:pt x="9401" y="15495"/>
                  <a:pt x="9401" y="15478"/>
                </a:cubicBezTo>
              </a:path>
              <a:path w="7343" h="12105">
                <a:moveTo>
                  <a:pt x="9401" y="15131"/>
                </a:moveTo>
                <a:cubicBezTo>
                  <a:pt x="9401" y="15114"/>
                  <a:pt x="9401" y="15098"/>
                  <a:pt x="9401" y="15081"/>
                </a:cubicBezTo>
              </a:path>
              <a:path w="7343" h="12105">
                <a:moveTo>
                  <a:pt x="9475" y="14784"/>
                </a:moveTo>
                <a:cubicBezTo>
                  <a:pt x="9475" y="14776"/>
                  <a:pt x="9475" y="14767"/>
                  <a:pt x="9475" y="14759"/>
                </a:cubicBezTo>
              </a:path>
              <a:path w="7343" h="12105">
                <a:moveTo>
                  <a:pt x="9451" y="14412"/>
                </a:moveTo>
                <a:cubicBezTo>
                  <a:pt x="9451" y="14371"/>
                  <a:pt x="9463" y="14400"/>
                  <a:pt x="9475" y="14362"/>
                </a:cubicBezTo>
              </a:path>
              <a:path w="7343" h="12105">
                <a:moveTo>
                  <a:pt x="9475" y="14015"/>
                </a:moveTo>
                <a:cubicBezTo>
                  <a:pt x="9448" y="13977"/>
                  <a:pt x="9451" y="13963"/>
                  <a:pt x="9451" y="13915"/>
                </a:cubicBezTo>
              </a:path>
              <a:path w="7343" h="12105">
                <a:moveTo>
                  <a:pt x="9426" y="13767"/>
                </a:moveTo>
                <a:cubicBezTo>
                  <a:pt x="9426" y="13726"/>
                  <a:pt x="9426" y="13684"/>
                  <a:pt x="9426" y="13643"/>
                </a:cubicBezTo>
              </a:path>
              <a:path w="7343" h="12105">
                <a:moveTo>
                  <a:pt x="9426" y="13146"/>
                </a:moveTo>
                <a:cubicBezTo>
                  <a:pt x="9426" y="13130"/>
                  <a:pt x="9426" y="13113"/>
                  <a:pt x="9426" y="13097"/>
                </a:cubicBezTo>
              </a:path>
              <a:path w="7343" h="12105">
                <a:moveTo>
                  <a:pt x="9351" y="12700"/>
                </a:moveTo>
                <a:cubicBezTo>
                  <a:pt x="9351" y="12675"/>
                  <a:pt x="9351" y="12667"/>
                  <a:pt x="9351" y="12650"/>
                </a:cubicBezTo>
              </a:path>
              <a:path w="7343" h="12105">
                <a:moveTo>
                  <a:pt x="9351" y="12328"/>
                </a:moveTo>
                <a:cubicBezTo>
                  <a:pt x="9351" y="12237"/>
                  <a:pt x="9351" y="12146"/>
                  <a:pt x="9351" y="12055"/>
                </a:cubicBezTo>
              </a:path>
              <a:path w="7343" h="12105">
                <a:moveTo>
                  <a:pt x="9351" y="11956"/>
                </a:moveTo>
                <a:cubicBezTo>
                  <a:pt x="9333" y="11893"/>
                  <a:pt x="9327" y="11867"/>
                  <a:pt x="9327" y="11807"/>
                </a:cubicBezTo>
                <a:cubicBezTo>
                  <a:pt x="9327" y="11749"/>
                  <a:pt x="9327" y="11691"/>
                  <a:pt x="9327" y="11633"/>
                </a:cubicBezTo>
              </a:path>
              <a:path w="7343" h="12105">
                <a:moveTo>
                  <a:pt x="9302" y="11013"/>
                </a:moveTo>
                <a:cubicBezTo>
                  <a:pt x="9302" y="10980"/>
                  <a:pt x="9302" y="10947"/>
                  <a:pt x="9302" y="10914"/>
                </a:cubicBezTo>
              </a:path>
              <a:path w="7343" h="12105">
                <a:moveTo>
                  <a:pt x="7962" y="18132"/>
                </a:moveTo>
                <a:cubicBezTo>
                  <a:pt x="7935" y="18094"/>
                  <a:pt x="7931" y="18058"/>
                  <a:pt x="7987" y="18033"/>
                </a:cubicBezTo>
                <a:cubicBezTo>
                  <a:pt x="8003" y="18026"/>
                  <a:pt x="8044" y="18033"/>
                  <a:pt x="8062" y="18033"/>
                </a:cubicBezTo>
                <a:cubicBezTo>
                  <a:pt x="8062" y="18084"/>
                  <a:pt x="8051" y="18091"/>
                  <a:pt x="8037" y="18132"/>
                </a:cubicBezTo>
                <a:cubicBezTo>
                  <a:pt x="8037" y="18157"/>
                  <a:pt x="8037" y="18165"/>
                  <a:pt x="8037" y="18182"/>
                </a:cubicBezTo>
                <a:cubicBezTo>
                  <a:pt x="8110" y="18182"/>
                  <a:pt x="8168" y="18187"/>
                  <a:pt x="8235" y="18157"/>
                </a:cubicBezTo>
                <a:cubicBezTo>
                  <a:pt x="8283" y="18133"/>
                  <a:pt x="8297" y="18125"/>
                  <a:pt x="8334" y="18132"/>
                </a:cubicBezTo>
              </a:path>
              <a:path w="7343" h="12105">
                <a:moveTo>
                  <a:pt x="9723" y="14188"/>
                </a:moveTo>
                <a:cubicBezTo>
                  <a:pt x="9814" y="14188"/>
                  <a:pt x="9893" y="14189"/>
                  <a:pt x="9971" y="14213"/>
                </a:cubicBezTo>
                <a:cubicBezTo>
                  <a:pt x="9979" y="14213"/>
                  <a:pt x="9988" y="14213"/>
                  <a:pt x="9996" y="14213"/>
                </a:cubicBezTo>
                <a:cubicBezTo>
                  <a:pt x="9996" y="14296"/>
                  <a:pt x="9991" y="14358"/>
                  <a:pt x="9971" y="14436"/>
                </a:cubicBezTo>
                <a:cubicBezTo>
                  <a:pt x="9964" y="14465"/>
                  <a:pt x="9954" y="14481"/>
                  <a:pt x="9947" y="145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687920" y="4089240"/>
            <a:ext cx="519120" cy="304920"/>
          </a:xfrm>
          <a:custGeom>
            <a:avLst/>
            <a:gdLst/>
            <a:ahLst/>
            <a:rect l="l" t="t" r="r" b="b"/>
            <a:pathLst>
              <a:path w="1440" h="844">
                <a:moveTo>
                  <a:pt x="14412" y="11906"/>
                </a:moveTo>
                <a:cubicBezTo>
                  <a:pt x="14420" y="11898"/>
                  <a:pt x="14428" y="11889"/>
                  <a:pt x="14436" y="11881"/>
                </a:cubicBezTo>
                <a:cubicBezTo>
                  <a:pt x="14393" y="11892"/>
                  <a:pt x="14371" y="11922"/>
                  <a:pt x="14337" y="11956"/>
                </a:cubicBezTo>
                <a:cubicBezTo>
                  <a:pt x="14279" y="12014"/>
                  <a:pt x="14188" y="12071"/>
                  <a:pt x="14139" y="12129"/>
                </a:cubicBezTo>
                <a:cubicBezTo>
                  <a:pt x="14093" y="12183"/>
                  <a:pt x="14115" y="12166"/>
                  <a:pt x="14064" y="12204"/>
                </a:cubicBezTo>
              </a:path>
              <a:path w="1440" h="844">
                <a:moveTo>
                  <a:pt x="14461" y="12080"/>
                </a:moveTo>
                <a:cubicBezTo>
                  <a:pt x="14450" y="12035"/>
                  <a:pt x="14404" y="11985"/>
                  <a:pt x="14362" y="11956"/>
                </a:cubicBezTo>
                <a:cubicBezTo>
                  <a:pt x="14274" y="11894"/>
                  <a:pt x="14183" y="11820"/>
                  <a:pt x="14114" y="11733"/>
                </a:cubicBezTo>
                <a:cubicBezTo>
                  <a:pt x="14097" y="11708"/>
                  <a:pt x="14081" y="11683"/>
                  <a:pt x="14064" y="11658"/>
                </a:cubicBezTo>
              </a:path>
              <a:path w="1440" h="844">
                <a:moveTo>
                  <a:pt x="14238" y="11956"/>
                </a:moveTo>
                <a:cubicBezTo>
                  <a:pt x="14197" y="11956"/>
                  <a:pt x="14225" y="11969"/>
                  <a:pt x="14188" y="11981"/>
                </a:cubicBezTo>
              </a:path>
              <a:path w="1440" h="844">
                <a:moveTo>
                  <a:pt x="14039" y="11956"/>
                </a:moveTo>
                <a:cubicBezTo>
                  <a:pt x="14031" y="11956"/>
                  <a:pt x="14023" y="11956"/>
                  <a:pt x="14015" y="11956"/>
                </a:cubicBezTo>
                <a:cubicBezTo>
                  <a:pt x="14002" y="11994"/>
                  <a:pt x="13985" y="11981"/>
                  <a:pt x="13940" y="11981"/>
                </a:cubicBezTo>
                <a:cubicBezTo>
                  <a:pt x="13932" y="11981"/>
                  <a:pt x="13923" y="11981"/>
                  <a:pt x="13915" y="11981"/>
                </a:cubicBezTo>
                <a:cubicBezTo>
                  <a:pt x="13903" y="11943"/>
                  <a:pt x="13886" y="11956"/>
                  <a:pt x="13841" y="11956"/>
                </a:cubicBezTo>
                <a:cubicBezTo>
                  <a:pt x="13816" y="11956"/>
                  <a:pt x="13792" y="11956"/>
                  <a:pt x="13767" y="11956"/>
                </a:cubicBezTo>
              </a:path>
              <a:path w="1440" h="844">
                <a:moveTo>
                  <a:pt x="13717" y="11956"/>
                </a:moveTo>
                <a:cubicBezTo>
                  <a:pt x="13692" y="11956"/>
                  <a:pt x="13668" y="11956"/>
                  <a:pt x="13643" y="11956"/>
                </a:cubicBezTo>
              </a:path>
              <a:path w="1440" h="844">
                <a:moveTo>
                  <a:pt x="13519" y="11956"/>
                </a:moveTo>
                <a:cubicBezTo>
                  <a:pt x="13494" y="11956"/>
                  <a:pt x="13469" y="11956"/>
                  <a:pt x="13444" y="11956"/>
                </a:cubicBezTo>
              </a:path>
              <a:path w="1440" h="844">
                <a:moveTo>
                  <a:pt x="13295" y="11906"/>
                </a:moveTo>
                <a:cubicBezTo>
                  <a:pt x="13250" y="11906"/>
                  <a:pt x="13236" y="11927"/>
                  <a:pt x="13196" y="11931"/>
                </a:cubicBezTo>
                <a:cubicBezTo>
                  <a:pt x="13130" y="11938"/>
                  <a:pt x="13075" y="11916"/>
                  <a:pt x="13022" y="11956"/>
                </a:cubicBezTo>
              </a:path>
              <a:path w="1440" h="844">
                <a:moveTo>
                  <a:pt x="13593" y="11534"/>
                </a:moveTo>
                <a:cubicBezTo>
                  <a:pt x="13601" y="11534"/>
                  <a:pt x="13610" y="11534"/>
                  <a:pt x="13618" y="11534"/>
                </a:cubicBezTo>
                <a:cubicBezTo>
                  <a:pt x="13572" y="11534"/>
                  <a:pt x="13559" y="11514"/>
                  <a:pt x="13519" y="11509"/>
                </a:cubicBezTo>
                <a:cubicBezTo>
                  <a:pt x="13455" y="11502"/>
                  <a:pt x="13384" y="11509"/>
                  <a:pt x="13320" y="11509"/>
                </a:cubicBezTo>
              </a:path>
              <a:path w="1440" h="844">
                <a:moveTo>
                  <a:pt x="13841" y="11361"/>
                </a:moveTo>
                <a:cubicBezTo>
                  <a:pt x="13857" y="11406"/>
                  <a:pt x="13866" y="11384"/>
                  <a:pt x="13866" y="11460"/>
                </a:cubicBezTo>
                <a:cubicBezTo>
                  <a:pt x="13866" y="11567"/>
                  <a:pt x="13866" y="11675"/>
                  <a:pt x="13866" y="117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321000" y="4562640"/>
            <a:ext cx="117360" cy="1009440"/>
          </a:xfrm>
          <a:custGeom>
            <a:avLst/>
            <a:gdLst/>
            <a:ahLst/>
            <a:rect l="l" t="t" r="r" b="b"/>
            <a:pathLst>
              <a:path w="324" h="2804">
                <a:moveTo>
                  <a:pt x="9550" y="15453"/>
                </a:moveTo>
                <a:cubicBezTo>
                  <a:pt x="9550" y="15520"/>
                  <a:pt x="9550" y="15415"/>
                  <a:pt x="9550" y="15404"/>
                </a:cubicBezTo>
              </a:path>
              <a:path w="324" h="2804">
                <a:moveTo>
                  <a:pt x="9525" y="15280"/>
                </a:moveTo>
                <a:cubicBezTo>
                  <a:pt x="9525" y="15230"/>
                  <a:pt x="9525" y="15181"/>
                  <a:pt x="9525" y="15131"/>
                </a:cubicBezTo>
              </a:path>
              <a:path w="324" h="2804">
                <a:moveTo>
                  <a:pt x="9525" y="14932"/>
                </a:moveTo>
                <a:cubicBezTo>
                  <a:pt x="9525" y="14899"/>
                  <a:pt x="9525" y="14866"/>
                  <a:pt x="9525" y="14833"/>
                </a:cubicBezTo>
              </a:path>
              <a:path w="324" h="2804">
                <a:moveTo>
                  <a:pt x="9550" y="14461"/>
                </a:moveTo>
                <a:cubicBezTo>
                  <a:pt x="9537" y="14411"/>
                  <a:pt x="9525" y="14398"/>
                  <a:pt x="9525" y="14337"/>
                </a:cubicBezTo>
                <a:cubicBezTo>
                  <a:pt x="9525" y="14284"/>
                  <a:pt x="9489" y="14254"/>
                  <a:pt x="9475" y="14213"/>
                </a:cubicBezTo>
                <a:cubicBezTo>
                  <a:pt x="9465" y="14182"/>
                  <a:pt x="9460" y="14143"/>
                  <a:pt x="9451" y="14114"/>
                </a:cubicBezTo>
                <a:cubicBezTo>
                  <a:pt x="9438" y="14073"/>
                  <a:pt x="9439" y="14028"/>
                  <a:pt x="9426" y="13990"/>
                </a:cubicBezTo>
                <a:cubicBezTo>
                  <a:pt x="9426" y="13982"/>
                  <a:pt x="9426" y="13973"/>
                  <a:pt x="9426" y="13965"/>
                </a:cubicBezTo>
              </a:path>
              <a:path w="324" h="2804">
                <a:moveTo>
                  <a:pt x="9426" y="13965"/>
                </a:moveTo>
                <a:cubicBezTo>
                  <a:pt x="9426" y="13908"/>
                  <a:pt x="9430" y="13859"/>
                  <a:pt x="9401" y="13816"/>
                </a:cubicBezTo>
                <a:cubicBezTo>
                  <a:pt x="9378" y="13782"/>
                  <a:pt x="9356" y="13733"/>
                  <a:pt x="9351" y="13692"/>
                </a:cubicBezTo>
                <a:cubicBezTo>
                  <a:pt x="9347" y="13652"/>
                  <a:pt x="9327" y="13638"/>
                  <a:pt x="9327" y="13593"/>
                </a:cubicBezTo>
                <a:cubicBezTo>
                  <a:pt x="9327" y="13585"/>
                  <a:pt x="9327" y="13576"/>
                  <a:pt x="9327" y="13568"/>
                </a:cubicBezTo>
              </a:path>
              <a:path w="324" h="2804">
                <a:moveTo>
                  <a:pt x="9302" y="13469"/>
                </a:moveTo>
                <a:cubicBezTo>
                  <a:pt x="9302" y="13396"/>
                  <a:pt x="9284" y="13362"/>
                  <a:pt x="9277" y="13295"/>
                </a:cubicBezTo>
                <a:cubicBezTo>
                  <a:pt x="9271" y="13239"/>
                  <a:pt x="9277" y="13179"/>
                  <a:pt x="9277" y="13122"/>
                </a:cubicBezTo>
              </a:path>
              <a:path w="324" h="2804">
                <a:moveTo>
                  <a:pt x="9227" y="12750"/>
                </a:moveTo>
                <a:cubicBezTo>
                  <a:pt x="9227" y="12725"/>
                  <a:pt x="9227" y="12700"/>
                  <a:pt x="9227" y="126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313080" y="3456000"/>
            <a:ext cx="250920" cy="919080"/>
          </a:xfrm>
          <a:custGeom>
            <a:avLst/>
            <a:gdLst/>
            <a:ahLst/>
            <a:rect l="l" t="t" r="r" b="b"/>
            <a:pathLst>
              <a:path w="695" h="2556">
                <a:moveTo>
                  <a:pt x="9203" y="12154"/>
                </a:moveTo>
                <a:cubicBezTo>
                  <a:pt x="9222" y="12081"/>
                  <a:pt x="9227" y="12030"/>
                  <a:pt x="9227" y="11956"/>
                </a:cubicBezTo>
                <a:cubicBezTo>
                  <a:pt x="9227" y="11931"/>
                  <a:pt x="9227" y="11906"/>
                  <a:pt x="9227" y="11881"/>
                </a:cubicBezTo>
                <a:cubicBezTo>
                  <a:pt x="9256" y="11872"/>
                  <a:pt x="9272" y="11848"/>
                  <a:pt x="9277" y="11807"/>
                </a:cubicBezTo>
                <a:cubicBezTo>
                  <a:pt x="9277" y="11779"/>
                  <a:pt x="9279" y="11768"/>
                  <a:pt x="9302" y="11757"/>
                </a:cubicBezTo>
              </a:path>
              <a:path w="695" h="2556">
                <a:moveTo>
                  <a:pt x="9327" y="11485"/>
                </a:moveTo>
                <a:cubicBezTo>
                  <a:pt x="9344" y="11444"/>
                  <a:pt x="9364" y="11398"/>
                  <a:pt x="9376" y="11361"/>
                </a:cubicBezTo>
                <a:cubicBezTo>
                  <a:pt x="9421" y="11228"/>
                  <a:pt x="9376" y="11007"/>
                  <a:pt x="9376" y="10864"/>
                </a:cubicBezTo>
              </a:path>
              <a:path w="695" h="2556">
                <a:moveTo>
                  <a:pt x="9401" y="10691"/>
                </a:moveTo>
                <a:cubicBezTo>
                  <a:pt x="9401" y="10592"/>
                  <a:pt x="9401" y="10492"/>
                  <a:pt x="9401" y="10393"/>
                </a:cubicBezTo>
              </a:path>
              <a:path w="695" h="2556">
                <a:moveTo>
                  <a:pt x="9401" y="10120"/>
                </a:moveTo>
                <a:cubicBezTo>
                  <a:pt x="9401" y="10067"/>
                  <a:pt x="9413" y="10084"/>
                  <a:pt x="9426" y="10046"/>
                </a:cubicBezTo>
              </a:path>
              <a:path w="695" h="2556">
                <a:moveTo>
                  <a:pt x="9401" y="9773"/>
                </a:moveTo>
                <a:cubicBezTo>
                  <a:pt x="9401" y="9748"/>
                  <a:pt x="9401" y="9724"/>
                  <a:pt x="9401" y="9699"/>
                </a:cubicBezTo>
              </a:path>
              <a:path w="695" h="2556">
                <a:moveTo>
                  <a:pt x="9550" y="9624"/>
                </a:moveTo>
                <a:cubicBezTo>
                  <a:pt x="9550" y="9616"/>
                  <a:pt x="9550" y="9607"/>
                  <a:pt x="9550" y="9599"/>
                </a:cubicBezTo>
                <a:cubicBezTo>
                  <a:pt x="9573" y="9607"/>
                  <a:pt x="9588" y="9641"/>
                  <a:pt x="9599" y="9674"/>
                </a:cubicBezTo>
                <a:cubicBezTo>
                  <a:pt x="9609" y="9705"/>
                  <a:pt x="9621" y="9743"/>
                  <a:pt x="9624" y="9773"/>
                </a:cubicBezTo>
                <a:cubicBezTo>
                  <a:pt x="9629" y="9817"/>
                  <a:pt x="9661" y="9834"/>
                  <a:pt x="9674" y="9872"/>
                </a:cubicBezTo>
                <a:cubicBezTo>
                  <a:pt x="9685" y="9904"/>
                  <a:pt x="9689" y="9942"/>
                  <a:pt x="9699" y="9971"/>
                </a:cubicBezTo>
                <a:cubicBezTo>
                  <a:pt x="9710" y="10002"/>
                  <a:pt x="9714" y="10042"/>
                  <a:pt x="9723" y="10071"/>
                </a:cubicBezTo>
                <a:cubicBezTo>
                  <a:pt x="9729" y="10090"/>
                  <a:pt x="9723" y="10125"/>
                  <a:pt x="9723" y="10145"/>
                </a:cubicBezTo>
                <a:cubicBezTo>
                  <a:pt x="9777" y="10163"/>
                  <a:pt x="9723" y="10177"/>
                  <a:pt x="9748" y="10220"/>
                </a:cubicBezTo>
                <a:cubicBezTo>
                  <a:pt x="9767" y="10253"/>
                  <a:pt x="9757" y="10290"/>
                  <a:pt x="9773" y="10319"/>
                </a:cubicBezTo>
                <a:cubicBezTo>
                  <a:pt x="9794" y="10356"/>
                  <a:pt x="9818" y="10400"/>
                  <a:pt x="9823" y="10443"/>
                </a:cubicBezTo>
                <a:cubicBezTo>
                  <a:pt x="9828" y="10486"/>
                  <a:pt x="9859" y="10504"/>
                  <a:pt x="9872" y="10542"/>
                </a:cubicBezTo>
                <a:cubicBezTo>
                  <a:pt x="9872" y="10570"/>
                  <a:pt x="9874" y="10581"/>
                  <a:pt x="9897" y="105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840280" y="2374920"/>
            <a:ext cx="98640" cy="196920"/>
          </a:xfrm>
          <a:custGeom>
            <a:avLst/>
            <a:gdLst/>
            <a:ahLst/>
            <a:rect l="l" t="t" r="r" b="b"/>
            <a:pathLst>
              <a:path w="274" h="547">
                <a:moveTo>
                  <a:pt x="16470" y="6598"/>
                </a:moveTo>
                <a:cubicBezTo>
                  <a:pt x="16478" y="6606"/>
                  <a:pt x="16487" y="6615"/>
                  <a:pt x="16495" y="6623"/>
                </a:cubicBezTo>
                <a:cubicBezTo>
                  <a:pt x="16482" y="6585"/>
                  <a:pt x="16466" y="6598"/>
                  <a:pt x="16421" y="6598"/>
                </a:cubicBezTo>
                <a:cubicBezTo>
                  <a:pt x="16388" y="6598"/>
                  <a:pt x="16354" y="6598"/>
                  <a:pt x="16321" y="6598"/>
                </a:cubicBezTo>
              </a:path>
              <a:path w="274" h="547">
                <a:moveTo>
                  <a:pt x="16446" y="6921"/>
                </a:moveTo>
                <a:cubicBezTo>
                  <a:pt x="16446" y="6929"/>
                  <a:pt x="16446" y="6937"/>
                  <a:pt x="16446" y="6945"/>
                </a:cubicBezTo>
                <a:cubicBezTo>
                  <a:pt x="16409" y="6933"/>
                  <a:pt x="16424" y="6921"/>
                  <a:pt x="16371" y="6921"/>
                </a:cubicBezTo>
                <a:cubicBezTo>
                  <a:pt x="16314" y="6921"/>
                  <a:pt x="16293" y="6911"/>
                  <a:pt x="16247" y="6896"/>
                </a:cubicBezTo>
                <a:cubicBezTo>
                  <a:pt x="16222" y="6896"/>
                  <a:pt x="16214" y="6896"/>
                  <a:pt x="16222" y="6921"/>
                </a:cubicBezTo>
              </a:path>
              <a:path w="274" h="547">
                <a:moveTo>
                  <a:pt x="16371" y="7144"/>
                </a:moveTo>
                <a:cubicBezTo>
                  <a:pt x="16330" y="7144"/>
                  <a:pt x="16288" y="7144"/>
                  <a:pt x="16247" y="7144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188040" y="2347920"/>
            <a:ext cx="169920" cy="152280"/>
          </a:xfrm>
          <a:custGeom>
            <a:avLst/>
            <a:gdLst/>
            <a:ahLst/>
            <a:rect l="l" t="t" r="r" b="b"/>
            <a:pathLst>
              <a:path w="472" h="422">
                <a:moveTo>
                  <a:pt x="17264" y="6648"/>
                </a:moveTo>
                <a:cubicBezTo>
                  <a:pt x="17232" y="6648"/>
                  <a:pt x="17198" y="6640"/>
                  <a:pt x="17190" y="6623"/>
                </a:cubicBezTo>
                <a:cubicBezTo>
                  <a:pt x="17190" y="6615"/>
                  <a:pt x="17190" y="6606"/>
                  <a:pt x="17190" y="6598"/>
                </a:cubicBezTo>
                <a:cubicBezTo>
                  <a:pt x="17236" y="6551"/>
                  <a:pt x="17247" y="6528"/>
                  <a:pt x="17314" y="6524"/>
                </a:cubicBezTo>
                <a:cubicBezTo>
                  <a:pt x="17375" y="6520"/>
                  <a:pt x="17466" y="6522"/>
                  <a:pt x="17512" y="6573"/>
                </a:cubicBezTo>
                <a:cubicBezTo>
                  <a:pt x="17538" y="6602"/>
                  <a:pt x="17506" y="6721"/>
                  <a:pt x="17487" y="6747"/>
                </a:cubicBezTo>
                <a:cubicBezTo>
                  <a:pt x="17447" y="6802"/>
                  <a:pt x="17398" y="6872"/>
                  <a:pt x="17363" y="6921"/>
                </a:cubicBezTo>
                <a:cubicBezTo>
                  <a:pt x="17355" y="6929"/>
                  <a:pt x="17346" y="6937"/>
                  <a:pt x="17338" y="6945"/>
                </a:cubicBezTo>
                <a:cubicBezTo>
                  <a:pt x="17386" y="6945"/>
                  <a:pt x="17418" y="6950"/>
                  <a:pt x="17462" y="6921"/>
                </a:cubicBezTo>
                <a:cubicBezTo>
                  <a:pt x="17515" y="6886"/>
                  <a:pt x="17564" y="6895"/>
                  <a:pt x="17611" y="6871"/>
                </a:cubicBezTo>
                <a:cubicBezTo>
                  <a:pt x="17634" y="6848"/>
                  <a:pt x="17638" y="6840"/>
                  <a:pt x="17661" y="6846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527880" y="2143080"/>
            <a:ext cx="571320" cy="519120"/>
          </a:xfrm>
          <a:custGeom>
            <a:avLst/>
            <a:gdLst/>
            <a:ahLst/>
            <a:rect l="l" t="t" r="r" b="b"/>
            <a:pathLst>
              <a:path w="1589" h="1440">
                <a:moveTo>
                  <a:pt x="18355" y="6077"/>
                </a:moveTo>
                <a:cubicBezTo>
                  <a:pt x="18380" y="6077"/>
                  <a:pt x="18388" y="6077"/>
                  <a:pt x="18380" y="6052"/>
                </a:cubicBezTo>
                <a:cubicBezTo>
                  <a:pt x="18368" y="6101"/>
                  <a:pt x="18331" y="6151"/>
                  <a:pt x="18306" y="6201"/>
                </a:cubicBezTo>
                <a:cubicBezTo>
                  <a:pt x="18234" y="6345"/>
                  <a:pt x="18190" y="6465"/>
                  <a:pt x="18157" y="6623"/>
                </a:cubicBezTo>
                <a:cubicBezTo>
                  <a:pt x="18127" y="6767"/>
                  <a:pt x="18110" y="6947"/>
                  <a:pt x="18132" y="7094"/>
                </a:cubicBezTo>
                <a:cubicBezTo>
                  <a:pt x="18139" y="7142"/>
                  <a:pt x="18170" y="7289"/>
                  <a:pt x="18207" y="7317"/>
                </a:cubicBezTo>
                <a:cubicBezTo>
                  <a:pt x="18247" y="7337"/>
                  <a:pt x="18263" y="7336"/>
                  <a:pt x="18256" y="7367"/>
                </a:cubicBezTo>
              </a:path>
              <a:path w="1589" h="1440">
                <a:moveTo>
                  <a:pt x="18777" y="6152"/>
                </a:moveTo>
                <a:cubicBezTo>
                  <a:pt x="18777" y="6176"/>
                  <a:pt x="18777" y="6184"/>
                  <a:pt x="18752" y="6176"/>
                </a:cubicBezTo>
                <a:cubicBezTo>
                  <a:pt x="18769" y="6126"/>
                  <a:pt x="18805" y="6151"/>
                  <a:pt x="18852" y="6127"/>
                </a:cubicBezTo>
                <a:cubicBezTo>
                  <a:pt x="18892" y="6107"/>
                  <a:pt x="18956" y="6076"/>
                  <a:pt x="19000" y="6127"/>
                </a:cubicBezTo>
                <a:cubicBezTo>
                  <a:pt x="19021" y="6152"/>
                  <a:pt x="18990" y="6210"/>
                  <a:pt x="18976" y="6226"/>
                </a:cubicBezTo>
                <a:cubicBezTo>
                  <a:pt x="18947" y="6259"/>
                  <a:pt x="18894" y="6267"/>
                  <a:pt x="18852" y="6276"/>
                </a:cubicBezTo>
                <a:cubicBezTo>
                  <a:pt x="18880" y="6331"/>
                  <a:pt x="18913" y="6325"/>
                  <a:pt x="18976" y="6325"/>
                </a:cubicBezTo>
                <a:cubicBezTo>
                  <a:pt x="19028" y="6325"/>
                  <a:pt x="19063" y="6338"/>
                  <a:pt x="19075" y="6375"/>
                </a:cubicBezTo>
                <a:cubicBezTo>
                  <a:pt x="19066" y="6403"/>
                  <a:pt x="19019" y="6435"/>
                  <a:pt x="18976" y="6449"/>
                </a:cubicBezTo>
                <a:cubicBezTo>
                  <a:pt x="18935" y="6463"/>
                  <a:pt x="18896" y="6468"/>
                  <a:pt x="18852" y="6474"/>
                </a:cubicBezTo>
              </a:path>
              <a:path w="1589" h="1440">
                <a:moveTo>
                  <a:pt x="18802" y="6821"/>
                </a:moveTo>
                <a:cubicBezTo>
                  <a:pt x="18777" y="6821"/>
                  <a:pt x="18769" y="6821"/>
                  <a:pt x="18752" y="6821"/>
                </a:cubicBezTo>
                <a:cubicBezTo>
                  <a:pt x="18764" y="6772"/>
                  <a:pt x="18777" y="6772"/>
                  <a:pt x="18827" y="6772"/>
                </a:cubicBezTo>
                <a:cubicBezTo>
                  <a:pt x="18876" y="6772"/>
                  <a:pt x="18954" y="6763"/>
                  <a:pt x="18926" y="6846"/>
                </a:cubicBezTo>
                <a:cubicBezTo>
                  <a:pt x="18915" y="6879"/>
                  <a:pt x="18851" y="6944"/>
                  <a:pt x="18827" y="6970"/>
                </a:cubicBezTo>
                <a:cubicBezTo>
                  <a:pt x="18809" y="6991"/>
                  <a:pt x="18784" y="7037"/>
                  <a:pt x="18802" y="7069"/>
                </a:cubicBezTo>
                <a:cubicBezTo>
                  <a:pt x="18822" y="7104"/>
                  <a:pt x="18892" y="7105"/>
                  <a:pt x="18926" y="7094"/>
                </a:cubicBezTo>
                <a:cubicBezTo>
                  <a:pt x="18939" y="7090"/>
                  <a:pt x="19044" y="7053"/>
                  <a:pt x="19050" y="7045"/>
                </a:cubicBezTo>
                <a:cubicBezTo>
                  <a:pt x="19050" y="7020"/>
                  <a:pt x="19050" y="7012"/>
                  <a:pt x="19075" y="7020"/>
                </a:cubicBezTo>
              </a:path>
              <a:path w="1589" h="1440">
                <a:moveTo>
                  <a:pt x="19447" y="5953"/>
                </a:moveTo>
                <a:cubicBezTo>
                  <a:pt x="19462" y="6006"/>
                  <a:pt x="19444" y="5995"/>
                  <a:pt x="19496" y="6028"/>
                </a:cubicBezTo>
                <a:cubicBezTo>
                  <a:pt x="19547" y="6060"/>
                  <a:pt x="19555" y="6072"/>
                  <a:pt x="19596" y="6127"/>
                </a:cubicBezTo>
                <a:cubicBezTo>
                  <a:pt x="19638" y="6184"/>
                  <a:pt x="19649" y="6217"/>
                  <a:pt x="19670" y="6276"/>
                </a:cubicBezTo>
                <a:cubicBezTo>
                  <a:pt x="19702" y="6367"/>
                  <a:pt x="19720" y="6398"/>
                  <a:pt x="19720" y="6499"/>
                </a:cubicBezTo>
                <a:cubicBezTo>
                  <a:pt x="19720" y="6580"/>
                  <a:pt x="19726" y="6647"/>
                  <a:pt x="19695" y="6722"/>
                </a:cubicBezTo>
                <a:cubicBezTo>
                  <a:pt x="19666" y="6790"/>
                  <a:pt x="19655" y="6852"/>
                  <a:pt x="19621" y="6921"/>
                </a:cubicBezTo>
                <a:cubicBezTo>
                  <a:pt x="19588" y="6986"/>
                  <a:pt x="19580" y="7050"/>
                  <a:pt x="19546" y="7119"/>
                </a:cubicBezTo>
                <a:cubicBezTo>
                  <a:pt x="19510" y="7190"/>
                  <a:pt x="19470" y="7255"/>
                  <a:pt x="19422" y="7317"/>
                </a:cubicBezTo>
                <a:cubicBezTo>
                  <a:pt x="19393" y="7355"/>
                  <a:pt x="19345" y="7374"/>
                  <a:pt x="19323" y="7392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348680" y="2347920"/>
            <a:ext cx="144360" cy="9360"/>
          </a:xfrm>
          <a:custGeom>
            <a:avLst/>
            <a:gdLst/>
            <a:ahLst/>
            <a:rect l="l" t="t" r="r" b="b"/>
            <a:pathLst>
              <a:path w="398" h="25">
                <a:moveTo>
                  <a:pt x="20414" y="6548"/>
                </a:moveTo>
                <a:cubicBezTo>
                  <a:pt x="20469" y="6548"/>
                  <a:pt x="20508" y="6527"/>
                  <a:pt x="20563" y="6524"/>
                </a:cubicBezTo>
                <a:cubicBezTo>
                  <a:pt x="20645" y="6520"/>
                  <a:pt x="20729" y="6524"/>
                  <a:pt x="20811" y="6524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724880" y="2054160"/>
            <a:ext cx="704880" cy="581040"/>
          </a:xfrm>
          <a:custGeom>
            <a:avLst/>
            <a:gdLst/>
            <a:ahLst/>
            <a:rect l="l" t="t" r="r" b="b"/>
            <a:pathLst>
              <a:path w="1961" h="1613">
                <a:moveTo>
                  <a:pt x="21679" y="5779"/>
                </a:moveTo>
                <a:cubicBezTo>
                  <a:pt x="21767" y="5750"/>
                  <a:pt x="21706" y="5797"/>
                  <a:pt x="21729" y="5730"/>
                </a:cubicBezTo>
                <a:cubicBezTo>
                  <a:pt x="21696" y="5763"/>
                  <a:pt x="21701" y="5763"/>
                  <a:pt x="21679" y="5804"/>
                </a:cubicBezTo>
                <a:cubicBezTo>
                  <a:pt x="21624" y="5907"/>
                  <a:pt x="21575" y="5996"/>
                  <a:pt x="21530" y="6102"/>
                </a:cubicBezTo>
                <a:cubicBezTo>
                  <a:pt x="21474" y="6233"/>
                  <a:pt x="21467" y="6379"/>
                  <a:pt x="21456" y="6524"/>
                </a:cubicBezTo>
                <a:cubicBezTo>
                  <a:pt x="21445" y="6670"/>
                  <a:pt x="21445" y="6828"/>
                  <a:pt x="21481" y="6970"/>
                </a:cubicBezTo>
                <a:cubicBezTo>
                  <a:pt x="21504" y="7061"/>
                  <a:pt x="21513" y="7133"/>
                  <a:pt x="21555" y="7218"/>
                </a:cubicBezTo>
                <a:cubicBezTo>
                  <a:pt x="21578" y="7264"/>
                  <a:pt x="21595" y="7283"/>
                  <a:pt x="21630" y="7317"/>
                </a:cubicBezTo>
              </a:path>
              <a:path w="1961" h="1613">
                <a:moveTo>
                  <a:pt x="22076" y="6251"/>
                </a:moveTo>
                <a:cubicBezTo>
                  <a:pt x="22123" y="6251"/>
                  <a:pt x="22139" y="6234"/>
                  <a:pt x="22175" y="6226"/>
                </a:cubicBezTo>
                <a:cubicBezTo>
                  <a:pt x="22250" y="6210"/>
                  <a:pt x="22346" y="6226"/>
                  <a:pt x="22423" y="6226"/>
                </a:cubicBezTo>
              </a:path>
              <a:path w="1961" h="1613">
                <a:moveTo>
                  <a:pt x="22796" y="6028"/>
                </a:moveTo>
                <a:cubicBezTo>
                  <a:pt x="22796" y="5971"/>
                  <a:pt x="22773" y="6067"/>
                  <a:pt x="22771" y="6077"/>
                </a:cubicBezTo>
                <a:cubicBezTo>
                  <a:pt x="22756" y="6145"/>
                  <a:pt x="22750" y="6232"/>
                  <a:pt x="22746" y="6300"/>
                </a:cubicBezTo>
                <a:cubicBezTo>
                  <a:pt x="22746" y="6317"/>
                  <a:pt x="22746" y="6333"/>
                  <a:pt x="22746" y="6350"/>
                </a:cubicBezTo>
              </a:path>
              <a:path w="1961" h="1613">
                <a:moveTo>
                  <a:pt x="22299" y="6672"/>
                </a:moveTo>
                <a:cubicBezTo>
                  <a:pt x="22307" y="6664"/>
                  <a:pt x="22316" y="6656"/>
                  <a:pt x="22324" y="6648"/>
                </a:cubicBezTo>
                <a:cubicBezTo>
                  <a:pt x="22305" y="6654"/>
                  <a:pt x="22264" y="6691"/>
                  <a:pt x="22250" y="6722"/>
                </a:cubicBezTo>
                <a:cubicBezTo>
                  <a:pt x="22239" y="6748"/>
                  <a:pt x="22243" y="6836"/>
                  <a:pt x="22275" y="6846"/>
                </a:cubicBezTo>
                <a:cubicBezTo>
                  <a:pt x="22330" y="6863"/>
                  <a:pt x="22376" y="6858"/>
                  <a:pt x="22423" y="6896"/>
                </a:cubicBezTo>
                <a:cubicBezTo>
                  <a:pt x="22458" y="6924"/>
                  <a:pt x="22448" y="6954"/>
                  <a:pt x="22448" y="6995"/>
                </a:cubicBezTo>
                <a:cubicBezTo>
                  <a:pt x="22448" y="7020"/>
                  <a:pt x="22448" y="7028"/>
                  <a:pt x="22448" y="7045"/>
                </a:cubicBezTo>
                <a:cubicBezTo>
                  <a:pt x="22382" y="7045"/>
                  <a:pt x="22316" y="7045"/>
                  <a:pt x="22250" y="7045"/>
                </a:cubicBezTo>
              </a:path>
              <a:path w="1961" h="1613">
                <a:moveTo>
                  <a:pt x="22523" y="6697"/>
                </a:moveTo>
                <a:cubicBezTo>
                  <a:pt x="22582" y="6671"/>
                  <a:pt x="22620" y="6672"/>
                  <a:pt x="22547" y="6672"/>
                </a:cubicBezTo>
                <a:cubicBezTo>
                  <a:pt x="22506" y="6672"/>
                  <a:pt x="22464" y="6672"/>
                  <a:pt x="22423" y="6672"/>
                </a:cubicBezTo>
              </a:path>
              <a:path w="1961" h="1613">
                <a:moveTo>
                  <a:pt x="23168" y="5705"/>
                </a:moveTo>
                <a:cubicBezTo>
                  <a:pt x="23154" y="5753"/>
                  <a:pt x="23143" y="5746"/>
                  <a:pt x="23168" y="5779"/>
                </a:cubicBezTo>
                <a:cubicBezTo>
                  <a:pt x="23204" y="5826"/>
                  <a:pt x="23238" y="5851"/>
                  <a:pt x="23267" y="5904"/>
                </a:cubicBezTo>
                <a:cubicBezTo>
                  <a:pt x="23315" y="5993"/>
                  <a:pt x="23351" y="6084"/>
                  <a:pt x="23391" y="6176"/>
                </a:cubicBezTo>
                <a:cubicBezTo>
                  <a:pt x="23425" y="6254"/>
                  <a:pt x="23430" y="6363"/>
                  <a:pt x="23416" y="6449"/>
                </a:cubicBezTo>
                <a:cubicBezTo>
                  <a:pt x="23398" y="6560"/>
                  <a:pt x="23345" y="6676"/>
                  <a:pt x="23292" y="6772"/>
                </a:cubicBezTo>
                <a:cubicBezTo>
                  <a:pt x="23223" y="6897"/>
                  <a:pt x="23123" y="7003"/>
                  <a:pt x="23044" y="7119"/>
                </a:cubicBezTo>
                <a:cubicBezTo>
                  <a:pt x="23016" y="7160"/>
                  <a:pt x="23004" y="7183"/>
                  <a:pt x="22969" y="7218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813280" y="2946240"/>
            <a:ext cx="108000" cy="81000"/>
          </a:xfrm>
          <a:custGeom>
            <a:avLst/>
            <a:gdLst/>
            <a:ahLst/>
            <a:rect l="l" t="t" r="r" b="b"/>
            <a:pathLst>
              <a:path w="299" h="224">
                <a:moveTo>
                  <a:pt x="16396" y="8235"/>
                </a:moveTo>
                <a:cubicBezTo>
                  <a:pt x="16421" y="8235"/>
                  <a:pt x="16429" y="8235"/>
                  <a:pt x="16446" y="8235"/>
                </a:cubicBezTo>
                <a:cubicBezTo>
                  <a:pt x="16433" y="8195"/>
                  <a:pt x="16398" y="8190"/>
                  <a:pt x="16346" y="8186"/>
                </a:cubicBezTo>
                <a:cubicBezTo>
                  <a:pt x="16281" y="8181"/>
                  <a:pt x="16213" y="8186"/>
                  <a:pt x="16148" y="8186"/>
                </a:cubicBezTo>
              </a:path>
              <a:path w="299" h="224">
                <a:moveTo>
                  <a:pt x="16421" y="8409"/>
                </a:moveTo>
                <a:cubicBezTo>
                  <a:pt x="16429" y="8409"/>
                  <a:pt x="16438" y="8409"/>
                  <a:pt x="16446" y="8409"/>
                </a:cubicBezTo>
                <a:cubicBezTo>
                  <a:pt x="16355" y="8409"/>
                  <a:pt x="16264" y="8409"/>
                  <a:pt x="16173" y="8409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205680" y="2732040"/>
            <a:ext cx="492120" cy="563760"/>
          </a:xfrm>
          <a:custGeom>
            <a:avLst/>
            <a:gdLst/>
            <a:ahLst/>
            <a:rect l="l" t="t" r="r" b="b"/>
            <a:pathLst>
              <a:path w="1366" h="1564">
                <a:moveTo>
                  <a:pt x="17959" y="7913"/>
                </a:moveTo>
                <a:cubicBezTo>
                  <a:pt x="18011" y="7913"/>
                  <a:pt x="18008" y="7915"/>
                  <a:pt x="18008" y="7863"/>
                </a:cubicBezTo>
                <a:cubicBezTo>
                  <a:pt x="18008" y="7855"/>
                  <a:pt x="18008" y="7846"/>
                  <a:pt x="18008" y="7838"/>
                </a:cubicBezTo>
                <a:cubicBezTo>
                  <a:pt x="17971" y="7847"/>
                  <a:pt x="17933" y="7877"/>
                  <a:pt x="17909" y="7913"/>
                </a:cubicBezTo>
                <a:cubicBezTo>
                  <a:pt x="17878" y="7961"/>
                  <a:pt x="17820" y="8055"/>
                  <a:pt x="17810" y="8111"/>
                </a:cubicBezTo>
                <a:cubicBezTo>
                  <a:pt x="17796" y="8190"/>
                  <a:pt x="17814" y="8269"/>
                  <a:pt x="17859" y="8334"/>
                </a:cubicBezTo>
                <a:cubicBezTo>
                  <a:pt x="17906" y="8403"/>
                  <a:pt x="17938" y="8379"/>
                  <a:pt x="17983" y="8334"/>
                </a:cubicBezTo>
                <a:cubicBezTo>
                  <a:pt x="18015" y="8303"/>
                  <a:pt x="18031" y="8241"/>
                  <a:pt x="17983" y="8210"/>
                </a:cubicBezTo>
                <a:cubicBezTo>
                  <a:pt x="17953" y="8191"/>
                  <a:pt x="17846" y="8210"/>
                  <a:pt x="17810" y="8210"/>
                </a:cubicBezTo>
              </a:path>
              <a:path w="1366" h="1564">
                <a:moveTo>
                  <a:pt x="17785" y="8682"/>
                </a:moveTo>
                <a:cubicBezTo>
                  <a:pt x="17773" y="8729"/>
                  <a:pt x="17744" y="8777"/>
                  <a:pt x="17735" y="8830"/>
                </a:cubicBezTo>
                <a:cubicBezTo>
                  <a:pt x="17727" y="8877"/>
                  <a:pt x="17735" y="8932"/>
                  <a:pt x="17785" y="8954"/>
                </a:cubicBezTo>
                <a:cubicBezTo>
                  <a:pt x="17837" y="8976"/>
                  <a:pt x="17895" y="8937"/>
                  <a:pt x="17934" y="8930"/>
                </a:cubicBezTo>
                <a:cubicBezTo>
                  <a:pt x="17975" y="8922"/>
                  <a:pt x="18127" y="8914"/>
                  <a:pt x="18132" y="8954"/>
                </a:cubicBezTo>
                <a:cubicBezTo>
                  <a:pt x="18132" y="8962"/>
                  <a:pt x="18132" y="8971"/>
                  <a:pt x="18132" y="8979"/>
                </a:cubicBezTo>
              </a:path>
              <a:path w="1366" h="1564">
                <a:moveTo>
                  <a:pt x="17983" y="8855"/>
                </a:moveTo>
                <a:cubicBezTo>
                  <a:pt x="17983" y="8847"/>
                  <a:pt x="17983" y="8838"/>
                  <a:pt x="17983" y="8830"/>
                </a:cubicBezTo>
                <a:cubicBezTo>
                  <a:pt x="17935" y="8847"/>
                  <a:pt x="17951" y="8904"/>
                  <a:pt x="17934" y="8954"/>
                </a:cubicBezTo>
                <a:cubicBezTo>
                  <a:pt x="17913" y="9017"/>
                  <a:pt x="17909" y="9060"/>
                  <a:pt x="17909" y="9128"/>
                </a:cubicBezTo>
              </a:path>
              <a:path w="1366" h="1564">
                <a:moveTo>
                  <a:pt x="18479" y="7913"/>
                </a:moveTo>
                <a:cubicBezTo>
                  <a:pt x="18538" y="7971"/>
                  <a:pt x="18524" y="8006"/>
                  <a:pt x="18554" y="8086"/>
                </a:cubicBezTo>
                <a:cubicBezTo>
                  <a:pt x="18600" y="8207"/>
                  <a:pt x="18621" y="8325"/>
                  <a:pt x="18604" y="8458"/>
                </a:cubicBezTo>
                <a:cubicBezTo>
                  <a:pt x="18586" y="8595"/>
                  <a:pt x="18538" y="8757"/>
                  <a:pt x="18479" y="8880"/>
                </a:cubicBezTo>
                <a:cubicBezTo>
                  <a:pt x="18423" y="8995"/>
                  <a:pt x="18365" y="9030"/>
                  <a:pt x="18256" y="9079"/>
                </a:cubicBezTo>
              </a:path>
              <a:path w="1366" h="1564">
                <a:moveTo>
                  <a:pt x="17587" y="7615"/>
                </a:moveTo>
                <a:cubicBezTo>
                  <a:pt x="17622" y="7578"/>
                  <a:pt x="17610" y="7607"/>
                  <a:pt x="17587" y="7640"/>
                </a:cubicBezTo>
                <a:cubicBezTo>
                  <a:pt x="17543" y="7703"/>
                  <a:pt x="17498" y="7768"/>
                  <a:pt x="17462" y="7838"/>
                </a:cubicBezTo>
                <a:cubicBezTo>
                  <a:pt x="17404" y="7951"/>
                  <a:pt x="17348" y="8065"/>
                  <a:pt x="17314" y="8186"/>
                </a:cubicBezTo>
                <a:cubicBezTo>
                  <a:pt x="17270" y="8342"/>
                  <a:pt x="17243" y="8496"/>
                  <a:pt x="17239" y="8657"/>
                </a:cubicBezTo>
                <a:cubicBezTo>
                  <a:pt x="17236" y="8813"/>
                  <a:pt x="17209" y="9008"/>
                  <a:pt x="17264" y="9153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840360" y="3054240"/>
            <a:ext cx="106560" cy="9720"/>
          </a:xfrm>
          <a:custGeom>
            <a:avLst/>
            <a:gdLst/>
            <a:ahLst/>
            <a:rect l="l" t="t" r="r" b="b"/>
            <a:pathLst>
              <a:path w="299" h="26">
                <a:moveTo>
                  <a:pt x="19000" y="8483"/>
                </a:moveTo>
                <a:cubicBezTo>
                  <a:pt x="19075" y="8483"/>
                  <a:pt x="19129" y="8492"/>
                  <a:pt x="19199" y="8508"/>
                </a:cubicBezTo>
                <a:cubicBezTo>
                  <a:pt x="19243" y="8518"/>
                  <a:pt x="19287" y="8515"/>
                  <a:pt x="19298" y="8483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072200" y="2840040"/>
            <a:ext cx="563760" cy="598320"/>
          </a:xfrm>
          <a:custGeom>
            <a:avLst/>
            <a:gdLst/>
            <a:ahLst/>
            <a:rect l="l" t="t" r="r" b="b"/>
            <a:pathLst>
              <a:path w="1564" h="1663">
                <a:moveTo>
                  <a:pt x="19968" y="7938"/>
                </a:moveTo>
                <a:cubicBezTo>
                  <a:pt x="19988" y="7898"/>
                  <a:pt x="19986" y="7881"/>
                  <a:pt x="20017" y="7888"/>
                </a:cubicBezTo>
                <a:cubicBezTo>
                  <a:pt x="19947" y="8016"/>
                  <a:pt x="19847" y="8122"/>
                  <a:pt x="19794" y="8260"/>
                </a:cubicBezTo>
                <a:cubicBezTo>
                  <a:pt x="19715" y="8466"/>
                  <a:pt x="19661" y="8710"/>
                  <a:pt x="19645" y="8930"/>
                </a:cubicBezTo>
                <a:cubicBezTo>
                  <a:pt x="19635" y="9063"/>
                  <a:pt x="19665" y="9175"/>
                  <a:pt x="19670" y="9302"/>
                </a:cubicBezTo>
                <a:cubicBezTo>
                  <a:pt x="19674" y="9398"/>
                  <a:pt x="19667" y="9382"/>
                  <a:pt x="19745" y="9426"/>
                </a:cubicBezTo>
              </a:path>
              <a:path w="1564" h="1663">
                <a:moveTo>
                  <a:pt x="20315" y="8235"/>
                </a:moveTo>
                <a:cubicBezTo>
                  <a:pt x="20292" y="8212"/>
                  <a:pt x="20288" y="8204"/>
                  <a:pt x="20265" y="8210"/>
                </a:cubicBezTo>
                <a:cubicBezTo>
                  <a:pt x="20278" y="8250"/>
                  <a:pt x="20314" y="8235"/>
                  <a:pt x="20365" y="8235"/>
                </a:cubicBezTo>
                <a:cubicBezTo>
                  <a:pt x="20417" y="8235"/>
                  <a:pt x="20457" y="8210"/>
                  <a:pt x="20513" y="8210"/>
                </a:cubicBezTo>
                <a:cubicBezTo>
                  <a:pt x="20521" y="8210"/>
                  <a:pt x="20530" y="8210"/>
                  <a:pt x="20538" y="8210"/>
                </a:cubicBezTo>
              </a:path>
              <a:path w="1564" h="1663">
                <a:moveTo>
                  <a:pt x="20786" y="8086"/>
                </a:moveTo>
                <a:cubicBezTo>
                  <a:pt x="20830" y="7985"/>
                  <a:pt x="20795" y="8018"/>
                  <a:pt x="20786" y="8086"/>
                </a:cubicBezTo>
                <a:cubicBezTo>
                  <a:pt x="20772" y="8186"/>
                  <a:pt x="20762" y="8281"/>
                  <a:pt x="20762" y="8384"/>
                </a:cubicBezTo>
                <a:cubicBezTo>
                  <a:pt x="20762" y="8401"/>
                  <a:pt x="20762" y="8417"/>
                  <a:pt x="20762" y="8434"/>
                </a:cubicBezTo>
              </a:path>
              <a:path w="1564" h="1663">
                <a:moveTo>
                  <a:pt x="20241" y="8880"/>
                </a:moveTo>
                <a:cubicBezTo>
                  <a:pt x="20249" y="8872"/>
                  <a:pt x="20257" y="8863"/>
                  <a:pt x="20265" y="8855"/>
                </a:cubicBezTo>
                <a:cubicBezTo>
                  <a:pt x="20214" y="8894"/>
                  <a:pt x="20197" y="8879"/>
                  <a:pt x="20191" y="8954"/>
                </a:cubicBezTo>
                <a:cubicBezTo>
                  <a:pt x="20188" y="8994"/>
                  <a:pt x="20196" y="9063"/>
                  <a:pt x="20241" y="9079"/>
                </a:cubicBezTo>
                <a:cubicBezTo>
                  <a:pt x="20280" y="9093"/>
                  <a:pt x="20366" y="9080"/>
                  <a:pt x="20389" y="9128"/>
                </a:cubicBezTo>
                <a:cubicBezTo>
                  <a:pt x="20405" y="9161"/>
                  <a:pt x="20384" y="9205"/>
                  <a:pt x="20365" y="9227"/>
                </a:cubicBezTo>
                <a:cubicBezTo>
                  <a:pt x="20328" y="9269"/>
                  <a:pt x="20269" y="9252"/>
                  <a:pt x="20216" y="9252"/>
                </a:cubicBezTo>
                <a:cubicBezTo>
                  <a:pt x="20199" y="9252"/>
                  <a:pt x="20183" y="9252"/>
                  <a:pt x="20166" y="9252"/>
                </a:cubicBezTo>
              </a:path>
              <a:path w="1564" h="1663">
                <a:moveTo>
                  <a:pt x="20389" y="8979"/>
                </a:moveTo>
                <a:cubicBezTo>
                  <a:pt x="20542" y="8928"/>
                  <a:pt x="20404" y="8979"/>
                  <a:pt x="20340" y="8979"/>
                </a:cubicBezTo>
              </a:path>
              <a:path w="1564" h="1663">
                <a:moveTo>
                  <a:pt x="20960" y="7913"/>
                </a:moveTo>
                <a:cubicBezTo>
                  <a:pt x="21011" y="7920"/>
                  <a:pt x="21046" y="7926"/>
                  <a:pt x="21084" y="7962"/>
                </a:cubicBezTo>
                <a:cubicBezTo>
                  <a:pt x="21159" y="8032"/>
                  <a:pt x="21197" y="8103"/>
                  <a:pt x="21208" y="8210"/>
                </a:cubicBezTo>
                <a:cubicBezTo>
                  <a:pt x="21228" y="8412"/>
                  <a:pt x="21203" y="8633"/>
                  <a:pt x="21158" y="8830"/>
                </a:cubicBezTo>
                <a:cubicBezTo>
                  <a:pt x="21125" y="8973"/>
                  <a:pt x="21073" y="9203"/>
                  <a:pt x="20985" y="9327"/>
                </a:cubicBezTo>
                <a:cubicBezTo>
                  <a:pt x="20928" y="9407"/>
                  <a:pt x="20832" y="9479"/>
                  <a:pt x="20762" y="9550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7831080" y="3027240"/>
            <a:ext cx="115920" cy="88920"/>
          </a:xfrm>
          <a:custGeom>
            <a:avLst/>
            <a:gdLst/>
            <a:ahLst/>
            <a:rect l="l" t="t" r="r" b="b"/>
            <a:pathLst>
              <a:path w="323" h="249">
                <a:moveTo>
                  <a:pt x="22002" y="8409"/>
                </a:moveTo>
                <a:cubicBezTo>
                  <a:pt x="21958" y="8409"/>
                  <a:pt x="21917" y="8419"/>
                  <a:pt x="21878" y="8434"/>
                </a:cubicBezTo>
                <a:cubicBezTo>
                  <a:pt x="21835" y="8451"/>
                  <a:pt x="21796" y="8504"/>
                  <a:pt x="21754" y="8483"/>
                </a:cubicBezTo>
                <a:cubicBezTo>
                  <a:pt x="21754" y="8475"/>
                  <a:pt x="21754" y="8466"/>
                  <a:pt x="21754" y="8458"/>
                </a:cubicBezTo>
              </a:path>
              <a:path w="323" h="249">
                <a:moveTo>
                  <a:pt x="22051" y="8607"/>
                </a:moveTo>
                <a:cubicBezTo>
                  <a:pt x="22074" y="8630"/>
                  <a:pt x="22082" y="8634"/>
                  <a:pt x="22076" y="8657"/>
                </a:cubicBezTo>
                <a:cubicBezTo>
                  <a:pt x="21977" y="8657"/>
                  <a:pt x="21878" y="8657"/>
                  <a:pt x="21779" y="8657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8099280" y="2919240"/>
            <a:ext cx="554040" cy="590760"/>
          </a:xfrm>
          <a:custGeom>
            <a:avLst/>
            <a:gdLst/>
            <a:ahLst/>
            <a:rect l="l" t="t" r="r" b="b"/>
            <a:pathLst>
              <a:path w="1539" h="1638">
                <a:moveTo>
                  <a:pt x="23068" y="9227"/>
                </a:moveTo>
                <a:cubicBezTo>
                  <a:pt x="23136" y="9227"/>
                  <a:pt x="23349" y="9200"/>
                  <a:pt x="23366" y="9252"/>
                </a:cubicBezTo>
              </a:path>
              <a:path w="1539" h="1638">
                <a:moveTo>
                  <a:pt x="23614" y="9178"/>
                </a:moveTo>
                <a:cubicBezTo>
                  <a:pt x="23621" y="9157"/>
                  <a:pt x="23639" y="9110"/>
                  <a:pt x="23639" y="9153"/>
                </a:cubicBezTo>
                <a:cubicBezTo>
                  <a:pt x="23639" y="9232"/>
                  <a:pt x="23598" y="9298"/>
                  <a:pt x="23589" y="9376"/>
                </a:cubicBezTo>
                <a:cubicBezTo>
                  <a:pt x="23582" y="9440"/>
                  <a:pt x="23589" y="9510"/>
                  <a:pt x="23589" y="9575"/>
                </a:cubicBezTo>
              </a:path>
              <a:path w="1539" h="1638">
                <a:moveTo>
                  <a:pt x="22920" y="8483"/>
                </a:moveTo>
                <a:cubicBezTo>
                  <a:pt x="22860" y="8453"/>
                  <a:pt x="22968" y="8458"/>
                  <a:pt x="22994" y="8458"/>
                </a:cubicBezTo>
                <a:cubicBezTo>
                  <a:pt x="23060" y="8458"/>
                  <a:pt x="23122" y="8483"/>
                  <a:pt x="23192" y="8483"/>
                </a:cubicBezTo>
                <a:cubicBezTo>
                  <a:pt x="23238" y="8483"/>
                  <a:pt x="23315" y="8512"/>
                  <a:pt x="23341" y="8558"/>
                </a:cubicBezTo>
                <a:cubicBezTo>
                  <a:pt x="23353" y="8580"/>
                  <a:pt x="23279" y="8683"/>
                  <a:pt x="23267" y="8706"/>
                </a:cubicBezTo>
                <a:cubicBezTo>
                  <a:pt x="23231" y="8778"/>
                  <a:pt x="23172" y="8859"/>
                  <a:pt x="23143" y="8930"/>
                </a:cubicBezTo>
                <a:cubicBezTo>
                  <a:pt x="23128" y="8966"/>
                  <a:pt x="23143" y="9038"/>
                  <a:pt x="23143" y="9079"/>
                </a:cubicBezTo>
              </a:path>
              <a:path w="1539" h="1638">
                <a:moveTo>
                  <a:pt x="23465" y="8136"/>
                </a:moveTo>
                <a:cubicBezTo>
                  <a:pt x="23465" y="8111"/>
                  <a:pt x="23465" y="8103"/>
                  <a:pt x="23490" y="8111"/>
                </a:cubicBezTo>
                <a:cubicBezTo>
                  <a:pt x="23521" y="8132"/>
                  <a:pt x="23536" y="8133"/>
                  <a:pt x="23589" y="8161"/>
                </a:cubicBezTo>
                <a:cubicBezTo>
                  <a:pt x="23626" y="8181"/>
                  <a:pt x="23653" y="8200"/>
                  <a:pt x="23688" y="8235"/>
                </a:cubicBezTo>
                <a:cubicBezTo>
                  <a:pt x="23756" y="8303"/>
                  <a:pt x="23797" y="8373"/>
                  <a:pt x="23837" y="8458"/>
                </a:cubicBezTo>
                <a:cubicBezTo>
                  <a:pt x="23877" y="8541"/>
                  <a:pt x="23947" y="8611"/>
                  <a:pt x="23961" y="8706"/>
                </a:cubicBezTo>
                <a:cubicBezTo>
                  <a:pt x="23975" y="8803"/>
                  <a:pt x="24016" y="8886"/>
                  <a:pt x="24036" y="8979"/>
                </a:cubicBezTo>
                <a:cubicBezTo>
                  <a:pt x="24053" y="9060"/>
                  <a:pt x="24023" y="9130"/>
                  <a:pt x="24011" y="9203"/>
                </a:cubicBezTo>
                <a:cubicBezTo>
                  <a:pt x="23996" y="9293"/>
                  <a:pt x="23972" y="9355"/>
                  <a:pt x="23912" y="9426"/>
                </a:cubicBezTo>
                <a:cubicBezTo>
                  <a:pt x="23858" y="9490"/>
                  <a:pt x="23804" y="9550"/>
                  <a:pt x="23763" y="9624"/>
                </a:cubicBezTo>
                <a:cubicBezTo>
                  <a:pt x="23738" y="9669"/>
                  <a:pt x="23720" y="9708"/>
                  <a:pt x="23688" y="9748"/>
                </a:cubicBezTo>
              </a:path>
              <a:path w="1539" h="1638">
                <a:moveTo>
                  <a:pt x="22944" y="8111"/>
                </a:moveTo>
                <a:cubicBezTo>
                  <a:pt x="22928" y="8144"/>
                  <a:pt x="22946" y="8135"/>
                  <a:pt x="22920" y="8161"/>
                </a:cubicBezTo>
                <a:cubicBezTo>
                  <a:pt x="22870" y="8211"/>
                  <a:pt x="22840" y="8281"/>
                  <a:pt x="22796" y="8334"/>
                </a:cubicBezTo>
                <a:cubicBezTo>
                  <a:pt x="22730" y="8414"/>
                  <a:pt x="22697" y="8492"/>
                  <a:pt x="22647" y="8582"/>
                </a:cubicBezTo>
                <a:cubicBezTo>
                  <a:pt x="22590" y="8684"/>
                  <a:pt x="22518" y="8787"/>
                  <a:pt x="22498" y="8905"/>
                </a:cubicBezTo>
                <a:cubicBezTo>
                  <a:pt x="22471" y="9064"/>
                  <a:pt x="22503" y="9247"/>
                  <a:pt x="22523" y="9401"/>
                </a:cubicBezTo>
                <a:cubicBezTo>
                  <a:pt x="22533" y="9477"/>
                  <a:pt x="22558" y="9511"/>
                  <a:pt x="22597" y="9575"/>
                </a:cubicBezTo>
                <a:cubicBezTo>
                  <a:pt x="22605" y="9591"/>
                  <a:pt x="22614" y="9608"/>
                  <a:pt x="22622" y="9624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929200" y="4680000"/>
            <a:ext cx="135000" cy="133200"/>
          </a:xfrm>
          <a:custGeom>
            <a:avLst/>
            <a:gdLst/>
            <a:ahLst/>
            <a:rect l="l" t="t" r="r" b="b"/>
            <a:pathLst>
              <a:path w="373" h="373">
                <a:moveTo>
                  <a:pt x="16842" y="13022"/>
                </a:moveTo>
                <a:cubicBezTo>
                  <a:pt x="16842" y="13014"/>
                  <a:pt x="16842" y="13006"/>
                  <a:pt x="16842" y="12998"/>
                </a:cubicBezTo>
                <a:cubicBezTo>
                  <a:pt x="16802" y="13038"/>
                  <a:pt x="16756" y="13091"/>
                  <a:pt x="16718" y="13122"/>
                </a:cubicBezTo>
                <a:cubicBezTo>
                  <a:pt x="16658" y="13170"/>
                  <a:pt x="16640" y="13209"/>
                  <a:pt x="16594" y="13271"/>
                </a:cubicBezTo>
                <a:cubicBezTo>
                  <a:pt x="16563" y="13312"/>
                  <a:pt x="16516" y="13359"/>
                  <a:pt x="16470" y="13370"/>
                </a:cubicBezTo>
              </a:path>
              <a:path w="373" h="373">
                <a:moveTo>
                  <a:pt x="16718" y="13295"/>
                </a:moveTo>
                <a:cubicBezTo>
                  <a:pt x="16735" y="13273"/>
                  <a:pt x="16762" y="13230"/>
                  <a:pt x="16743" y="13196"/>
                </a:cubicBezTo>
                <a:cubicBezTo>
                  <a:pt x="16710" y="13136"/>
                  <a:pt x="16642" y="13112"/>
                  <a:pt x="16594" y="13072"/>
                </a:cubicBezTo>
                <a:cubicBezTo>
                  <a:pt x="16543" y="13029"/>
                  <a:pt x="16540" y="13030"/>
                  <a:pt x="16495" y="12998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8974080" y="5062680"/>
            <a:ext cx="162000" cy="171360"/>
          </a:xfrm>
          <a:custGeom>
            <a:avLst/>
            <a:gdLst/>
            <a:ahLst/>
            <a:rect l="l" t="t" r="r" b="b"/>
            <a:pathLst>
              <a:path w="447" h="473">
                <a:moveTo>
                  <a:pt x="25177" y="14312"/>
                </a:moveTo>
                <a:cubicBezTo>
                  <a:pt x="25249" y="14312"/>
                  <a:pt x="25196" y="14290"/>
                  <a:pt x="25251" y="14263"/>
                </a:cubicBezTo>
                <a:cubicBezTo>
                  <a:pt x="25277" y="14250"/>
                  <a:pt x="25307" y="14240"/>
                  <a:pt x="25326" y="14238"/>
                </a:cubicBezTo>
                <a:cubicBezTo>
                  <a:pt x="25350" y="14238"/>
                  <a:pt x="25359" y="14238"/>
                  <a:pt x="25375" y="14238"/>
                </a:cubicBezTo>
                <a:cubicBezTo>
                  <a:pt x="25357" y="14201"/>
                  <a:pt x="25322" y="14261"/>
                  <a:pt x="25276" y="14288"/>
                </a:cubicBezTo>
                <a:cubicBezTo>
                  <a:pt x="25200" y="14333"/>
                  <a:pt x="25157" y="14346"/>
                  <a:pt x="25102" y="14412"/>
                </a:cubicBezTo>
                <a:cubicBezTo>
                  <a:pt x="25074" y="14445"/>
                  <a:pt x="24984" y="14525"/>
                  <a:pt x="25003" y="14486"/>
                </a:cubicBezTo>
                <a:cubicBezTo>
                  <a:pt x="25027" y="14439"/>
                  <a:pt x="25091" y="14421"/>
                  <a:pt x="25127" y="14387"/>
                </a:cubicBezTo>
                <a:cubicBezTo>
                  <a:pt x="25192" y="14326"/>
                  <a:pt x="25295" y="14277"/>
                  <a:pt x="25350" y="14213"/>
                </a:cubicBezTo>
                <a:cubicBezTo>
                  <a:pt x="25384" y="14174"/>
                  <a:pt x="25375" y="14012"/>
                  <a:pt x="25375" y="14064"/>
                </a:cubicBezTo>
                <a:cubicBezTo>
                  <a:pt x="25375" y="14097"/>
                  <a:pt x="25375" y="14130"/>
                  <a:pt x="25375" y="14163"/>
                </a:cubicBezTo>
              </a:path>
              <a:path w="447" h="473">
                <a:moveTo>
                  <a:pt x="25375" y="14536"/>
                </a:moveTo>
                <a:cubicBezTo>
                  <a:pt x="25375" y="14490"/>
                  <a:pt x="25381" y="14471"/>
                  <a:pt x="25350" y="14436"/>
                </a:cubicBezTo>
                <a:cubicBezTo>
                  <a:pt x="25304" y="14384"/>
                  <a:pt x="25230" y="14378"/>
                  <a:pt x="25177" y="14337"/>
                </a:cubicBezTo>
                <a:cubicBezTo>
                  <a:pt x="25121" y="14294"/>
                  <a:pt x="25055" y="14260"/>
                  <a:pt x="25003" y="14213"/>
                </a:cubicBezTo>
                <a:cubicBezTo>
                  <a:pt x="24972" y="14185"/>
                  <a:pt x="24967" y="14173"/>
                  <a:pt x="24929" y="14163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983200" y="4697280"/>
            <a:ext cx="2928960" cy="393840"/>
          </a:xfrm>
          <a:custGeom>
            <a:avLst/>
            <a:gdLst/>
            <a:ahLst/>
            <a:rect l="l" t="t" r="r" b="b"/>
            <a:pathLst>
              <a:path w="8137" h="1093">
                <a:moveTo>
                  <a:pt x="16619" y="13047"/>
                </a:moveTo>
                <a:cubicBezTo>
                  <a:pt x="16655" y="13054"/>
                  <a:pt x="16646" y="13062"/>
                  <a:pt x="16694" y="13072"/>
                </a:cubicBezTo>
                <a:cubicBezTo>
                  <a:pt x="16735" y="13081"/>
                  <a:pt x="16782" y="13094"/>
                  <a:pt x="16818" y="13097"/>
                </a:cubicBezTo>
                <a:cubicBezTo>
                  <a:pt x="16899" y="13104"/>
                  <a:pt x="16968" y="13117"/>
                  <a:pt x="17041" y="13122"/>
                </a:cubicBezTo>
                <a:cubicBezTo>
                  <a:pt x="17104" y="13127"/>
                  <a:pt x="17190" y="13100"/>
                  <a:pt x="17214" y="13097"/>
                </a:cubicBezTo>
                <a:cubicBezTo>
                  <a:pt x="17252" y="13092"/>
                  <a:pt x="17272" y="13077"/>
                  <a:pt x="17314" y="13072"/>
                </a:cubicBezTo>
                <a:cubicBezTo>
                  <a:pt x="17463" y="13054"/>
                  <a:pt x="17628" y="13090"/>
                  <a:pt x="17760" y="13097"/>
                </a:cubicBezTo>
                <a:cubicBezTo>
                  <a:pt x="17857" y="13102"/>
                  <a:pt x="17941" y="13107"/>
                  <a:pt x="18033" y="13122"/>
                </a:cubicBezTo>
                <a:cubicBezTo>
                  <a:pt x="18107" y="13134"/>
                  <a:pt x="18178" y="13137"/>
                  <a:pt x="18256" y="13146"/>
                </a:cubicBezTo>
                <a:cubicBezTo>
                  <a:pt x="18331" y="13154"/>
                  <a:pt x="18405" y="13167"/>
                  <a:pt x="18479" y="13171"/>
                </a:cubicBezTo>
                <a:cubicBezTo>
                  <a:pt x="18570" y="13176"/>
                  <a:pt x="18701" y="13136"/>
                  <a:pt x="18777" y="13146"/>
                </a:cubicBezTo>
                <a:cubicBezTo>
                  <a:pt x="18865" y="13157"/>
                  <a:pt x="18940" y="13203"/>
                  <a:pt x="19025" y="13221"/>
                </a:cubicBezTo>
                <a:cubicBezTo>
                  <a:pt x="19091" y="13235"/>
                  <a:pt x="19159" y="13227"/>
                  <a:pt x="19224" y="13246"/>
                </a:cubicBezTo>
                <a:cubicBezTo>
                  <a:pt x="19343" y="13281"/>
                  <a:pt x="19434" y="13360"/>
                  <a:pt x="19546" y="13395"/>
                </a:cubicBezTo>
                <a:cubicBezTo>
                  <a:pt x="19629" y="13421"/>
                  <a:pt x="19737" y="13418"/>
                  <a:pt x="19819" y="13444"/>
                </a:cubicBezTo>
                <a:cubicBezTo>
                  <a:pt x="19904" y="13471"/>
                  <a:pt x="19982" y="13518"/>
                  <a:pt x="20067" y="13543"/>
                </a:cubicBezTo>
                <a:cubicBezTo>
                  <a:pt x="20153" y="13569"/>
                  <a:pt x="20235" y="13588"/>
                  <a:pt x="20315" y="13618"/>
                </a:cubicBezTo>
                <a:cubicBezTo>
                  <a:pt x="20392" y="13647"/>
                  <a:pt x="20459" y="13681"/>
                  <a:pt x="20538" y="13692"/>
                </a:cubicBezTo>
                <a:cubicBezTo>
                  <a:pt x="20629" y="13705"/>
                  <a:pt x="20702" y="13664"/>
                  <a:pt x="20786" y="13667"/>
                </a:cubicBezTo>
                <a:cubicBezTo>
                  <a:pt x="20872" y="13670"/>
                  <a:pt x="20929" y="13710"/>
                  <a:pt x="21010" y="13717"/>
                </a:cubicBezTo>
                <a:cubicBezTo>
                  <a:pt x="21103" y="13725"/>
                  <a:pt x="21228" y="13738"/>
                  <a:pt x="21307" y="13742"/>
                </a:cubicBezTo>
                <a:cubicBezTo>
                  <a:pt x="21491" y="13751"/>
                  <a:pt x="21674" y="13758"/>
                  <a:pt x="21853" y="13767"/>
                </a:cubicBezTo>
                <a:cubicBezTo>
                  <a:pt x="21927" y="13771"/>
                  <a:pt x="21989" y="13776"/>
                  <a:pt x="22051" y="13791"/>
                </a:cubicBezTo>
                <a:cubicBezTo>
                  <a:pt x="22120" y="13808"/>
                  <a:pt x="22178" y="13834"/>
                  <a:pt x="22250" y="13841"/>
                </a:cubicBezTo>
                <a:cubicBezTo>
                  <a:pt x="22438" y="13859"/>
                  <a:pt x="22645" y="13841"/>
                  <a:pt x="22820" y="13866"/>
                </a:cubicBezTo>
                <a:cubicBezTo>
                  <a:pt x="22881" y="13875"/>
                  <a:pt x="22936" y="13882"/>
                  <a:pt x="22994" y="13891"/>
                </a:cubicBezTo>
                <a:cubicBezTo>
                  <a:pt x="23023" y="13895"/>
                  <a:pt x="23098" y="13914"/>
                  <a:pt x="23118" y="13915"/>
                </a:cubicBezTo>
                <a:cubicBezTo>
                  <a:pt x="23206" y="13921"/>
                  <a:pt x="23283" y="13913"/>
                  <a:pt x="23366" y="13940"/>
                </a:cubicBezTo>
                <a:cubicBezTo>
                  <a:pt x="23513" y="13988"/>
                  <a:pt x="23653" y="14064"/>
                  <a:pt x="23812" y="14064"/>
                </a:cubicBezTo>
                <a:cubicBezTo>
                  <a:pt x="23859" y="14064"/>
                  <a:pt x="23911" y="14045"/>
                  <a:pt x="23961" y="14039"/>
                </a:cubicBezTo>
                <a:cubicBezTo>
                  <a:pt x="24032" y="14031"/>
                  <a:pt x="24151" y="13986"/>
                  <a:pt x="24209" y="13990"/>
                </a:cubicBezTo>
                <a:cubicBezTo>
                  <a:pt x="24281" y="13995"/>
                  <a:pt x="24315" y="14021"/>
                  <a:pt x="24383" y="14039"/>
                </a:cubicBezTo>
                <a:cubicBezTo>
                  <a:pt x="24442" y="14054"/>
                  <a:pt x="24498" y="14075"/>
                  <a:pt x="24557" y="14089"/>
                </a:cubicBezTo>
                <a:cubicBezTo>
                  <a:pt x="24617" y="14103"/>
                  <a:pt x="24725" y="14132"/>
                  <a:pt x="24755" y="14139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831000" y="5000760"/>
            <a:ext cx="625320" cy="322200"/>
          </a:xfrm>
          <a:custGeom>
            <a:avLst/>
            <a:gdLst/>
            <a:ahLst/>
            <a:rect l="l" t="t" r="r" b="b"/>
            <a:pathLst>
              <a:path w="1737" h="894">
                <a:moveTo>
                  <a:pt x="19050" y="14039"/>
                </a:moveTo>
                <a:cubicBezTo>
                  <a:pt x="19019" y="14039"/>
                  <a:pt x="18984" y="14032"/>
                  <a:pt x="18976" y="14015"/>
                </a:cubicBezTo>
                <a:cubicBezTo>
                  <a:pt x="18976" y="14007"/>
                  <a:pt x="18976" y="13998"/>
                  <a:pt x="18976" y="13990"/>
                </a:cubicBezTo>
                <a:cubicBezTo>
                  <a:pt x="19018" y="13946"/>
                  <a:pt x="19064" y="13909"/>
                  <a:pt x="19124" y="13891"/>
                </a:cubicBezTo>
                <a:cubicBezTo>
                  <a:pt x="19161" y="13880"/>
                  <a:pt x="19225" y="13882"/>
                  <a:pt x="19248" y="13915"/>
                </a:cubicBezTo>
                <a:cubicBezTo>
                  <a:pt x="19290" y="13976"/>
                  <a:pt x="19275" y="14027"/>
                  <a:pt x="19248" y="14089"/>
                </a:cubicBezTo>
                <a:cubicBezTo>
                  <a:pt x="19221" y="14152"/>
                  <a:pt x="19183" y="14206"/>
                  <a:pt x="19149" y="14263"/>
                </a:cubicBezTo>
                <a:cubicBezTo>
                  <a:pt x="19117" y="14316"/>
                  <a:pt x="19108" y="14367"/>
                  <a:pt x="19149" y="14412"/>
                </a:cubicBezTo>
                <a:cubicBezTo>
                  <a:pt x="19195" y="14463"/>
                  <a:pt x="19227" y="14421"/>
                  <a:pt x="19273" y="14412"/>
                </a:cubicBezTo>
                <a:cubicBezTo>
                  <a:pt x="19334" y="14400"/>
                  <a:pt x="19342" y="14402"/>
                  <a:pt x="19372" y="14387"/>
                </a:cubicBezTo>
                <a:cubicBezTo>
                  <a:pt x="19380" y="14387"/>
                  <a:pt x="19389" y="14387"/>
                  <a:pt x="19397" y="14387"/>
                </a:cubicBezTo>
              </a:path>
              <a:path w="1737" h="894">
                <a:moveTo>
                  <a:pt x="19621" y="14114"/>
                </a:moveTo>
                <a:cubicBezTo>
                  <a:pt x="19652" y="14103"/>
                  <a:pt x="19660" y="14095"/>
                  <a:pt x="19670" y="14064"/>
                </a:cubicBezTo>
                <a:cubicBezTo>
                  <a:pt x="19610" y="14079"/>
                  <a:pt x="19577" y="14132"/>
                  <a:pt x="19546" y="14188"/>
                </a:cubicBezTo>
                <a:cubicBezTo>
                  <a:pt x="19519" y="14236"/>
                  <a:pt x="19521" y="14260"/>
                  <a:pt x="19521" y="14312"/>
                </a:cubicBezTo>
                <a:cubicBezTo>
                  <a:pt x="19545" y="14324"/>
                  <a:pt x="19598" y="14333"/>
                  <a:pt x="19621" y="14288"/>
                </a:cubicBezTo>
                <a:cubicBezTo>
                  <a:pt x="19621" y="14263"/>
                  <a:pt x="19621" y="14255"/>
                  <a:pt x="19645" y="14263"/>
                </a:cubicBezTo>
                <a:cubicBezTo>
                  <a:pt x="19678" y="14307"/>
                  <a:pt x="19676" y="14304"/>
                  <a:pt x="19720" y="14337"/>
                </a:cubicBezTo>
              </a:path>
              <a:path w="1737" h="894">
                <a:moveTo>
                  <a:pt x="19844" y="14486"/>
                </a:moveTo>
                <a:cubicBezTo>
                  <a:pt x="19770" y="14486"/>
                  <a:pt x="19695" y="14486"/>
                  <a:pt x="19621" y="14486"/>
                </a:cubicBezTo>
              </a:path>
              <a:path w="1737" h="894">
                <a:moveTo>
                  <a:pt x="20067" y="14213"/>
                </a:moveTo>
                <a:cubicBezTo>
                  <a:pt x="20117" y="14213"/>
                  <a:pt x="20166" y="14213"/>
                  <a:pt x="20216" y="14213"/>
                </a:cubicBezTo>
              </a:path>
              <a:path w="1737" h="894">
                <a:moveTo>
                  <a:pt x="20513" y="14015"/>
                </a:moveTo>
                <a:cubicBezTo>
                  <a:pt x="20513" y="13998"/>
                  <a:pt x="20513" y="13982"/>
                  <a:pt x="20513" y="13965"/>
                </a:cubicBezTo>
                <a:cubicBezTo>
                  <a:pt x="20513" y="14057"/>
                  <a:pt x="20492" y="14123"/>
                  <a:pt x="20464" y="14213"/>
                </a:cubicBezTo>
                <a:cubicBezTo>
                  <a:pt x="20437" y="14299"/>
                  <a:pt x="20439" y="14371"/>
                  <a:pt x="20439" y="14461"/>
                </a:cubicBezTo>
                <a:cubicBezTo>
                  <a:pt x="20492" y="14461"/>
                  <a:pt x="20509" y="14441"/>
                  <a:pt x="20563" y="14436"/>
                </a:cubicBezTo>
                <a:cubicBezTo>
                  <a:pt x="20637" y="14430"/>
                  <a:pt x="20632" y="14440"/>
                  <a:pt x="20662" y="14486"/>
                </a:cubicBezTo>
                <a:cubicBezTo>
                  <a:pt x="20685" y="14509"/>
                  <a:pt x="20693" y="14513"/>
                  <a:pt x="20687" y="14536"/>
                </a:cubicBezTo>
                <a:cubicBezTo>
                  <a:pt x="20624" y="14536"/>
                  <a:pt x="20595" y="14521"/>
                  <a:pt x="20538" y="14511"/>
                </a:cubicBezTo>
                <a:cubicBezTo>
                  <a:pt x="20494" y="14511"/>
                  <a:pt x="20480" y="14514"/>
                  <a:pt x="20464" y="14486"/>
                </a:cubicBezTo>
              </a:path>
              <a:path w="1737" h="894">
                <a:moveTo>
                  <a:pt x="20712" y="14784"/>
                </a:moveTo>
                <a:cubicBezTo>
                  <a:pt x="20689" y="14761"/>
                  <a:pt x="20681" y="14757"/>
                  <a:pt x="20687" y="14734"/>
                </a:cubicBezTo>
                <a:cubicBezTo>
                  <a:pt x="20636" y="14734"/>
                  <a:pt x="20614" y="14716"/>
                  <a:pt x="20563" y="14709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715160" y="4894200"/>
            <a:ext cx="162000" cy="160560"/>
          </a:xfrm>
          <a:custGeom>
            <a:avLst/>
            <a:gdLst/>
            <a:ahLst/>
            <a:rect l="l" t="t" r="r" b="b"/>
            <a:pathLst>
              <a:path w="448" h="447">
                <a:moveTo>
                  <a:pt x="21729" y="13667"/>
                </a:moveTo>
                <a:cubicBezTo>
                  <a:pt x="21754" y="13667"/>
                  <a:pt x="21762" y="13667"/>
                  <a:pt x="21754" y="13692"/>
                </a:cubicBezTo>
              </a:path>
              <a:path w="448" h="447">
                <a:moveTo>
                  <a:pt x="21729" y="13667"/>
                </a:moveTo>
                <a:cubicBezTo>
                  <a:pt x="21771" y="13722"/>
                  <a:pt x="21791" y="13730"/>
                  <a:pt x="21803" y="13767"/>
                </a:cubicBezTo>
                <a:cubicBezTo>
                  <a:pt x="21755" y="13815"/>
                  <a:pt x="21702" y="13902"/>
                  <a:pt x="21654" y="13940"/>
                </a:cubicBezTo>
                <a:cubicBezTo>
                  <a:pt x="21629" y="13960"/>
                  <a:pt x="21557" y="13971"/>
                  <a:pt x="21530" y="13990"/>
                </a:cubicBezTo>
                <a:cubicBezTo>
                  <a:pt x="21508" y="14005"/>
                  <a:pt x="21463" y="14036"/>
                  <a:pt x="21456" y="14039"/>
                </a:cubicBezTo>
                <a:cubicBezTo>
                  <a:pt x="21411" y="14061"/>
                  <a:pt x="21469" y="14021"/>
                  <a:pt x="21481" y="14015"/>
                </a:cubicBezTo>
                <a:cubicBezTo>
                  <a:pt x="21553" y="13981"/>
                  <a:pt x="21628" y="13973"/>
                  <a:pt x="21704" y="13940"/>
                </a:cubicBezTo>
                <a:cubicBezTo>
                  <a:pt x="21727" y="13930"/>
                  <a:pt x="21872" y="13905"/>
                  <a:pt x="21878" y="13891"/>
                </a:cubicBezTo>
                <a:cubicBezTo>
                  <a:pt x="21899" y="13846"/>
                  <a:pt x="21871" y="13775"/>
                  <a:pt x="21853" y="13742"/>
                </a:cubicBezTo>
                <a:cubicBezTo>
                  <a:pt x="21824" y="13688"/>
                  <a:pt x="21798" y="13687"/>
                  <a:pt x="21754" y="13643"/>
                </a:cubicBezTo>
                <a:cubicBezTo>
                  <a:pt x="21729" y="13618"/>
                  <a:pt x="21721" y="13610"/>
                  <a:pt x="21704" y="13593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.O. Revise for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395280" y="2565360"/>
            <a:ext cx="2160720" cy="4292640"/>
            <a:chOff x="395280" y="2565360"/>
            <a:chExt cx="2160720" cy="4292640"/>
          </a:xfrm>
        </p:grpSpPr>
        <p:sp>
          <p:nvSpPr>
            <p:cNvPr id="408" name=""/>
            <p:cNvSpPr/>
            <p:nvPr/>
          </p:nvSpPr>
          <p:spPr>
            <a:xfrm>
              <a:off x="39528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82692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26036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69236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69056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12256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55600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2987640" y="2565360"/>
            <a:ext cx="0" cy="429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419640" y="2565360"/>
            <a:ext cx="0" cy="429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851280" y="2565360"/>
            <a:ext cx="0" cy="429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4284720" y="2565360"/>
            <a:ext cx="4319640" cy="4292640"/>
            <a:chOff x="4284720" y="2565360"/>
            <a:chExt cx="4319640" cy="4292640"/>
          </a:xfrm>
        </p:grpSpPr>
        <p:sp>
          <p:nvSpPr>
            <p:cNvPr id="419" name=""/>
            <p:cNvSpPr/>
            <p:nvPr/>
          </p:nvSpPr>
          <p:spPr>
            <a:xfrm>
              <a:off x="428472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71636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71492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14656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58000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01200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71492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14836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58000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01200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44364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87708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30872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30728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73892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17236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60436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6" name=""/>
          <p:cNvSpPr/>
          <p:nvPr/>
        </p:nvSpPr>
        <p:spPr>
          <a:xfrm>
            <a:off x="0" y="2565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0" y="2997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0" y="3860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0" y="4292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0" y="5157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5589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0" y="6021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0" y="6453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601560" y="1643040"/>
                <a:ext cx="131760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48" name=""/>
          <p:cNvSpPr/>
          <p:nvPr/>
        </p:nvSpPr>
        <p:spPr>
          <a:xfrm>
            <a:off x="0" y="2505240"/>
            <a:ext cx="3132000" cy="443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6029280" y="2556000"/>
            <a:ext cx="0" cy="4292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041640" y="5148360"/>
            <a:ext cx="5940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95280" y="2565360"/>
            <a:ext cx="216072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 the grid, show 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. Find the coordinates of 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4599000" y="4162320"/>
            <a:ext cx="231840" cy="260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583160" y="4162320"/>
            <a:ext cx="231840" cy="260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257720" y="3817800"/>
            <a:ext cx="64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457200" y="3300480"/>
                <a:ext cx="215568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e>
                    </m:acc>
                    <m:r>
                      <m:t xml:space="preserve">=</m:t>
                    </m:r>
                    <m:r>
                      <m:t xml:space="preserve">3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</m:acc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56" name=""/>
          <p:cNvSpPr/>
          <p:nvPr/>
        </p:nvSpPr>
        <p:spPr>
          <a:xfrm>
            <a:off x="-849240" y="5048280"/>
            <a:ext cx="64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965920" y="4616280"/>
            <a:ext cx="222120" cy="187560"/>
          </a:xfrm>
          <a:custGeom>
            <a:avLst/>
            <a:gdLst/>
            <a:ahLst/>
            <a:rect l="l" t="t" r="r" b="b"/>
            <a:pathLst>
              <a:path w="621" h="522">
                <a:moveTo>
                  <a:pt x="17066" y="13295"/>
                </a:moveTo>
                <a:cubicBezTo>
                  <a:pt x="17066" y="13249"/>
                  <a:pt x="17072" y="13231"/>
                  <a:pt x="17041" y="13196"/>
                </a:cubicBezTo>
                <a:cubicBezTo>
                  <a:pt x="17010" y="13161"/>
                  <a:pt x="16975" y="13130"/>
                  <a:pt x="16942" y="13097"/>
                </a:cubicBezTo>
                <a:cubicBezTo>
                  <a:pt x="16887" y="13042"/>
                  <a:pt x="16828" y="13018"/>
                  <a:pt x="16768" y="12973"/>
                </a:cubicBezTo>
                <a:cubicBezTo>
                  <a:pt x="16725" y="12941"/>
                  <a:pt x="16683" y="12913"/>
                  <a:pt x="16644" y="12874"/>
                </a:cubicBezTo>
                <a:cubicBezTo>
                  <a:pt x="16615" y="12846"/>
                  <a:pt x="16606" y="12833"/>
                  <a:pt x="16570" y="12824"/>
                </a:cubicBezTo>
              </a:path>
              <a:path w="621" h="522">
                <a:moveTo>
                  <a:pt x="17190" y="12998"/>
                </a:moveTo>
                <a:cubicBezTo>
                  <a:pt x="17148" y="13008"/>
                  <a:pt x="17127" y="13026"/>
                  <a:pt x="17090" y="13047"/>
                </a:cubicBezTo>
                <a:cubicBezTo>
                  <a:pt x="17017" y="13089"/>
                  <a:pt x="16900" y="13134"/>
                  <a:pt x="16842" y="13196"/>
                </a:cubicBezTo>
                <a:cubicBezTo>
                  <a:pt x="16798" y="13244"/>
                  <a:pt x="16761" y="13292"/>
                  <a:pt x="16718" y="1334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367320" y="4411800"/>
            <a:ext cx="160560" cy="196560"/>
          </a:xfrm>
          <a:custGeom>
            <a:avLst/>
            <a:gdLst/>
            <a:ahLst/>
            <a:rect l="l" t="t" r="r" b="b"/>
            <a:pathLst>
              <a:path w="447" h="546">
                <a:moveTo>
                  <a:pt x="17711" y="12402"/>
                </a:moveTo>
                <a:cubicBezTo>
                  <a:pt x="17719" y="12406"/>
                  <a:pt x="17724" y="12457"/>
                  <a:pt x="17711" y="12502"/>
                </a:cubicBezTo>
                <a:cubicBezTo>
                  <a:pt x="17690" y="12573"/>
                  <a:pt x="17686" y="12621"/>
                  <a:pt x="17686" y="12700"/>
                </a:cubicBezTo>
                <a:cubicBezTo>
                  <a:pt x="17686" y="12708"/>
                  <a:pt x="17686" y="12717"/>
                  <a:pt x="17686" y="12725"/>
                </a:cubicBezTo>
              </a:path>
              <a:path w="447" h="546">
                <a:moveTo>
                  <a:pt x="17760" y="12402"/>
                </a:moveTo>
                <a:cubicBezTo>
                  <a:pt x="17732" y="12337"/>
                  <a:pt x="17731" y="12341"/>
                  <a:pt x="17760" y="12303"/>
                </a:cubicBezTo>
                <a:cubicBezTo>
                  <a:pt x="17790" y="12263"/>
                  <a:pt x="17862" y="12257"/>
                  <a:pt x="17909" y="12254"/>
                </a:cubicBezTo>
                <a:cubicBezTo>
                  <a:pt x="17969" y="12251"/>
                  <a:pt x="18012" y="12245"/>
                  <a:pt x="18058" y="12278"/>
                </a:cubicBezTo>
                <a:cubicBezTo>
                  <a:pt x="18058" y="12324"/>
                  <a:pt x="18051" y="12351"/>
                  <a:pt x="18008" y="12378"/>
                </a:cubicBezTo>
                <a:cubicBezTo>
                  <a:pt x="17957" y="12411"/>
                  <a:pt x="17904" y="12436"/>
                  <a:pt x="17859" y="12477"/>
                </a:cubicBezTo>
                <a:cubicBezTo>
                  <a:pt x="17851" y="12485"/>
                  <a:pt x="17843" y="12494"/>
                  <a:pt x="17835" y="12502"/>
                </a:cubicBezTo>
                <a:cubicBezTo>
                  <a:pt x="17847" y="12538"/>
                  <a:pt x="17913" y="12553"/>
                  <a:pt x="17959" y="12576"/>
                </a:cubicBezTo>
                <a:cubicBezTo>
                  <a:pt x="18015" y="12605"/>
                  <a:pt x="18070" y="12592"/>
                  <a:pt x="18107" y="12650"/>
                </a:cubicBezTo>
                <a:cubicBezTo>
                  <a:pt x="18149" y="12716"/>
                  <a:pt x="18131" y="12726"/>
                  <a:pt x="18083" y="12774"/>
                </a:cubicBezTo>
                <a:cubicBezTo>
                  <a:pt x="18025" y="12832"/>
                  <a:pt x="17947" y="12780"/>
                  <a:pt x="17884" y="12750"/>
                </a:cubicBezTo>
                <a:cubicBezTo>
                  <a:pt x="17835" y="12725"/>
                  <a:pt x="17818" y="12716"/>
                  <a:pt x="17785" y="127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982800" y="4241880"/>
            <a:ext cx="125280" cy="63360"/>
          </a:xfrm>
          <a:custGeom>
            <a:avLst/>
            <a:gdLst/>
            <a:ahLst/>
            <a:rect l="l" t="t" r="r" b="b"/>
            <a:pathLst>
              <a:path w="348" h="175">
                <a:moveTo>
                  <a:pt x="3001" y="11782"/>
                </a:moveTo>
                <a:cubicBezTo>
                  <a:pt x="2910" y="11782"/>
                  <a:pt x="2831" y="11783"/>
                  <a:pt x="2753" y="11807"/>
                </a:cubicBezTo>
                <a:cubicBezTo>
                  <a:pt x="2745" y="11807"/>
                  <a:pt x="2737" y="11807"/>
                  <a:pt x="2729" y="11807"/>
                </a:cubicBezTo>
              </a:path>
              <a:path w="348" h="175">
                <a:moveTo>
                  <a:pt x="3051" y="11931"/>
                </a:moveTo>
                <a:cubicBezTo>
                  <a:pt x="3059" y="11931"/>
                  <a:pt x="3068" y="11931"/>
                  <a:pt x="3076" y="11931"/>
                </a:cubicBezTo>
                <a:cubicBezTo>
                  <a:pt x="3026" y="11931"/>
                  <a:pt x="3017" y="11942"/>
                  <a:pt x="2977" y="11956"/>
                </a:cubicBezTo>
                <a:cubicBezTo>
                  <a:pt x="2923" y="11974"/>
                  <a:pt x="2836" y="11956"/>
                  <a:pt x="2778" y="119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374840" y="3983040"/>
            <a:ext cx="1465200" cy="561960"/>
          </a:xfrm>
          <a:custGeom>
            <a:avLst/>
            <a:gdLst/>
            <a:ahLst/>
            <a:rect l="l" t="t" r="r" b="b"/>
            <a:pathLst>
              <a:path w="4069" h="1564">
                <a:moveTo>
                  <a:pt x="4490" y="11237"/>
                </a:moveTo>
                <a:cubicBezTo>
                  <a:pt x="4490" y="11212"/>
                  <a:pt x="4490" y="11204"/>
                  <a:pt x="4490" y="11187"/>
                </a:cubicBezTo>
                <a:cubicBezTo>
                  <a:pt x="4423" y="11187"/>
                  <a:pt x="4375" y="11195"/>
                  <a:pt x="4341" y="11212"/>
                </a:cubicBezTo>
                <a:cubicBezTo>
                  <a:pt x="4308" y="11228"/>
                  <a:pt x="4271" y="11224"/>
                  <a:pt x="4266" y="11261"/>
                </a:cubicBezTo>
                <a:cubicBezTo>
                  <a:pt x="4261" y="11304"/>
                  <a:pt x="4263" y="11330"/>
                  <a:pt x="4291" y="11361"/>
                </a:cubicBezTo>
                <a:cubicBezTo>
                  <a:pt x="4325" y="11399"/>
                  <a:pt x="4356" y="11391"/>
                  <a:pt x="4390" y="11361"/>
                </a:cubicBezTo>
                <a:cubicBezTo>
                  <a:pt x="4429" y="11327"/>
                  <a:pt x="4434" y="11295"/>
                  <a:pt x="4465" y="11261"/>
                </a:cubicBezTo>
                <a:cubicBezTo>
                  <a:pt x="4473" y="11253"/>
                  <a:pt x="4482" y="11245"/>
                  <a:pt x="4490" y="11237"/>
                </a:cubicBezTo>
                <a:cubicBezTo>
                  <a:pt x="4503" y="11289"/>
                  <a:pt x="4514" y="11323"/>
                  <a:pt x="4514" y="11385"/>
                </a:cubicBezTo>
                <a:cubicBezTo>
                  <a:pt x="4514" y="11455"/>
                  <a:pt x="4539" y="11513"/>
                  <a:pt x="4539" y="11584"/>
                </a:cubicBezTo>
              </a:path>
              <a:path w="4069" h="1564">
                <a:moveTo>
                  <a:pt x="4366" y="11881"/>
                </a:moveTo>
                <a:cubicBezTo>
                  <a:pt x="4328" y="11854"/>
                  <a:pt x="4314" y="11857"/>
                  <a:pt x="4266" y="11857"/>
                </a:cubicBezTo>
                <a:cubicBezTo>
                  <a:pt x="4209" y="11857"/>
                  <a:pt x="4189" y="11887"/>
                  <a:pt x="4142" y="11906"/>
                </a:cubicBezTo>
                <a:cubicBezTo>
                  <a:pt x="4103" y="11922"/>
                  <a:pt x="4108" y="11901"/>
                  <a:pt x="4068" y="11931"/>
                </a:cubicBezTo>
              </a:path>
              <a:path w="4069" h="1564">
                <a:moveTo>
                  <a:pt x="4663" y="11782"/>
                </a:moveTo>
                <a:cubicBezTo>
                  <a:pt x="4663" y="11801"/>
                  <a:pt x="4668" y="11798"/>
                  <a:pt x="4713" y="11782"/>
                </a:cubicBezTo>
                <a:cubicBezTo>
                  <a:pt x="4766" y="11763"/>
                  <a:pt x="4782" y="11757"/>
                  <a:pt x="4837" y="11757"/>
                </a:cubicBezTo>
                <a:cubicBezTo>
                  <a:pt x="4837" y="11803"/>
                  <a:pt x="4844" y="11822"/>
                  <a:pt x="4812" y="11857"/>
                </a:cubicBezTo>
                <a:cubicBezTo>
                  <a:pt x="4779" y="11894"/>
                  <a:pt x="4749" y="11904"/>
                  <a:pt x="4713" y="11931"/>
                </a:cubicBezTo>
                <a:cubicBezTo>
                  <a:pt x="4759" y="11940"/>
                  <a:pt x="4821" y="11954"/>
                  <a:pt x="4862" y="11981"/>
                </a:cubicBezTo>
                <a:cubicBezTo>
                  <a:pt x="4906" y="12009"/>
                  <a:pt x="4911" y="12002"/>
                  <a:pt x="4911" y="12055"/>
                </a:cubicBezTo>
                <a:cubicBezTo>
                  <a:pt x="4911" y="12115"/>
                  <a:pt x="4861" y="12126"/>
                  <a:pt x="4812" y="12129"/>
                </a:cubicBezTo>
                <a:cubicBezTo>
                  <a:pt x="4750" y="12133"/>
                  <a:pt x="4720" y="12126"/>
                  <a:pt x="4663" y="12105"/>
                </a:cubicBezTo>
              </a:path>
              <a:path w="4069" h="1564">
                <a:moveTo>
                  <a:pt x="4961" y="11187"/>
                </a:moveTo>
                <a:cubicBezTo>
                  <a:pt x="5001" y="11197"/>
                  <a:pt x="5023" y="11225"/>
                  <a:pt x="5060" y="11237"/>
                </a:cubicBezTo>
                <a:cubicBezTo>
                  <a:pt x="5124" y="11258"/>
                  <a:pt x="5111" y="11295"/>
                  <a:pt x="5159" y="11336"/>
                </a:cubicBezTo>
                <a:cubicBezTo>
                  <a:pt x="5219" y="11388"/>
                  <a:pt x="5252" y="11428"/>
                  <a:pt x="5283" y="11509"/>
                </a:cubicBezTo>
                <a:cubicBezTo>
                  <a:pt x="5325" y="11616"/>
                  <a:pt x="5313" y="11700"/>
                  <a:pt x="5333" y="11807"/>
                </a:cubicBezTo>
                <a:cubicBezTo>
                  <a:pt x="5355" y="11926"/>
                  <a:pt x="5332" y="11940"/>
                  <a:pt x="5308" y="12055"/>
                </a:cubicBezTo>
                <a:cubicBezTo>
                  <a:pt x="5293" y="12125"/>
                  <a:pt x="5267" y="12204"/>
                  <a:pt x="5209" y="12254"/>
                </a:cubicBezTo>
                <a:cubicBezTo>
                  <a:pt x="5169" y="12288"/>
                  <a:pt x="5124" y="12313"/>
                  <a:pt x="5085" y="12353"/>
                </a:cubicBezTo>
              </a:path>
              <a:path w="4069" h="1564">
                <a:moveTo>
                  <a:pt x="3969" y="11112"/>
                </a:moveTo>
                <a:cubicBezTo>
                  <a:pt x="4005" y="11085"/>
                  <a:pt x="4007" y="11097"/>
                  <a:pt x="4018" y="11063"/>
                </a:cubicBezTo>
                <a:cubicBezTo>
                  <a:pt x="4008" y="11093"/>
                  <a:pt x="3976" y="11105"/>
                  <a:pt x="3944" y="11137"/>
                </a:cubicBezTo>
                <a:cubicBezTo>
                  <a:pt x="3900" y="11181"/>
                  <a:pt x="3895" y="11232"/>
                  <a:pt x="3870" y="11286"/>
                </a:cubicBezTo>
                <a:cubicBezTo>
                  <a:pt x="3843" y="11344"/>
                  <a:pt x="3824" y="11396"/>
                  <a:pt x="3820" y="11460"/>
                </a:cubicBezTo>
                <a:cubicBezTo>
                  <a:pt x="3810" y="11636"/>
                  <a:pt x="3820" y="11811"/>
                  <a:pt x="3845" y="11981"/>
                </a:cubicBezTo>
                <a:cubicBezTo>
                  <a:pt x="3854" y="12042"/>
                  <a:pt x="3875" y="12099"/>
                  <a:pt x="3894" y="12154"/>
                </a:cubicBezTo>
                <a:cubicBezTo>
                  <a:pt x="3913" y="12209"/>
                  <a:pt x="3955" y="12239"/>
                  <a:pt x="3994" y="12278"/>
                </a:cubicBezTo>
                <a:cubicBezTo>
                  <a:pt x="4002" y="12286"/>
                  <a:pt x="4010" y="12295"/>
                  <a:pt x="4018" y="12303"/>
                </a:cubicBezTo>
              </a:path>
              <a:path w="4069" h="1564">
                <a:moveTo>
                  <a:pt x="5928" y="11931"/>
                </a:moveTo>
                <a:cubicBezTo>
                  <a:pt x="5809" y="11931"/>
                  <a:pt x="5685" y="11921"/>
                  <a:pt x="5581" y="11956"/>
                </a:cubicBezTo>
                <a:cubicBezTo>
                  <a:pt x="5556" y="11956"/>
                  <a:pt x="5548" y="11956"/>
                  <a:pt x="5581" y="11956"/>
                </a:cubicBezTo>
              </a:path>
              <a:path w="4069" h="1564">
                <a:moveTo>
                  <a:pt x="5730" y="11782"/>
                </a:moveTo>
                <a:cubicBezTo>
                  <a:pt x="5763" y="11716"/>
                  <a:pt x="5749" y="11855"/>
                  <a:pt x="5755" y="11881"/>
                </a:cubicBezTo>
                <a:cubicBezTo>
                  <a:pt x="5772" y="11962"/>
                  <a:pt x="5779" y="12022"/>
                  <a:pt x="5779" y="12105"/>
                </a:cubicBezTo>
              </a:path>
              <a:path w="4069" h="1564">
                <a:moveTo>
                  <a:pt x="6251" y="11311"/>
                </a:moveTo>
                <a:cubicBezTo>
                  <a:pt x="6276" y="11311"/>
                  <a:pt x="6284" y="11311"/>
                  <a:pt x="6276" y="11286"/>
                </a:cubicBezTo>
                <a:cubicBezTo>
                  <a:pt x="6276" y="11348"/>
                  <a:pt x="6266" y="11376"/>
                  <a:pt x="6251" y="11435"/>
                </a:cubicBezTo>
                <a:cubicBezTo>
                  <a:pt x="6231" y="11517"/>
                  <a:pt x="6240" y="11626"/>
                  <a:pt x="6226" y="11708"/>
                </a:cubicBezTo>
                <a:cubicBezTo>
                  <a:pt x="6214" y="11777"/>
                  <a:pt x="6201" y="11833"/>
                  <a:pt x="6201" y="11906"/>
                </a:cubicBezTo>
                <a:cubicBezTo>
                  <a:pt x="6201" y="11965"/>
                  <a:pt x="6176" y="11992"/>
                  <a:pt x="6176" y="12055"/>
                </a:cubicBezTo>
                <a:cubicBezTo>
                  <a:pt x="6176" y="12129"/>
                  <a:pt x="6189" y="12193"/>
                  <a:pt x="6201" y="12254"/>
                </a:cubicBezTo>
                <a:cubicBezTo>
                  <a:pt x="6213" y="12316"/>
                  <a:pt x="6236" y="12367"/>
                  <a:pt x="6251" y="12427"/>
                </a:cubicBezTo>
                <a:cubicBezTo>
                  <a:pt x="6265" y="12484"/>
                  <a:pt x="6304" y="12504"/>
                  <a:pt x="6325" y="12551"/>
                </a:cubicBezTo>
                <a:cubicBezTo>
                  <a:pt x="6339" y="12584"/>
                  <a:pt x="6337" y="12572"/>
                  <a:pt x="6375" y="12601"/>
                </a:cubicBezTo>
              </a:path>
              <a:path w="4069" h="1564">
                <a:moveTo>
                  <a:pt x="6796" y="11584"/>
                </a:moveTo>
                <a:cubicBezTo>
                  <a:pt x="6796" y="11609"/>
                  <a:pt x="6796" y="11617"/>
                  <a:pt x="6821" y="11609"/>
                </a:cubicBezTo>
                <a:cubicBezTo>
                  <a:pt x="6753" y="11609"/>
                  <a:pt x="6676" y="11594"/>
                  <a:pt x="6623" y="11633"/>
                </a:cubicBezTo>
              </a:path>
              <a:path w="4069" h="1564">
                <a:moveTo>
                  <a:pt x="7169" y="11435"/>
                </a:moveTo>
                <a:cubicBezTo>
                  <a:pt x="7182" y="11395"/>
                  <a:pt x="7180" y="11425"/>
                  <a:pt x="7193" y="11385"/>
                </a:cubicBezTo>
                <a:cubicBezTo>
                  <a:pt x="7165" y="11414"/>
                  <a:pt x="7131" y="11449"/>
                  <a:pt x="7119" y="11485"/>
                </a:cubicBezTo>
                <a:cubicBezTo>
                  <a:pt x="7102" y="11535"/>
                  <a:pt x="7125" y="11569"/>
                  <a:pt x="7169" y="11584"/>
                </a:cubicBezTo>
                <a:cubicBezTo>
                  <a:pt x="7218" y="11601"/>
                  <a:pt x="7247" y="11572"/>
                  <a:pt x="7293" y="11609"/>
                </a:cubicBezTo>
                <a:cubicBezTo>
                  <a:pt x="7326" y="11635"/>
                  <a:pt x="7363" y="11668"/>
                  <a:pt x="7367" y="11708"/>
                </a:cubicBezTo>
                <a:cubicBezTo>
                  <a:pt x="7373" y="11763"/>
                  <a:pt x="7358" y="11764"/>
                  <a:pt x="7317" y="11782"/>
                </a:cubicBezTo>
                <a:cubicBezTo>
                  <a:pt x="7261" y="11806"/>
                  <a:pt x="7240" y="11824"/>
                  <a:pt x="7193" y="11782"/>
                </a:cubicBezTo>
                <a:cubicBezTo>
                  <a:pt x="7171" y="11760"/>
                  <a:pt x="7163" y="11755"/>
                  <a:pt x="7169" y="11733"/>
                </a:cubicBezTo>
              </a:path>
              <a:path w="4069" h="1564">
                <a:moveTo>
                  <a:pt x="7491" y="11410"/>
                </a:moveTo>
                <a:cubicBezTo>
                  <a:pt x="7537" y="11376"/>
                  <a:pt x="7553" y="11385"/>
                  <a:pt x="7491" y="11385"/>
                </a:cubicBezTo>
                <a:cubicBezTo>
                  <a:pt x="7432" y="11385"/>
                  <a:pt x="7374" y="11425"/>
                  <a:pt x="7317" y="11435"/>
                </a:cubicBezTo>
                <a:cubicBezTo>
                  <a:pt x="7301" y="11435"/>
                  <a:pt x="7284" y="11435"/>
                  <a:pt x="7268" y="11435"/>
                </a:cubicBezTo>
              </a:path>
              <a:path w="4069" h="1564">
                <a:moveTo>
                  <a:pt x="6747" y="12303"/>
                </a:moveTo>
                <a:cubicBezTo>
                  <a:pt x="6747" y="12265"/>
                  <a:pt x="6753" y="12238"/>
                  <a:pt x="6796" y="12229"/>
                </a:cubicBezTo>
                <a:cubicBezTo>
                  <a:pt x="6840" y="12220"/>
                  <a:pt x="6900" y="12229"/>
                  <a:pt x="6945" y="12229"/>
                </a:cubicBezTo>
                <a:cubicBezTo>
                  <a:pt x="6945" y="12279"/>
                  <a:pt x="6954" y="12315"/>
                  <a:pt x="6921" y="12353"/>
                </a:cubicBezTo>
                <a:cubicBezTo>
                  <a:pt x="6896" y="12381"/>
                  <a:pt x="6875" y="12415"/>
                  <a:pt x="6871" y="12452"/>
                </a:cubicBezTo>
                <a:cubicBezTo>
                  <a:pt x="6871" y="12460"/>
                  <a:pt x="6871" y="12469"/>
                  <a:pt x="6871" y="12477"/>
                </a:cubicBezTo>
                <a:cubicBezTo>
                  <a:pt x="6925" y="12477"/>
                  <a:pt x="6953" y="12461"/>
                  <a:pt x="6995" y="12452"/>
                </a:cubicBezTo>
                <a:cubicBezTo>
                  <a:pt x="7049" y="12441"/>
                  <a:pt x="7073" y="12442"/>
                  <a:pt x="7119" y="12427"/>
                </a:cubicBezTo>
                <a:cubicBezTo>
                  <a:pt x="7153" y="12416"/>
                  <a:pt x="7185" y="12410"/>
                  <a:pt x="7218" y="12402"/>
                </a:cubicBezTo>
              </a:path>
              <a:path w="4069" h="1564">
                <a:moveTo>
                  <a:pt x="7640" y="11286"/>
                </a:moveTo>
                <a:cubicBezTo>
                  <a:pt x="7672" y="11318"/>
                  <a:pt x="7669" y="11339"/>
                  <a:pt x="7689" y="11361"/>
                </a:cubicBezTo>
                <a:cubicBezTo>
                  <a:pt x="7723" y="11397"/>
                  <a:pt x="7737" y="11428"/>
                  <a:pt x="7764" y="11485"/>
                </a:cubicBezTo>
                <a:cubicBezTo>
                  <a:pt x="7798" y="11555"/>
                  <a:pt x="7819" y="11612"/>
                  <a:pt x="7838" y="11683"/>
                </a:cubicBezTo>
                <a:cubicBezTo>
                  <a:pt x="7864" y="11783"/>
                  <a:pt x="7884" y="11902"/>
                  <a:pt x="7888" y="12005"/>
                </a:cubicBezTo>
                <a:cubicBezTo>
                  <a:pt x="7892" y="12111"/>
                  <a:pt x="7857" y="12155"/>
                  <a:pt x="7838" y="12254"/>
                </a:cubicBezTo>
                <a:cubicBezTo>
                  <a:pt x="7826" y="12315"/>
                  <a:pt x="7782" y="12397"/>
                  <a:pt x="7739" y="12452"/>
                </a:cubicBezTo>
                <a:cubicBezTo>
                  <a:pt x="7693" y="12511"/>
                  <a:pt x="7635" y="12547"/>
                  <a:pt x="7590" y="12601"/>
                </a:cubicBezTo>
                <a:cubicBezTo>
                  <a:pt x="7568" y="12623"/>
                  <a:pt x="7563" y="12632"/>
                  <a:pt x="7541" y="126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000240" y="4089240"/>
            <a:ext cx="642960" cy="519120"/>
          </a:xfrm>
          <a:custGeom>
            <a:avLst/>
            <a:gdLst/>
            <a:ahLst/>
            <a:rect l="l" t="t" r="r" b="b"/>
            <a:pathLst>
              <a:path w="1787" h="1439">
                <a:moveTo>
                  <a:pt x="8508" y="12005"/>
                </a:moveTo>
                <a:cubicBezTo>
                  <a:pt x="8516" y="12005"/>
                  <a:pt x="8525" y="12005"/>
                  <a:pt x="8533" y="12005"/>
                </a:cubicBezTo>
                <a:cubicBezTo>
                  <a:pt x="8520" y="11969"/>
                  <a:pt x="8502" y="11981"/>
                  <a:pt x="8458" y="11981"/>
                </a:cubicBezTo>
                <a:cubicBezTo>
                  <a:pt x="8420" y="11981"/>
                  <a:pt x="8403" y="12005"/>
                  <a:pt x="8359" y="12005"/>
                </a:cubicBezTo>
                <a:cubicBezTo>
                  <a:pt x="8351" y="12005"/>
                  <a:pt x="8342" y="12005"/>
                  <a:pt x="8334" y="12005"/>
                </a:cubicBezTo>
              </a:path>
              <a:path w="1787" h="1439">
                <a:moveTo>
                  <a:pt x="8607" y="12129"/>
                </a:moveTo>
                <a:cubicBezTo>
                  <a:pt x="8538" y="12129"/>
                  <a:pt x="8463" y="12113"/>
                  <a:pt x="8409" y="12154"/>
                </a:cubicBezTo>
              </a:path>
              <a:path w="1787" h="1439">
                <a:moveTo>
                  <a:pt x="9302" y="11584"/>
                </a:moveTo>
                <a:cubicBezTo>
                  <a:pt x="9302" y="11559"/>
                  <a:pt x="9302" y="11551"/>
                  <a:pt x="9327" y="11559"/>
                </a:cubicBezTo>
                <a:cubicBezTo>
                  <a:pt x="9327" y="11624"/>
                  <a:pt x="9311" y="11670"/>
                  <a:pt x="9302" y="11733"/>
                </a:cubicBezTo>
                <a:cubicBezTo>
                  <a:pt x="9293" y="11796"/>
                  <a:pt x="9302" y="11867"/>
                  <a:pt x="9302" y="11931"/>
                </a:cubicBezTo>
                <a:cubicBezTo>
                  <a:pt x="9353" y="11931"/>
                  <a:pt x="9384" y="11918"/>
                  <a:pt x="9426" y="11906"/>
                </a:cubicBezTo>
                <a:cubicBezTo>
                  <a:pt x="9462" y="11895"/>
                  <a:pt x="9516" y="11883"/>
                  <a:pt x="9550" y="11881"/>
                </a:cubicBezTo>
                <a:cubicBezTo>
                  <a:pt x="9612" y="11877"/>
                  <a:pt x="9650" y="11892"/>
                  <a:pt x="9699" y="11857"/>
                </a:cubicBezTo>
              </a:path>
              <a:path w="1787" h="1439">
                <a:moveTo>
                  <a:pt x="9525" y="11807"/>
                </a:moveTo>
                <a:cubicBezTo>
                  <a:pt x="9525" y="11782"/>
                  <a:pt x="9525" y="11774"/>
                  <a:pt x="9500" y="11782"/>
                </a:cubicBezTo>
                <a:cubicBezTo>
                  <a:pt x="9500" y="11890"/>
                  <a:pt x="9500" y="11997"/>
                  <a:pt x="9500" y="12105"/>
                </a:cubicBezTo>
              </a:path>
              <a:path w="1787" h="1439">
                <a:moveTo>
                  <a:pt x="9153" y="12576"/>
                </a:moveTo>
                <a:cubicBezTo>
                  <a:pt x="9145" y="12576"/>
                  <a:pt x="9136" y="12576"/>
                  <a:pt x="9128" y="12576"/>
                </a:cubicBezTo>
                <a:cubicBezTo>
                  <a:pt x="9141" y="12538"/>
                  <a:pt x="9158" y="12551"/>
                  <a:pt x="9203" y="12551"/>
                </a:cubicBezTo>
                <a:cubicBezTo>
                  <a:pt x="9277" y="12551"/>
                  <a:pt x="9352" y="12551"/>
                  <a:pt x="9426" y="12551"/>
                </a:cubicBezTo>
              </a:path>
              <a:path w="1787" h="1439">
                <a:moveTo>
                  <a:pt x="9624" y="12452"/>
                </a:moveTo>
                <a:cubicBezTo>
                  <a:pt x="9624" y="12509"/>
                  <a:pt x="9608" y="12548"/>
                  <a:pt x="9599" y="12601"/>
                </a:cubicBezTo>
                <a:cubicBezTo>
                  <a:pt x="9590" y="12655"/>
                  <a:pt x="9599" y="12684"/>
                  <a:pt x="9624" y="12725"/>
                </a:cubicBezTo>
              </a:path>
              <a:path w="1787" h="1439">
                <a:moveTo>
                  <a:pt x="9823" y="11534"/>
                </a:moveTo>
                <a:cubicBezTo>
                  <a:pt x="9834" y="11580"/>
                  <a:pt x="9846" y="11590"/>
                  <a:pt x="9872" y="11609"/>
                </a:cubicBezTo>
                <a:cubicBezTo>
                  <a:pt x="9935" y="11655"/>
                  <a:pt x="9976" y="11724"/>
                  <a:pt x="10021" y="11782"/>
                </a:cubicBezTo>
                <a:cubicBezTo>
                  <a:pt x="10053" y="11824"/>
                  <a:pt x="10066" y="11881"/>
                  <a:pt x="10096" y="11931"/>
                </a:cubicBezTo>
                <a:cubicBezTo>
                  <a:pt x="10132" y="11992"/>
                  <a:pt x="10120" y="12060"/>
                  <a:pt x="10120" y="12129"/>
                </a:cubicBezTo>
                <a:cubicBezTo>
                  <a:pt x="10120" y="12219"/>
                  <a:pt x="10110" y="12294"/>
                  <a:pt x="10096" y="12378"/>
                </a:cubicBezTo>
                <a:cubicBezTo>
                  <a:pt x="10083" y="12459"/>
                  <a:pt x="10043" y="12481"/>
                  <a:pt x="9996" y="12551"/>
                </a:cubicBezTo>
                <a:cubicBezTo>
                  <a:pt x="9947" y="12625"/>
                  <a:pt x="9877" y="12663"/>
                  <a:pt x="9823" y="12725"/>
                </a:cubicBezTo>
                <a:cubicBezTo>
                  <a:pt x="9775" y="12780"/>
                  <a:pt x="9823" y="12782"/>
                  <a:pt x="9773" y="12799"/>
                </a:cubicBezTo>
              </a:path>
              <a:path w="1787" h="1439">
                <a:moveTo>
                  <a:pt x="9054" y="11361"/>
                </a:moveTo>
                <a:cubicBezTo>
                  <a:pt x="9062" y="11361"/>
                  <a:pt x="9071" y="11361"/>
                  <a:pt x="9079" y="11361"/>
                </a:cubicBezTo>
                <a:cubicBezTo>
                  <a:pt x="9071" y="11384"/>
                  <a:pt x="9070" y="11407"/>
                  <a:pt x="9054" y="11435"/>
                </a:cubicBezTo>
                <a:cubicBezTo>
                  <a:pt x="9038" y="11463"/>
                  <a:pt x="8987" y="11505"/>
                  <a:pt x="8979" y="11534"/>
                </a:cubicBezTo>
                <a:cubicBezTo>
                  <a:pt x="8961" y="11595"/>
                  <a:pt x="8926" y="11620"/>
                  <a:pt x="8905" y="11683"/>
                </a:cubicBezTo>
                <a:cubicBezTo>
                  <a:pt x="8892" y="11721"/>
                  <a:pt x="8893" y="11770"/>
                  <a:pt x="8880" y="11807"/>
                </a:cubicBezTo>
                <a:cubicBezTo>
                  <a:pt x="8858" y="11868"/>
                  <a:pt x="8835" y="11893"/>
                  <a:pt x="8830" y="11956"/>
                </a:cubicBezTo>
                <a:cubicBezTo>
                  <a:pt x="8825" y="12018"/>
                  <a:pt x="8809" y="12068"/>
                  <a:pt x="8806" y="12129"/>
                </a:cubicBezTo>
                <a:cubicBezTo>
                  <a:pt x="8801" y="12219"/>
                  <a:pt x="8811" y="12294"/>
                  <a:pt x="8830" y="12378"/>
                </a:cubicBezTo>
                <a:cubicBezTo>
                  <a:pt x="8842" y="12430"/>
                  <a:pt x="8851" y="12454"/>
                  <a:pt x="8880" y="12502"/>
                </a:cubicBezTo>
                <a:cubicBezTo>
                  <a:pt x="8910" y="12552"/>
                  <a:pt x="8937" y="12585"/>
                  <a:pt x="8979" y="12626"/>
                </a:cubicBezTo>
                <a:cubicBezTo>
                  <a:pt x="9004" y="12650"/>
                  <a:pt x="9013" y="12658"/>
                  <a:pt x="9029" y="126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375240" y="4680000"/>
            <a:ext cx="162000" cy="123840"/>
          </a:xfrm>
          <a:custGeom>
            <a:avLst/>
            <a:gdLst/>
            <a:ahLst/>
            <a:rect l="l" t="t" r="r" b="b"/>
            <a:pathLst>
              <a:path w="447" h="348">
                <a:moveTo>
                  <a:pt x="18083" y="12998"/>
                </a:moveTo>
                <a:cubicBezTo>
                  <a:pt x="18131" y="12998"/>
                  <a:pt x="18053" y="12993"/>
                  <a:pt x="18033" y="13022"/>
                </a:cubicBezTo>
                <a:cubicBezTo>
                  <a:pt x="17984" y="13092"/>
                  <a:pt x="17931" y="13169"/>
                  <a:pt x="17859" y="13221"/>
                </a:cubicBezTo>
                <a:cubicBezTo>
                  <a:pt x="17816" y="13253"/>
                  <a:pt x="17735" y="13264"/>
                  <a:pt x="17711" y="13320"/>
                </a:cubicBezTo>
                <a:cubicBezTo>
                  <a:pt x="17711" y="13328"/>
                  <a:pt x="17711" y="13337"/>
                  <a:pt x="17711" y="13345"/>
                </a:cubicBezTo>
              </a:path>
              <a:path w="447" h="348">
                <a:moveTo>
                  <a:pt x="18132" y="13320"/>
                </a:moveTo>
                <a:cubicBezTo>
                  <a:pt x="18163" y="13305"/>
                  <a:pt x="18099" y="13253"/>
                  <a:pt x="18058" y="13221"/>
                </a:cubicBezTo>
                <a:cubicBezTo>
                  <a:pt x="17973" y="13155"/>
                  <a:pt x="17889" y="13095"/>
                  <a:pt x="17810" y="13022"/>
                </a:cubicBezTo>
                <a:cubicBezTo>
                  <a:pt x="17787" y="13000"/>
                  <a:pt x="17782" y="12992"/>
                  <a:pt x="17760" y="12998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715080" y="4554360"/>
            <a:ext cx="179280" cy="133560"/>
          </a:xfrm>
          <a:custGeom>
            <a:avLst/>
            <a:gdLst/>
            <a:ahLst/>
            <a:rect l="l" t="t" r="r" b="b"/>
            <a:pathLst>
              <a:path w="497" h="373">
                <a:moveTo>
                  <a:pt x="18876" y="12700"/>
                </a:moveTo>
                <a:cubicBezTo>
                  <a:pt x="18917" y="12680"/>
                  <a:pt x="18933" y="12682"/>
                  <a:pt x="18926" y="12650"/>
                </a:cubicBezTo>
                <a:cubicBezTo>
                  <a:pt x="18871" y="12650"/>
                  <a:pt x="18826" y="12642"/>
                  <a:pt x="18777" y="12675"/>
                </a:cubicBezTo>
                <a:cubicBezTo>
                  <a:pt x="18722" y="12712"/>
                  <a:pt x="18669" y="12753"/>
                  <a:pt x="18653" y="12824"/>
                </a:cubicBezTo>
                <a:cubicBezTo>
                  <a:pt x="18642" y="12874"/>
                  <a:pt x="18649" y="12937"/>
                  <a:pt x="18678" y="12973"/>
                </a:cubicBezTo>
                <a:cubicBezTo>
                  <a:pt x="18729" y="13037"/>
                  <a:pt x="18803" y="13022"/>
                  <a:pt x="18876" y="13022"/>
                </a:cubicBezTo>
                <a:cubicBezTo>
                  <a:pt x="18977" y="13022"/>
                  <a:pt x="19058" y="12989"/>
                  <a:pt x="19149" y="12948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125360" y="5402160"/>
            <a:ext cx="517680" cy="376200"/>
          </a:xfrm>
          <a:custGeom>
            <a:avLst/>
            <a:gdLst/>
            <a:ahLst/>
            <a:rect l="l" t="t" r="r" b="b"/>
            <a:pathLst>
              <a:path w="1440" h="1043">
                <a:moveTo>
                  <a:pt x="3349" y="15354"/>
                </a:moveTo>
                <a:cubicBezTo>
                  <a:pt x="3349" y="15346"/>
                  <a:pt x="3349" y="15337"/>
                  <a:pt x="3349" y="15329"/>
                </a:cubicBezTo>
                <a:cubicBezTo>
                  <a:pt x="3388" y="15356"/>
                  <a:pt x="3373" y="15440"/>
                  <a:pt x="3373" y="15503"/>
                </a:cubicBezTo>
                <a:cubicBezTo>
                  <a:pt x="3373" y="15623"/>
                  <a:pt x="3378" y="15713"/>
                  <a:pt x="3423" y="15825"/>
                </a:cubicBezTo>
              </a:path>
              <a:path w="1440" h="1043">
                <a:moveTo>
                  <a:pt x="3746" y="15801"/>
                </a:moveTo>
                <a:cubicBezTo>
                  <a:pt x="3770" y="15801"/>
                  <a:pt x="3779" y="15801"/>
                  <a:pt x="3795" y="15801"/>
                </a:cubicBezTo>
                <a:cubicBezTo>
                  <a:pt x="3783" y="15848"/>
                  <a:pt x="3730" y="15887"/>
                  <a:pt x="3696" y="15925"/>
                </a:cubicBezTo>
                <a:cubicBezTo>
                  <a:pt x="3654" y="15966"/>
                  <a:pt x="3646" y="15974"/>
                  <a:pt x="3621" y="15999"/>
                </a:cubicBezTo>
              </a:path>
              <a:path w="1440" h="1043">
                <a:moveTo>
                  <a:pt x="4068" y="15577"/>
                </a:moveTo>
                <a:cubicBezTo>
                  <a:pt x="4130" y="15537"/>
                  <a:pt x="4118" y="15515"/>
                  <a:pt x="4118" y="15577"/>
                </a:cubicBezTo>
                <a:cubicBezTo>
                  <a:pt x="4118" y="15693"/>
                  <a:pt x="4118" y="15809"/>
                  <a:pt x="4118" y="15925"/>
                </a:cubicBezTo>
              </a:path>
              <a:path w="1440" h="1043">
                <a:moveTo>
                  <a:pt x="4167" y="15304"/>
                </a:moveTo>
                <a:cubicBezTo>
                  <a:pt x="4267" y="15250"/>
                  <a:pt x="4286" y="15244"/>
                  <a:pt x="4390" y="15280"/>
                </a:cubicBezTo>
                <a:cubicBezTo>
                  <a:pt x="4491" y="15314"/>
                  <a:pt x="4549" y="15416"/>
                  <a:pt x="4564" y="15528"/>
                </a:cubicBezTo>
                <a:cubicBezTo>
                  <a:pt x="4582" y="15662"/>
                  <a:pt x="4535" y="15849"/>
                  <a:pt x="4440" y="15949"/>
                </a:cubicBezTo>
                <a:cubicBezTo>
                  <a:pt x="4366" y="15999"/>
                  <a:pt x="4341" y="16016"/>
                  <a:pt x="4291" y="16049"/>
                </a:cubicBezTo>
              </a:path>
              <a:path w="1440" h="1043">
                <a:moveTo>
                  <a:pt x="3249" y="15156"/>
                </a:moveTo>
                <a:cubicBezTo>
                  <a:pt x="3255" y="15117"/>
                  <a:pt x="3255" y="15090"/>
                  <a:pt x="3274" y="15056"/>
                </a:cubicBezTo>
                <a:cubicBezTo>
                  <a:pt x="3297" y="15034"/>
                  <a:pt x="3305" y="15029"/>
                  <a:pt x="3299" y="15007"/>
                </a:cubicBezTo>
                <a:cubicBezTo>
                  <a:pt x="3240" y="15036"/>
                  <a:pt x="3173" y="15160"/>
                  <a:pt x="3150" y="15230"/>
                </a:cubicBezTo>
                <a:cubicBezTo>
                  <a:pt x="3094" y="15403"/>
                  <a:pt x="3132" y="15565"/>
                  <a:pt x="3200" y="15726"/>
                </a:cubicBezTo>
                <a:cubicBezTo>
                  <a:pt x="3254" y="15853"/>
                  <a:pt x="3332" y="15910"/>
                  <a:pt x="3448" y="15974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.O. Revise for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987480" y="2511360"/>
            <a:ext cx="2597040" cy="259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987480" y="2511360"/>
            <a:ext cx="2597040" cy="259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987480" y="3773520"/>
            <a:ext cx="259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238640" y="1611360"/>
            <a:ext cx="396252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diagram shows a square bisected by two l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 OB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 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terms of a and b, write 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w many vectors can you NOT give in terms of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62040" y="2238480"/>
            <a:ext cx="64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259080" y="2238480"/>
            <a:ext cx="64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62040" y="5108400"/>
            <a:ext cx="64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59080" y="5108400"/>
            <a:ext cx="64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57200" y="3559320"/>
            <a:ext cx="64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583080" y="3559320"/>
            <a:ext cx="64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052720" y="3346560"/>
            <a:ext cx="64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4730760" y="2297160"/>
            <a:ext cx="33192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5629320" y="2309760"/>
            <a:ext cx="33192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4307040" y="3541680"/>
            <a:ext cx="33156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4334040" y="3946320"/>
            <a:ext cx="33156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928800" y="2160720"/>
            <a:ext cx="5473440" cy="1617480"/>
          </a:xfrm>
          <a:custGeom>
            <a:avLst/>
            <a:gdLst/>
            <a:ahLst/>
            <a:rect l="l" t="t" r="r" b="b"/>
            <a:pathLst>
              <a:path w="15206" h="4490">
                <a:moveTo>
                  <a:pt x="6449" y="10492"/>
                </a:moveTo>
                <a:cubicBezTo>
                  <a:pt x="6457" y="10492"/>
                  <a:pt x="6466" y="10492"/>
                  <a:pt x="6474" y="10492"/>
                </a:cubicBezTo>
                <a:cubicBezTo>
                  <a:pt x="6497" y="10459"/>
                  <a:pt x="6475" y="10476"/>
                  <a:pt x="6524" y="10468"/>
                </a:cubicBezTo>
                <a:cubicBezTo>
                  <a:pt x="6541" y="10454"/>
                  <a:pt x="6566" y="10436"/>
                  <a:pt x="6598" y="10418"/>
                </a:cubicBezTo>
                <a:cubicBezTo>
                  <a:pt x="6616" y="10393"/>
                  <a:pt x="6624" y="10381"/>
                  <a:pt x="6648" y="10344"/>
                </a:cubicBezTo>
                <a:cubicBezTo>
                  <a:pt x="6662" y="10322"/>
                  <a:pt x="6685" y="10285"/>
                  <a:pt x="6697" y="10269"/>
                </a:cubicBezTo>
                <a:cubicBezTo>
                  <a:pt x="6724" y="10262"/>
                  <a:pt x="6726" y="10260"/>
                  <a:pt x="6747" y="10244"/>
                </a:cubicBezTo>
                <a:cubicBezTo>
                  <a:pt x="6766" y="10213"/>
                  <a:pt x="6765" y="10218"/>
                  <a:pt x="6772" y="10170"/>
                </a:cubicBezTo>
                <a:cubicBezTo>
                  <a:pt x="6802" y="10155"/>
                  <a:pt x="6841" y="10135"/>
                  <a:pt x="6871" y="10120"/>
                </a:cubicBezTo>
                <a:cubicBezTo>
                  <a:pt x="6877" y="10093"/>
                  <a:pt x="6886" y="10070"/>
                  <a:pt x="6896" y="10046"/>
                </a:cubicBezTo>
                <a:cubicBezTo>
                  <a:pt x="6912" y="10030"/>
                  <a:pt x="6941" y="10000"/>
                  <a:pt x="6970" y="9971"/>
                </a:cubicBezTo>
                <a:cubicBezTo>
                  <a:pt x="6978" y="9963"/>
                  <a:pt x="7012" y="9930"/>
                  <a:pt x="7020" y="9922"/>
                </a:cubicBezTo>
                <a:cubicBezTo>
                  <a:pt x="7049" y="9904"/>
                  <a:pt x="7057" y="9902"/>
                  <a:pt x="7094" y="9872"/>
                </a:cubicBezTo>
                <a:cubicBezTo>
                  <a:pt x="7108" y="9861"/>
                  <a:pt x="7134" y="9832"/>
                  <a:pt x="7144" y="9823"/>
                </a:cubicBezTo>
                <a:cubicBezTo>
                  <a:pt x="7182" y="9804"/>
                  <a:pt x="7171" y="9806"/>
                  <a:pt x="7193" y="9773"/>
                </a:cubicBezTo>
                <a:cubicBezTo>
                  <a:pt x="7220" y="9766"/>
                  <a:pt x="7222" y="9764"/>
                  <a:pt x="7243" y="9748"/>
                </a:cubicBezTo>
                <a:cubicBezTo>
                  <a:pt x="7258" y="9718"/>
                  <a:pt x="7278" y="9680"/>
                  <a:pt x="7293" y="9649"/>
                </a:cubicBezTo>
                <a:cubicBezTo>
                  <a:pt x="7323" y="9634"/>
                  <a:pt x="7362" y="9614"/>
                  <a:pt x="7392" y="9599"/>
                </a:cubicBezTo>
                <a:cubicBezTo>
                  <a:pt x="7399" y="9573"/>
                  <a:pt x="7402" y="9570"/>
                  <a:pt x="7417" y="9550"/>
                </a:cubicBezTo>
                <a:cubicBezTo>
                  <a:pt x="7464" y="9538"/>
                  <a:pt x="7440" y="9545"/>
                  <a:pt x="7466" y="9525"/>
                </a:cubicBezTo>
                <a:cubicBezTo>
                  <a:pt x="7493" y="9518"/>
                  <a:pt x="7495" y="9516"/>
                  <a:pt x="7516" y="9500"/>
                </a:cubicBezTo>
                <a:cubicBezTo>
                  <a:pt x="7523" y="9473"/>
                  <a:pt x="7525" y="9471"/>
                  <a:pt x="7541" y="9451"/>
                </a:cubicBezTo>
                <a:cubicBezTo>
                  <a:pt x="7557" y="9436"/>
                  <a:pt x="7583" y="9400"/>
                  <a:pt x="7615" y="9376"/>
                </a:cubicBezTo>
                <a:cubicBezTo>
                  <a:pt x="7638" y="9353"/>
                  <a:pt x="7642" y="9345"/>
                  <a:pt x="7665" y="9351"/>
                </a:cubicBezTo>
                <a:cubicBezTo>
                  <a:pt x="7672" y="9325"/>
                  <a:pt x="7674" y="9323"/>
                  <a:pt x="7689" y="9302"/>
                </a:cubicBezTo>
                <a:cubicBezTo>
                  <a:pt x="7709" y="9282"/>
                  <a:pt x="7737" y="9287"/>
                  <a:pt x="7764" y="9252"/>
                </a:cubicBezTo>
                <a:cubicBezTo>
                  <a:pt x="7764" y="9244"/>
                  <a:pt x="7764" y="9235"/>
                  <a:pt x="7764" y="9227"/>
                </a:cubicBezTo>
                <a:cubicBezTo>
                  <a:pt x="7799" y="9204"/>
                  <a:pt x="7780" y="9228"/>
                  <a:pt x="7789" y="9178"/>
                </a:cubicBezTo>
                <a:cubicBezTo>
                  <a:pt x="7809" y="9156"/>
                  <a:pt x="7838" y="9135"/>
                  <a:pt x="7863" y="9103"/>
                </a:cubicBezTo>
                <a:cubicBezTo>
                  <a:pt x="7881" y="9081"/>
                  <a:pt x="7900" y="9045"/>
                  <a:pt x="7913" y="9029"/>
                </a:cubicBezTo>
                <a:cubicBezTo>
                  <a:pt x="7927" y="9012"/>
                  <a:pt x="7944" y="8986"/>
                  <a:pt x="7962" y="8954"/>
                </a:cubicBezTo>
                <a:cubicBezTo>
                  <a:pt x="7975" y="8939"/>
                  <a:pt x="8015" y="8913"/>
                  <a:pt x="8037" y="8880"/>
                </a:cubicBezTo>
                <a:cubicBezTo>
                  <a:pt x="8059" y="8847"/>
                  <a:pt x="8067" y="8812"/>
                  <a:pt x="8086" y="8781"/>
                </a:cubicBezTo>
                <a:cubicBezTo>
                  <a:pt x="8100" y="8764"/>
                  <a:pt x="8118" y="8737"/>
                  <a:pt x="8136" y="8706"/>
                </a:cubicBezTo>
                <a:cubicBezTo>
                  <a:pt x="8150" y="8689"/>
                  <a:pt x="8168" y="8664"/>
                  <a:pt x="8186" y="8632"/>
                </a:cubicBezTo>
                <a:cubicBezTo>
                  <a:pt x="8193" y="8622"/>
                  <a:pt x="8221" y="8578"/>
                  <a:pt x="8235" y="8558"/>
                </a:cubicBezTo>
                <a:cubicBezTo>
                  <a:pt x="8259" y="8524"/>
                  <a:pt x="8288" y="8495"/>
                  <a:pt x="8310" y="8458"/>
                </a:cubicBezTo>
                <a:cubicBezTo>
                  <a:pt x="8328" y="8428"/>
                  <a:pt x="8339" y="8391"/>
                  <a:pt x="8359" y="8359"/>
                </a:cubicBezTo>
                <a:cubicBezTo>
                  <a:pt x="8373" y="8337"/>
                  <a:pt x="8397" y="8302"/>
                  <a:pt x="8409" y="8285"/>
                </a:cubicBezTo>
                <a:cubicBezTo>
                  <a:pt x="8447" y="8266"/>
                  <a:pt x="8436" y="8268"/>
                  <a:pt x="8458" y="8235"/>
                </a:cubicBezTo>
                <a:cubicBezTo>
                  <a:pt x="8484" y="8214"/>
                  <a:pt x="8527" y="8189"/>
                  <a:pt x="8558" y="8161"/>
                </a:cubicBezTo>
                <a:cubicBezTo>
                  <a:pt x="8598" y="8125"/>
                  <a:pt x="8646" y="8090"/>
                  <a:pt x="8682" y="8062"/>
                </a:cubicBezTo>
                <a:cubicBezTo>
                  <a:pt x="8720" y="8032"/>
                  <a:pt x="8742" y="8010"/>
                  <a:pt x="8781" y="7987"/>
                </a:cubicBezTo>
                <a:cubicBezTo>
                  <a:pt x="8812" y="7968"/>
                  <a:pt x="8847" y="7960"/>
                  <a:pt x="8880" y="7938"/>
                </a:cubicBezTo>
                <a:cubicBezTo>
                  <a:pt x="8917" y="7913"/>
                  <a:pt x="8941" y="7891"/>
                  <a:pt x="8979" y="7863"/>
                </a:cubicBezTo>
                <a:cubicBezTo>
                  <a:pt x="9006" y="7843"/>
                  <a:pt x="9046" y="7814"/>
                  <a:pt x="9079" y="7789"/>
                </a:cubicBezTo>
                <a:cubicBezTo>
                  <a:pt x="9105" y="7770"/>
                  <a:pt x="9146" y="7738"/>
                  <a:pt x="9178" y="7714"/>
                </a:cubicBezTo>
                <a:cubicBezTo>
                  <a:pt x="9210" y="7690"/>
                  <a:pt x="9241" y="7662"/>
                  <a:pt x="9277" y="7640"/>
                </a:cubicBezTo>
                <a:cubicBezTo>
                  <a:pt x="9307" y="7621"/>
                  <a:pt x="9343" y="7612"/>
                  <a:pt x="9376" y="7590"/>
                </a:cubicBezTo>
                <a:cubicBezTo>
                  <a:pt x="9413" y="7565"/>
                  <a:pt x="9441" y="7541"/>
                  <a:pt x="9475" y="7516"/>
                </a:cubicBezTo>
                <a:cubicBezTo>
                  <a:pt x="9533" y="7474"/>
                  <a:pt x="9596" y="7439"/>
                  <a:pt x="9649" y="7392"/>
                </a:cubicBezTo>
                <a:cubicBezTo>
                  <a:pt x="9734" y="7316"/>
                  <a:pt x="9845" y="7245"/>
                  <a:pt x="9922" y="7169"/>
                </a:cubicBezTo>
                <a:cubicBezTo>
                  <a:pt x="9973" y="7119"/>
                  <a:pt x="10019" y="7062"/>
                  <a:pt x="10071" y="7020"/>
                </a:cubicBezTo>
                <a:cubicBezTo>
                  <a:pt x="10087" y="6997"/>
                  <a:pt x="10130" y="6950"/>
                  <a:pt x="10145" y="6921"/>
                </a:cubicBezTo>
                <a:cubicBezTo>
                  <a:pt x="10160" y="6893"/>
                  <a:pt x="10175" y="6892"/>
                  <a:pt x="10195" y="6871"/>
                </a:cubicBezTo>
              </a:path>
              <a:path w="15206" h="4490">
                <a:moveTo>
                  <a:pt x="9823" y="6945"/>
                </a:moveTo>
                <a:cubicBezTo>
                  <a:pt x="9583" y="6945"/>
                  <a:pt x="9328" y="6936"/>
                  <a:pt x="9103" y="6921"/>
                </a:cubicBezTo>
                <a:cubicBezTo>
                  <a:pt x="9013" y="6915"/>
                  <a:pt x="8931" y="6940"/>
                  <a:pt x="8855" y="6945"/>
                </a:cubicBezTo>
                <a:cubicBezTo>
                  <a:pt x="8609" y="6961"/>
                  <a:pt x="8357" y="6945"/>
                  <a:pt x="8111" y="6945"/>
                </a:cubicBezTo>
                <a:cubicBezTo>
                  <a:pt x="8079" y="6941"/>
                  <a:pt x="8070" y="6922"/>
                  <a:pt x="8037" y="6921"/>
                </a:cubicBezTo>
                <a:cubicBezTo>
                  <a:pt x="7984" y="6919"/>
                  <a:pt x="7927" y="6943"/>
                  <a:pt x="7888" y="6945"/>
                </a:cubicBezTo>
                <a:cubicBezTo>
                  <a:pt x="7802" y="6949"/>
                  <a:pt x="7713" y="6965"/>
                  <a:pt x="7640" y="6970"/>
                </a:cubicBezTo>
                <a:cubicBezTo>
                  <a:pt x="7379" y="6988"/>
                  <a:pt x="7093" y="6980"/>
                  <a:pt x="6846" y="6995"/>
                </a:cubicBezTo>
                <a:cubicBezTo>
                  <a:pt x="6760" y="7000"/>
                  <a:pt x="6678" y="7013"/>
                  <a:pt x="6598" y="7020"/>
                </a:cubicBezTo>
                <a:cubicBezTo>
                  <a:pt x="6533" y="7025"/>
                  <a:pt x="6466" y="7017"/>
                  <a:pt x="6400" y="7020"/>
                </a:cubicBezTo>
                <a:cubicBezTo>
                  <a:pt x="6367" y="7014"/>
                  <a:pt x="6358" y="6996"/>
                  <a:pt x="6325" y="6995"/>
                </a:cubicBezTo>
                <a:cubicBezTo>
                  <a:pt x="6258" y="6993"/>
                  <a:pt x="6180" y="6974"/>
                  <a:pt x="6127" y="6970"/>
                </a:cubicBezTo>
                <a:cubicBezTo>
                  <a:pt x="6069" y="6966"/>
                  <a:pt x="6011" y="6973"/>
                  <a:pt x="5953" y="6970"/>
                </a:cubicBezTo>
                <a:cubicBezTo>
                  <a:pt x="5921" y="6962"/>
                  <a:pt x="5911" y="6951"/>
                  <a:pt x="5879" y="6945"/>
                </a:cubicBezTo>
                <a:cubicBezTo>
                  <a:pt x="5843" y="6938"/>
                  <a:pt x="5817" y="6929"/>
                  <a:pt x="5779" y="6921"/>
                </a:cubicBezTo>
                <a:cubicBezTo>
                  <a:pt x="5727" y="6910"/>
                  <a:pt x="5677" y="6905"/>
                  <a:pt x="5631" y="6896"/>
                </a:cubicBezTo>
                <a:cubicBezTo>
                  <a:pt x="5583" y="6886"/>
                  <a:pt x="5522" y="6875"/>
                  <a:pt x="5482" y="6871"/>
                </a:cubicBezTo>
                <a:cubicBezTo>
                  <a:pt x="5417" y="6865"/>
                  <a:pt x="5335" y="6851"/>
                  <a:pt x="5283" y="6846"/>
                </a:cubicBezTo>
                <a:cubicBezTo>
                  <a:pt x="5212" y="6840"/>
                  <a:pt x="5140" y="6869"/>
                  <a:pt x="5085" y="6871"/>
                </a:cubicBezTo>
                <a:cubicBezTo>
                  <a:pt x="4989" y="6875"/>
                  <a:pt x="4864" y="6843"/>
                  <a:pt x="4787" y="6846"/>
                </a:cubicBezTo>
                <a:cubicBezTo>
                  <a:pt x="4737" y="6848"/>
                  <a:pt x="4705" y="6869"/>
                  <a:pt x="4663" y="6871"/>
                </a:cubicBezTo>
                <a:cubicBezTo>
                  <a:pt x="4601" y="6874"/>
                  <a:pt x="4535" y="6848"/>
                  <a:pt x="4490" y="6846"/>
                </a:cubicBezTo>
                <a:cubicBezTo>
                  <a:pt x="4369" y="6841"/>
                  <a:pt x="4251" y="6828"/>
                  <a:pt x="4142" y="6821"/>
                </a:cubicBezTo>
                <a:cubicBezTo>
                  <a:pt x="3929" y="6807"/>
                  <a:pt x="3710" y="6821"/>
                  <a:pt x="3497" y="6821"/>
                </a:cubicBezTo>
                <a:cubicBezTo>
                  <a:pt x="3464" y="6816"/>
                  <a:pt x="3456" y="6797"/>
                  <a:pt x="3423" y="6796"/>
                </a:cubicBezTo>
                <a:cubicBezTo>
                  <a:pt x="3225" y="6790"/>
                  <a:pt x="3044" y="6813"/>
                  <a:pt x="2853" y="6846"/>
                </a:cubicBezTo>
                <a:cubicBezTo>
                  <a:pt x="2767" y="6861"/>
                  <a:pt x="2689" y="6885"/>
                  <a:pt x="2604" y="6896"/>
                </a:cubicBezTo>
                <a:cubicBezTo>
                  <a:pt x="2580" y="6899"/>
                  <a:pt x="2627" y="6913"/>
                  <a:pt x="2604" y="6921"/>
                </a:cubicBezTo>
              </a:path>
              <a:path w="15206" h="4490">
                <a:moveTo>
                  <a:pt x="6424" y="6970"/>
                </a:moveTo>
                <a:cubicBezTo>
                  <a:pt x="6424" y="6978"/>
                  <a:pt x="6424" y="6987"/>
                  <a:pt x="6424" y="6995"/>
                </a:cubicBezTo>
                <a:cubicBezTo>
                  <a:pt x="6366" y="6995"/>
                  <a:pt x="6371" y="7016"/>
                  <a:pt x="6325" y="7045"/>
                </a:cubicBezTo>
                <a:cubicBezTo>
                  <a:pt x="6260" y="7086"/>
                  <a:pt x="6224" y="7135"/>
                  <a:pt x="6176" y="7193"/>
                </a:cubicBezTo>
                <a:cubicBezTo>
                  <a:pt x="6144" y="7231"/>
                  <a:pt x="6113" y="7273"/>
                  <a:pt x="6102" y="7317"/>
                </a:cubicBezTo>
                <a:cubicBezTo>
                  <a:pt x="6077" y="7317"/>
                  <a:pt x="6069" y="7317"/>
                  <a:pt x="6077" y="7342"/>
                </a:cubicBezTo>
              </a:path>
              <a:path w="15206" h="4490">
                <a:moveTo>
                  <a:pt x="6300" y="6945"/>
                </a:moveTo>
                <a:cubicBezTo>
                  <a:pt x="6325" y="6945"/>
                  <a:pt x="6333" y="6945"/>
                  <a:pt x="6350" y="6945"/>
                </a:cubicBezTo>
                <a:cubicBezTo>
                  <a:pt x="6364" y="6906"/>
                  <a:pt x="6394" y="6921"/>
                  <a:pt x="6350" y="6871"/>
                </a:cubicBezTo>
                <a:cubicBezTo>
                  <a:pt x="6305" y="6821"/>
                  <a:pt x="6255" y="6809"/>
                  <a:pt x="6201" y="6772"/>
                </a:cubicBezTo>
                <a:cubicBezTo>
                  <a:pt x="6159" y="6743"/>
                  <a:pt x="6124" y="6709"/>
                  <a:pt x="6077" y="6697"/>
                </a:cubicBezTo>
              </a:path>
              <a:path w="15206" h="4490">
                <a:moveTo>
                  <a:pt x="5978" y="6003"/>
                </a:moveTo>
                <a:cubicBezTo>
                  <a:pt x="5978" y="6151"/>
                  <a:pt x="5978" y="6548"/>
                  <a:pt x="5978" y="6400"/>
                </a:cubicBezTo>
                <a:cubicBezTo>
                  <a:pt x="5978" y="6363"/>
                  <a:pt x="5962" y="6296"/>
                  <a:pt x="6003" y="6276"/>
                </a:cubicBezTo>
                <a:cubicBezTo>
                  <a:pt x="6035" y="6260"/>
                  <a:pt x="6103" y="6284"/>
                  <a:pt x="6127" y="6300"/>
                </a:cubicBezTo>
                <a:cubicBezTo>
                  <a:pt x="6154" y="6317"/>
                  <a:pt x="6173" y="6371"/>
                  <a:pt x="6176" y="6400"/>
                </a:cubicBezTo>
                <a:cubicBezTo>
                  <a:pt x="6176" y="6408"/>
                  <a:pt x="6176" y="6416"/>
                  <a:pt x="6176" y="6424"/>
                </a:cubicBezTo>
                <a:cubicBezTo>
                  <a:pt x="6118" y="6424"/>
                  <a:pt x="6061" y="6424"/>
                  <a:pt x="6003" y="6424"/>
                </a:cubicBezTo>
              </a:path>
              <a:path w="15206" h="4490">
                <a:moveTo>
                  <a:pt x="6201" y="6499"/>
                </a:moveTo>
                <a:cubicBezTo>
                  <a:pt x="6143" y="6499"/>
                  <a:pt x="6148" y="6535"/>
                  <a:pt x="6102" y="6548"/>
                </a:cubicBezTo>
                <a:cubicBezTo>
                  <a:pt x="6052" y="6548"/>
                  <a:pt x="6036" y="6548"/>
                  <a:pt x="6003" y="6548"/>
                </a:cubicBezTo>
              </a:path>
              <a:path w="15206" h="4490">
                <a:moveTo>
                  <a:pt x="12427" y="8086"/>
                </a:moveTo>
                <a:cubicBezTo>
                  <a:pt x="12452" y="8014"/>
                  <a:pt x="12437" y="8106"/>
                  <a:pt x="12427" y="8136"/>
                </a:cubicBezTo>
                <a:cubicBezTo>
                  <a:pt x="12388" y="8246"/>
                  <a:pt x="12416" y="8322"/>
                  <a:pt x="12452" y="8434"/>
                </a:cubicBezTo>
                <a:cubicBezTo>
                  <a:pt x="12472" y="8494"/>
                  <a:pt x="12471" y="8509"/>
                  <a:pt x="12502" y="8533"/>
                </a:cubicBezTo>
                <a:cubicBezTo>
                  <a:pt x="12591" y="8520"/>
                  <a:pt x="12612" y="8453"/>
                  <a:pt x="12626" y="8359"/>
                </a:cubicBezTo>
                <a:cubicBezTo>
                  <a:pt x="12637" y="8285"/>
                  <a:pt x="12650" y="8211"/>
                  <a:pt x="12650" y="8136"/>
                </a:cubicBezTo>
              </a:path>
              <a:path w="15206" h="4490">
                <a:moveTo>
                  <a:pt x="12923" y="8359"/>
                </a:moveTo>
                <a:cubicBezTo>
                  <a:pt x="12931" y="8351"/>
                  <a:pt x="12940" y="8342"/>
                  <a:pt x="12948" y="8334"/>
                </a:cubicBezTo>
                <a:cubicBezTo>
                  <a:pt x="12912" y="8343"/>
                  <a:pt x="12878" y="8350"/>
                  <a:pt x="12874" y="8384"/>
                </a:cubicBezTo>
                <a:cubicBezTo>
                  <a:pt x="12867" y="8443"/>
                  <a:pt x="12887" y="8434"/>
                  <a:pt x="12923" y="8458"/>
                </a:cubicBezTo>
                <a:cubicBezTo>
                  <a:pt x="12950" y="8476"/>
                  <a:pt x="12994" y="8521"/>
                  <a:pt x="12973" y="8558"/>
                </a:cubicBezTo>
                <a:cubicBezTo>
                  <a:pt x="12955" y="8590"/>
                  <a:pt x="12878" y="8596"/>
                  <a:pt x="12849" y="8582"/>
                </a:cubicBezTo>
                <a:cubicBezTo>
                  <a:pt x="12814" y="8565"/>
                  <a:pt x="12808" y="8560"/>
                  <a:pt x="12799" y="8533"/>
                </a:cubicBezTo>
              </a:path>
              <a:path w="15206" h="4490">
                <a:moveTo>
                  <a:pt x="13097" y="8434"/>
                </a:moveTo>
                <a:cubicBezTo>
                  <a:pt x="13127" y="8483"/>
                  <a:pt x="13122" y="8521"/>
                  <a:pt x="13122" y="8582"/>
                </a:cubicBezTo>
                <a:cubicBezTo>
                  <a:pt x="13122" y="8590"/>
                  <a:pt x="13122" y="8599"/>
                  <a:pt x="13122" y="8607"/>
                </a:cubicBezTo>
              </a:path>
              <a:path w="15206" h="4490">
                <a:moveTo>
                  <a:pt x="13146" y="8334"/>
                </a:moveTo>
                <a:cubicBezTo>
                  <a:pt x="13154" y="8326"/>
                  <a:pt x="13163" y="8318"/>
                  <a:pt x="13171" y="8310"/>
                </a:cubicBezTo>
              </a:path>
              <a:path w="15206" h="4490">
                <a:moveTo>
                  <a:pt x="13271" y="8483"/>
                </a:moveTo>
                <a:cubicBezTo>
                  <a:pt x="13271" y="8525"/>
                  <a:pt x="13256" y="8668"/>
                  <a:pt x="13271" y="8632"/>
                </a:cubicBezTo>
                <a:cubicBezTo>
                  <a:pt x="13298" y="8566"/>
                  <a:pt x="13308" y="8519"/>
                  <a:pt x="13345" y="8458"/>
                </a:cubicBezTo>
                <a:cubicBezTo>
                  <a:pt x="13365" y="8418"/>
                  <a:pt x="13364" y="8402"/>
                  <a:pt x="13395" y="8409"/>
                </a:cubicBezTo>
                <a:cubicBezTo>
                  <a:pt x="13429" y="8455"/>
                  <a:pt x="13421" y="8510"/>
                  <a:pt x="13444" y="8558"/>
                </a:cubicBezTo>
                <a:cubicBezTo>
                  <a:pt x="13460" y="8593"/>
                  <a:pt x="13470" y="8625"/>
                  <a:pt x="13494" y="8657"/>
                </a:cubicBezTo>
              </a:path>
              <a:path w="15206" h="4490">
                <a:moveTo>
                  <a:pt x="13717" y="8533"/>
                </a:moveTo>
                <a:cubicBezTo>
                  <a:pt x="13725" y="8516"/>
                  <a:pt x="13734" y="8500"/>
                  <a:pt x="13742" y="8483"/>
                </a:cubicBezTo>
                <a:cubicBezTo>
                  <a:pt x="13676" y="8483"/>
                  <a:pt x="13673" y="8490"/>
                  <a:pt x="13667" y="8558"/>
                </a:cubicBezTo>
                <a:cubicBezTo>
                  <a:pt x="13662" y="8621"/>
                  <a:pt x="13691" y="8632"/>
                  <a:pt x="13742" y="8632"/>
                </a:cubicBezTo>
                <a:cubicBezTo>
                  <a:pt x="13803" y="8632"/>
                  <a:pt x="13831" y="8594"/>
                  <a:pt x="13891" y="8582"/>
                </a:cubicBezTo>
                <a:cubicBezTo>
                  <a:pt x="13947" y="8674"/>
                  <a:pt x="13986" y="8716"/>
                  <a:pt x="13990" y="8830"/>
                </a:cubicBezTo>
                <a:cubicBezTo>
                  <a:pt x="13994" y="8934"/>
                  <a:pt x="13970" y="8974"/>
                  <a:pt x="13866" y="8979"/>
                </a:cubicBezTo>
                <a:cubicBezTo>
                  <a:pt x="13762" y="8984"/>
                  <a:pt x="13642" y="8980"/>
                  <a:pt x="13543" y="8954"/>
                </a:cubicBezTo>
                <a:cubicBezTo>
                  <a:pt x="13527" y="8946"/>
                  <a:pt x="13510" y="8938"/>
                  <a:pt x="13494" y="8930"/>
                </a:cubicBezTo>
              </a:path>
              <a:path w="15206" h="4490">
                <a:moveTo>
                  <a:pt x="14784" y="8582"/>
                </a:moveTo>
                <a:cubicBezTo>
                  <a:pt x="14812" y="8545"/>
                  <a:pt x="14808" y="8530"/>
                  <a:pt x="14808" y="8483"/>
                </a:cubicBezTo>
                <a:cubicBezTo>
                  <a:pt x="14768" y="8483"/>
                  <a:pt x="14728" y="8489"/>
                  <a:pt x="14709" y="8533"/>
                </a:cubicBezTo>
                <a:cubicBezTo>
                  <a:pt x="14698" y="8558"/>
                  <a:pt x="14709" y="8604"/>
                  <a:pt x="14709" y="8632"/>
                </a:cubicBezTo>
                <a:cubicBezTo>
                  <a:pt x="14763" y="8632"/>
                  <a:pt x="14770" y="8620"/>
                  <a:pt x="14808" y="8582"/>
                </a:cubicBezTo>
                <a:cubicBezTo>
                  <a:pt x="14816" y="8574"/>
                  <a:pt x="14825" y="8566"/>
                  <a:pt x="14833" y="8558"/>
                </a:cubicBezTo>
                <a:cubicBezTo>
                  <a:pt x="14887" y="8610"/>
                  <a:pt x="14881" y="8646"/>
                  <a:pt x="14908" y="8706"/>
                </a:cubicBezTo>
                <a:cubicBezTo>
                  <a:pt x="14932" y="8731"/>
                  <a:pt x="14940" y="8740"/>
                  <a:pt x="14957" y="8756"/>
                </a:cubicBezTo>
              </a:path>
              <a:path w="15206" h="4490">
                <a:moveTo>
                  <a:pt x="15007" y="8806"/>
                </a:moveTo>
                <a:cubicBezTo>
                  <a:pt x="14957" y="8818"/>
                  <a:pt x="14942" y="8830"/>
                  <a:pt x="14883" y="8830"/>
                </a:cubicBezTo>
                <a:cubicBezTo>
                  <a:pt x="14866" y="8830"/>
                  <a:pt x="14850" y="8830"/>
                  <a:pt x="14833" y="8830"/>
                </a:cubicBezTo>
              </a:path>
              <a:path w="15206" h="4490">
                <a:moveTo>
                  <a:pt x="15602" y="8558"/>
                </a:moveTo>
                <a:cubicBezTo>
                  <a:pt x="15610" y="8550"/>
                  <a:pt x="15619" y="8541"/>
                  <a:pt x="15627" y="8533"/>
                </a:cubicBezTo>
                <a:cubicBezTo>
                  <a:pt x="15568" y="8489"/>
                  <a:pt x="15546" y="8517"/>
                  <a:pt x="15478" y="8533"/>
                </a:cubicBezTo>
                <a:cubicBezTo>
                  <a:pt x="15434" y="8543"/>
                  <a:pt x="15406" y="8609"/>
                  <a:pt x="15429" y="8657"/>
                </a:cubicBezTo>
                <a:cubicBezTo>
                  <a:pt x="15457" y="8716"/>
                  <a:pt x="15521" y="8667"/>
                  <a:pt x="15553" y="8657"/>
                </a:cubicBezTo>
                <a:cubicBezTo>
                  <a:pt x="15583" y="8648"/>
                  <a:pt x="15637" y="8652"/>
                  <a:pt x="15652" y="8682"/>
                </a:cubicBezTo>
                <a:cubicBezTo>
                  <a:pt x="15669" y="8716"/>
                  <a:pt x="15658" y="8720"/>
                  <a:pt x="15701" y="8731"/>
                </a:cubicBezTo>
              </a:path>
              <a:path w="15206" h="4490">
                <a:moveTo>
                  <a:pt x="15751" y="8607"/>
                </a:moveTo>
                <a:cubicBezTo>
                  <a:pt x="15751" y="8655"/>
                  <a:pt x="15747" y="8669"/>
                  <a:pt x="15776" y="8706"/>
                </a:cubicBezTo>
                <a:cubicBezTo>
                  <a:pt x="15786" y="8667"/>
                  <a:pt x="15801" y="8640"/>
                  <a:pt x="15825" y="8607"/>
                </a:cubicBezTo>
                <a:cubicBezTo>
                  <a:pt x="15878" y="8607"/>
                  <a:pt x="15887" y="8619"/>
                  <a:pt x="15925" y="8657"/>
                </a:cubicBezTo>
                <a:cubicBezTo>
                  <a:pt x="15958" y="8691"/>
                  <a:pt x="15944" y="8725"/>
                  <a:pt x="15999" y="8731"/>
                </a:cubicBezTo>
                <a:cubicBezTo>
                  <a:pt x="16057" y="8737"/>
                  <a:pt x="16068" y="8713"/>
                  <a:pt x="16073" y="8657"/>
                </a:cubicBezTo>
                <a:cubicBezTo>
                  <a:pt x="16074" y="8649"/>
                  <a:pt x="16073" y="8565"/>
                  <a:pt x="16073" y="8632"/>
                </a:cubicBezTo>
                <a:cubicBezTo>
                  <a:pt x="16098" y="8673"/>
                  <a:pt x="16094" y="8758"/>
                  <a:pt x="16173" y="8731"/>
                </a:cubicBezTo>
                <a:cubicBezTo>
                  <a:pt x="16250" y="8705"/>
                  <a:pt x="16245" y="8541"/>
                  <a:pt x="16247" y="8483"/>
                </a:cubicBezTo>
                <a:cubicBezTo>
                  <a:pt x="16249" y="8417"/>
                  <a:pt x="16247" y="8351"/>
                  <a:pt x="16247" y="8285"/>
                </a:cubicBezTo>
                <a:cubicBezTo>
                  <a:pt x="16258" y="8384"/>
                  <a:pt x="16292" y="8485"/>
                  <a:pt x="16321" y="8582"/>
                </a:cubicBezTo>
                <a:cubicBezTo>
                  <a:pt x="16343" y="8649"/>
                  <a:pt x="16348" y="8667"/>
                  <a:pt x="16371" y="8706"/>
                </a:cubicBezTo>
              </a:path>
              <a:path w="15206" h="4490">
                <a:moveTo>
                  <a:pt x="17165" y="8310"/>
                </a:moveTo>
                <a:cubicBezTo>
                  <a:pt x="17165" y="8285"/>
                  <a:pt x="17165" y="8277"/>
                  <a:pt x="17165" y="8260"/>
                </a:cubicBezTo>
                <a:cubicBezTo>
                  <a:pt x="17155" y="8299"/>
                  <a:pt x="17152" y="8342"/>
                  <a:pt x="17140" y="8384"/>
                </a:cubicBezTo>
                <a:cubicBezTo>
                  <a:pt x="17122" y="8445"/>
                  <a:pt x="17115" y="8493"/>
                  <a:pt x="17115" y="8558"/>
                </a:cubicBezTo>
                <a:cubicBezTo>
                  <a:pt x="17159" y="8547"/>
                  <a:pt x="17175" y="8494"/>
                  <a:pt x="17214" y="8483"/>
                </a:cubicBezTo>
                <a:cubicBezTo>
                  <a:pt x="17307" y="8456"/>
                  <a:pt x="17289" y="8551"/>
                  <a:pt x="17289" y="8607"/>
                </a:cubicBezTo>
                <a:cubicBezTo>
                  <a:pt x="17289" y="8667"/>
                  <a:pt x="17290" y="8750"/>
                  <a:pt x="17214" y="8756"/>
                </a:cubicBezTo>
                <a:cubicBezTo>
                  <a:pt x="17169" y="8759"/>
                  <a:pt x="17111" y="8728"/>
                  <a:pt x="17090" y="8682"/>
                </a:cubicBezTo>
                <a:cubicBezTo>
                  <a:pt x="17090" y="8674"/>
                  <a:pt x="17090" y="8665"/>
                  <a:pt x="17090" y="8657"/>
                </a:cubicBezTo>
              </a:path>
              <a:path w="15206" h="4490">
                <a:moveTo>
                  <a:pt x="17338" y="8880"/>
                </a:moveTo>
                <a:cubicBezTo>
                  <a:pt x="17293" y="8880"/>
                  <a:pt x="17279" y="8901"/>
                  <a:pt x="17239" y="8905"/>
                </a:cubicBezTo>
                <a:cubicBezTo>
                  <a:pt x="17208" y="8908"/>
                  <a:pt x="17194" y="8887"/>
                  <a:pt x="17165" y="8880"/>
                </a:cubicBezTo>
              </a:path>
              <a:path w="15206" h="4490">
                <a:moveTo>
                  <a:pt x="17686" y="8161"/>
                </a:moveTo>
                <a:cubicBezTo>
                  <a:pt x="17686" y="8169"/>
                  <a:pt x="17686" y="8178"/>
                  <a:pt x="17686" y="8186"/>
                </a:cubicBezTo>
                <a:cubicBezTo>
                  <a:pt x="17648" y="8198"/>
                  <a:pt x="17661" y="8215"/>
                  <a:pt x="17661" y="8260"/>
                </a:cubicBezTo>
              </a:path>
              <a:path w="15206" h="4490">
                <a:moveTo>
                  <a:pt x="17760" y="8210"/>
                </a:moveTo>
                <a:cubicBezTo>
                  <a:pt x="17802" y="8169"/>
                  <a:pt x="17785" y="8200"/>
                  <a:pt x="17785" y="8235"/>
                </a:cubicBezTo>
              </a:path>
              <a:path w="15206" h="4490">
                <a:moveTo>
                  <a:pt x="11857" y="7987"/>
                </a:moveTo>
                <a:cubicBezTo>
                  <a:pt x="11857" y="7979"/>
                  <a:pt x="11857" y="7970"/>
                  <a:pt x="11857" y="7962"/>
                </a:cubicBezTo>
                <a:cubicBezTo>
                  <a:pt x="11819" y="7975"/>
                  <a:pt x="11832" y="7992"/>
                  <a:pt x="11832" y="8037"/>
                </a:cubicBezTo>
                <a:cubicBezTo>
                  <a:pt x="11832" y="8045"/>
                  <a:pt x="11832" y="8054"/>
                  <a:pt x="11832" y="8062"/>
                </a:cubicBezTo>
              </a:path>
              <a:path w="15206" h="4490">
                <a:moveTo>
                  <a:pt x="11956" y="7938"/>
                </a:moveTo>
                <a:cubicBezTo>
                  <a:pt x="11978" y="7916"/>
                  <a:pt x="11983" y="7907"/>
                  <a:pt x="12005" y="7913"/>
                </a:cubicBezTo>
                <a:cubicBezTo>
                  <a:pt x="12005" y="7954"/>
                  <a:pt x="12005" y="7996"/>
                  <a:pt x="12005" y="8037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616120" y="2938320"/>
            <a:ext cx="376200" cy="285840"/>
          </a:xfrm>
          <a:custGeom>
            <a:avLst/>
            <a:gdLst/>
            <a:ahLst/>
            <a:rect l="l" t="t" r="r" b="b"/>
            <a:pathLst>
              <a:path w="1043" h="794">
                <a:moveTo>
                  <a:pt x="7491" y="8210"/>
                </a:moveTo>
                <a:cubicBezTo>
                  <a:pt x="7516" y="8210"/>
                  <a:pt x="7524" y="8210"/>
                  <a:pt x="7516" y="8186"/>
                </a:cubicBezTo>
                <a:cubicBezTo>
                  <a:pt x="7466" y="8186"/>
                  <a:pt x="7430" y="8177"/>
                  <a:pt x="7392" y="8210"/>
                </a:cubicBezTo>
                <a:cubicBezTo>
                  <a:pt x="7362" y="8236"/>
                  <a:pt x="7329" y="8276"/>
                  <a:pt x="7317" y="8310"/>
                </a:cubicBezTo>
                <a:cubicBezTo>
                  <a:pt x="7311" y="8329"/>
                  <a:pt x="7317" y="8364"/>
                  <a:pt x="7317" y="8384"/>
                </a:cubicBezTo>
                <a:cubicBezTo>
                  <a:pt x="7363" y="8384"/>
                  <a:pt x="7390" y="8377"/>
                  <a:pt x="7417" y="8334"/>
                </a:cubicBezTo>
                <a:cubicBezTo>
                  <a:pt x="7453" y="8277"/>
                  <a:pt x="7482" y="8222"/>
                  <a:pt x="7491" y="8161"/>
                </a:cubicBezTo>
                <a:cubicBezTo>
                  <a:pt x="7491" y="8235"/>
                  <a:pt x="7489" y="8288"/>
                  <a:pt x="7516" y="8359"/>
                </a:cubicBezTo>
                <a:cubicBezTo>
                  <a:pt x="7542" y="8427"/>
                  <a:pt x="7564" y="8475"/>
                  <a:pt x="7640" y="8483"/>
                </a:cubicBezTo>
                <a:cubicBezTo>
                  <a:pt x="7673" y="8483"/>
                  <a:pt x="7689" y="8483"/>
                  <a:pt x="7714" y="8483"/>
                </a:cubicBezTo>
              </a:path>
              <a:path w="1043" h="794">
                <a:moveTo>
                  <a:pt x="7590" y="8582"/>
                </a:moveTo>
                <a:cubicBezTo>
                  <a:pt x="7653" y="8582"/>
                  <a:pt x="7536" y="8582"/>
                  <a:pt x="7516" y="8582"/>
                </a:cubicBezTo>
                <a:cubicBezTo>
                  <a:pt x="7433" y="8582"/>
                  <a:pt x="7351" y="8582"/>
                  <a:pt x="7268" y="8582"/>
                </a:cubicBezTo>
              </a:path>
              <a:path w="1043" h="794">
                <a:moveTo>
                  <a:pt x="8235" y="8607"/>
                </a:moveTo>
                <a:cubicBezTo>
                  <a:pt x="8235" y="8543"/>
                  <a:pt x="8259" y="8676"/>
                  <a:pt x="8260" y="8682"/>
                </a:cubicBezTo>
                <a:cubicBezTo>
                  <a:pt x="8274" y="8758"/>
                  <a:pt x="8293" y="8831"/>
                  <a:pt x="8310" y="8905"/>
                </a:cubicBezTo>
                <a:cubicBezTo>
                  <a:pt x="8326" y="8972"/>
                  <a:pt x="8326" y="8933"/>
                  <a:pt x="8310" y="8905"/>
                </a:cubicBezTo>
                <a:cubicBezTo>
                  <a:pt x="8284" y="8859"/>
                  <a:pt x="8302" y="8831"/>
                  <a:pt x="8285" y="8781"/>
                </a:cubicBezTo>
                <a:cubicBezTo>
                  <a:pt x="8267" y="8727"/>
                  <a:pt x="8260" y="8712"/>
                  <a:pt x="8260" y="8657"/>
                </a:cubicBezTo>
                <a:cubicBezTo>
                  <a:pt x="8260" y="8605"/>
                  <a:pt x="8246" y="8604"/>
                  <a:pt x="8235" y="8582"/>
                </a:cubicBezTo>
                <a:cubicBezTo>
                  <a:pt x="8218" y="8549"/>
                  <a:pt x="8208" y="8558"/>
                  <a:pt x="8161" y="8558"/>
                </a:cubicBezTo>
                <a:cubicBezTo>
                  <a:pt x="8115" y="8558"/>
                  <a:pt x="8086" y="8600"/>
                  <a:pt x="8037" y="8607"/>
                </a:cubicBezTo>
                <a:cubicBezTo>
                  <a:pt x="7956" y="8618"/>
                  <a:pt x="7915" y="8603"/>
                  <a:pt x="7838" y="8632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983120" y="3679920"/>
            <a:ext cx="88920" cy="106200"/>
          </a:xfrm>
          <a:custGeom>
            <a:avLst/>
            <a:gdLst/>
            <a:ahLst/>
            <a:rect l="l" t="t" r="r" b="b"/>
            <a:pathLst>
              <a:path w="249" h="298">
                <a:moveTo>
                  <a:pt x="14015" y="10220"/>
                </a:moveTo>
                <a:cubicBezTo>
                  <a:pt x="14023" y="10228"/>
                  <a:pt x="14031" y="10236"/>
                  <a:pt x="14039" y="10244"/>
                </a:cubicBezTo>
                <a:cubicBezTo>
                  <a:pt x="13989" y="10244"/>
                  <a:pt x="13981" y="10255"/>
                  <a:pt x="13940" y="10269"/>
                </a:cubicBezTo>
                <a:cubicBezTo>
                  <a:pt x="13903" y="10281"/>
                  <a:pt x="13885" y="10294"/>
                  <a:pt x="13841" y="10294"/>
                </a:cubicBezTo>
              </a:path>
              <a:path w="249" h="298">
                <a:moveTo>
                  <a:pt x="14015" y="10443"/>
                </a:moveTo>
                <a:cubicBezTo>
                  <a:pt x="14102" y="10481"/>
                  <a:pt x="14088" y="10451"/>
                  <a:pt x="14039" y="10468"/>
                </a:cubicBezTo>
                <a:cubicBezTo>
                  <a:pt x="13970" y="10492"/>
                  <a:pt x="13909" y="10491"/>
                  <a:pt x="13841" y="105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313240" y="3606840"/>
            <a:ext cx="169920" cy="198360"/>
          </a:xfrm>
          <a:custGeom>
            <a:avLst/>
            <a:gdLst/>
            <a:ahLst/>
            <a:rect l="l" t="t" r="r" b="b"/>
            <a:pathLst>
              <a:path w="472" h="547">
                <a:moveTo>
                  <a:pt x="15007" y="10071"/>
                </a:moveTo>
                <a:cubicBezTo>
                  <a:pt x="15029" y="10093"/>
                  <a:pt x="15034" y="10102"/>
                  <a:pt x="15056" y="10096"/>
                </a:cubicBezTo>
                <a:cubicBezTo>
                  <a:pt x="15056" y="10050"/>
                  <a:pt x="15059" y="10027"/>
                  <a:pt x="15007" y="10021"/>
                </a:cubicBezTo>
                <a:cubicBezTo>
                  <a:pt x="14954" y="10015"/>
                  <a:pt x="14901" y="10041"/>
                  <a:pt x="14858" y="10071"/>
                </a:cubicBezTo>
                <a:cubicBezTo>
                  <a:pt x="14826" y="10093"/>
                  <a:pt x="14768" y="10182"/>
                  <a:pt x="14759" y="10220"/>
                </a:cubicBezTo>
                <a:cubicBezTo>
                  <a:pt x="14747" y="10272"/>
                  <a:pt x="14761" y="10305"/>
                  <a:pt x="14784" y="10344"/>
                </a:cubicBezTo>
                <a:cubicBezTo>
                  <a:pt x="14853" y="10344"/>
                  <a:pt x="14873" y="10330"/>
                  <a:pt x="14908" y="10269"/>
                </a:cubicBezTo>
                <a:cubicBezTo>
                  <a:pt x="14939" y="10216"/>
                  <a:pt x="14970" y="10154"/>
                  <a:pt x="14982" y="10096"/>
                </a:cubicBezTo>
                <a:cubicBezTo>
                  <a:pt x="14982" y="10169"/>
                  <a:pt x="14999" y="10202"/>
                  <a:pt x="15032" y="10269"/>
                </a:cubicBezTo>
                <a:cubicBezTo>
                  <a:pt x="15060" y="10327"/>
                  <a:pt x="15071" y="10332"/>
                  <a:pt x="15131" y="10344"/>
                </a:cubicBezTo>
              </a:path>
              <a:path w="472" h="547">
                <a:moveTo>
                  <a:pt x="15205" y="10542"/>
                </a:moveTo>
                <a:cubicBezTo>
                  <a:pt x="15213" y="10550"/>
                  <a:pt x="15222" y="10559"/>
                  <a:pt x="15230" y="10567"/>
                </a:cubicBezTo>
                <a:cubicBezTo>
                  <a:pt x="15135" y="10567"/>
                  <a:pt x="15046" y="10553"/>
                  <a:pt x="14957" y="10542"/>
                </a:cubicBezTo>
                <a:cubicBezTo>
                  <a:pt x="14910" y="10536"/>
                  <a:pt x="14856" y="10542"/>
                  <a:pt x="14808" y="105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697360" y="3687840"/>
            <a:ext cx="98640" cy="19080"/>
          </a:xfrm>
          <a:custGeom>
            <a:avLst/>
            <a:gdLst/>
            <a:ahLst/>
            <a:rect l="l" t="t" r="r" b="b"/>
            <a:pathLst>
              <a:path w="274" h="51">
                <a:moveTo>
                  <a:pt x="16073" y="10269"/>
                </a:moveTo>
                <a:cubicBezTo>
                  <a:pt x="16081" y="10269"/>
                  <a:pt x="16090" y="10269"/>
                  <a:pt x="16098" y="10269"/>
                </a:cubicBezTo>
                <a:cubicBezTo>
                  <a:pt x="16026" y="10251"/>
                  <a:pt x="16056" y="10248"/>
                  <a:pt x="15974" y="10269"/>
                </a:cubicBezTo>
                <a:cubicBezTo>
                  <a:pt x="15935" y="10279"/>
                  <a:pt x="15889" y="10290"/>
                  <a:pt x="15850" y="10294"/>
                </a:cubicBezTo>
                <a:cubicBezTo>
                  <a:pt x="15842" y="10294"/>
                  <a:pt x="15833" y="10294"/>
                  <a:pt x="15825" y="102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973840" y="3571920"/>
            <a:ext cx="142920" cy="250920"/>
          </a:xfrm>
          <a:custGeom>
            <a:avLst/>
            <a:gdLst/>
            <a:ahLst/>
            <a:rect l="l" t="t" r="r" b="b"/>
            <a:pathLst>
              <a:path w="398" h="695">
                <a:moveTo>
                  <a:pt x="16669" y="9922"/>
                </a:moveTo>
                <a:cubicBezTo>
                  <a:pt x="16669" y="9963"/>
                  <a:pt x="16659" y="9987"/>
                  <a:pt x="16644" y="10021"/>
                </a:cubicBezTo>
                <a:cubicBezTo>
                  <a:pt x="16613" y="10094"/>
                  <a:pt x="16598" y="10164"/>
                  <a:pt x="16594" y="10244"/>
                </a:cubicBezTo>
                <a:cubicBezTo>
                  <a:pt x="16592" y="10293"/>
                  <a:pt x="16594" y="10343"/>
                  <a:pt x="16594" y="10393"/>
                </a:cubicBezTo>
                <a:cubicBezTo>
                  <a:pt x="16604" y="10354"/>
                  <a:pt x="16628" y="10308"/>
                  <a:pt x="16644" y="10269"/>
                </a:cubicBezTo>
                <a:cubicBezTo>
                  <a:pt x="16660" y="10231"/>
                  <a:pt x="16712" y="10147"/>
                  <a:pt x="16768" y="10170"/>
                </a:cubicBezTo>
                <a:cubicBezTo>
                  <a:pt x="16820" y="10191"/>
                  <a:pt x="16858" y="10247"/>
                  <a:pt x="16867" y="10294"/>
                </a:cubicBezTo>
                <a:cubicBezTo>
                  <a:pt x="16882" y="10369"/>
                  <a:pt x="16861" y="10387"/>
                  <a:pt x="16793" y="10393"/>
                </a:cubicBezTo>
                <a:cubicBezTo>
                  <a:pt x="16728" y="10398"/>
                  <a:pt x="16660" y="10393"/>
                  <a:pt x="16594" y="10393"/>
                </a:cubicBezTo>
              </a:path>
              <a:path w="398" h="695">
                <a:moveTo>
                  <a:pt x="16991" y="10616"/>
                </a:moveTo>
                <a:cubicBezTo>
                  <a:pt x="16975" y="10569"/>
                  <a:pt x="16961" y="10608"/>
                  <a:pt x="16917" y="10592"/>
                </a:cubicBezTo>
                <a:cubicBezTo>
                  <a:pt x="16859" y="10571"/>
                  <a:pt x="16783" y="10549"/>
                  <a:pt x="16718" y="10567"/>
                </a:cubicBezTo>
                <a:cubicBezTo>
                  <a:pt x="16670" y="10591"/>
                  <a:pt x="16656" y="10600"/>
                  <a:pt x="16619" y="105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973760" y="4125960"/>
            <a:ext cx="63360" cy="81000"/>
          </a:xfrm>
          <a:custGeom>
            <a:avLst/>
            <a:gdLst/>
            <a:ahLst/>
            <a:rect l="l" t="t" r="r" b="b"/>
            <a:pathLst>
              <a:path w="175" h="224">
                <a:moveTo>
                  <a:pt x="13965" y="11460"/>
                </a:moveTo>
                <a:cubicBezTo>
                  <a:pt x="13973" y="11460"/>
                  <a:pt x="13982" y="11460"/>
                  <a:pt x="13990" y="11460"/>
                </a:cubicBezTo>
                <a:cubicBezTo>
                  <a:pt x="13940" y="11460"/>
                  <a:pt x="13891" y="11460"/>
                  <a:pt x="13841" y="11460"/>
                </a:cubicBezTo>
              </a:path>
              <a:path w="175" h="224">
                <a:moveTo>
                  <a:pt x="13965" y="11633"/>
                </a:moveTo>
                <a:cubicBezTo>
                  <a:pt x="13988" y="11656"/>
                  <a:pt x="13996" y="11660"/>
                  <a:pt x="13990" y="11683"/>
                </a:cubicBezTo>
                <a:cubicBezTo>
                  <a:pt x="13932" y="11683"/>
                  <a:pt x="13874" y="11683"/>
                  <a:pt x="13816" y="116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286240" y="4010040"/>
            <a:ext cx="581040" cy="231840"/>
          </a:xfrm>
          <a:custGeom>
            <a:avLst/>
            <a:gdLst/>
            <a:ahLst/>
            <a:rect l="l" t="t" r="r" b="b"/>
            <a:pathLst>
              <a:path w="1614" h="646">
                <a:moveTo>
                  <a:pt x="14684" y="11534"/>
                </a:moveTo>
                <a:cubicBezTo>
                  <a:pt x="14712" y="11498"/>
                  <a:pt x="14724" y="11470"/>
                  <a:pt x="14759" y="11435"/>
                </a:cubicBezTo>
                <a:cubicBezTo>
                  <a:pt x="14796" y="11398"/>
                  <a:pt x="14832" y="11410"/>
                  <a:pt x="14883" y="11410"/>
                </a:cubicBezTo>
                <a:cubicBezTo>
                  <a:pt x="14934" y="11410"/>
                  <a:pt x="14972" y="11489"/>
                  <a:pt x="14982" y="11534"/>
                </a:cubicBezTo>
                <a:cubicBezTo>
                  <a:pt x="14994" y="11586"/>
                  <a:pt x="14987" y="11658"/>
                  <a:pt x="14932" y="11683"/>
                </a:cubicBezTo>
                <a:cubicBezTo>
                  <a:pt x="14895" y="11700"/>
                  <a:pt x="14783" y="11655"/>
                  <a:pt x="14759" y="11633"/>
                </a:cubicBezTo>
                <a:cubicBezTo>
                  <a:pt x="14732" y="11608"/>
                  <a:pt x="14697" y="11559"/>
                  <a:pt x="14684" y="11534"/>
                </a:cubicBezTo>
              </a:path>
              <a:path w="1614" h="646">
                <a:moveTo>
                  <a:pt x="15404" y="11410"/>
                </a:moveTo>
                <a:cubicBezTo>
                  <a:pt x="15482" y="11410"/>
                  <a:pt x="15494" y="11412"/>
                  <a:pt x="15404" y="11435"/>
                </a:cubicBezTo>
                <a:cubicBezTo>
                  <a:pt x="15343" y="11450"/>
                  <a:pt x="15292" y="11478"/>
                  <a:pt x="15255" y="11534"/>
                </a:cubicBezTo>
                <a:cubicBezTo>
                  <a:pt x="15212" y="11599"/>
                  <a:pt x="15239" y="11648"/>
                  <a:pt x="15280" y="11708"/>
                </a:cubicBezTo>
                <a:cubicBezTo>
                  <a:pt x="15326" y="11776"/>
                  <a:pt x="15392" y="11760"/>
                  <a:pt x="15453" y="11733"/>
                </a:cubicBezTo>
                <a:cubicBezTo>
                  <a:pt x="15470" y="11725"/>
                  <a:pt x="15486" y="11716"/>
                  <a:pt x="15503" y="11708"/>
                </a:cubicBezTo>
              </a:path>
              <a:path w="1614" h="646">
                <a:moveTo>
                  <a:pt x="14833" y="11212"/>
                </a:moveTo>
                <a:cubicBezTo>
                  <a:pt x="14851" y="11266"/>
                  <a:pt x="14864" y="11213"/>
                  <a:pt x="14908" y="11237"/>
                </a:cubicBezTo>
                <a:cubicBezTo>
                  <a:pt x="14956" y="11263"/>
                  <a:pt x="14970" y="11261"/>
                  <a:pt x="15032" y="11261"/>
                </a:cubicBezTo>
                <a:cubicBezTo>
                  <a:pt x="15173" y="11261"/>
                  <a:pt x="15535" y="11198"/>
                  <a:pt x="15652" y="11286"/>
                </a:cubicBezTo>
                <a:cubicBezTo>
                  <a:pt x="15614" y="11286"/>
                  <a:pt x="15558" y="11296"/>
                  <a:pt x="15528" y="11311"/>
                </a:cubicBezTo>
                <a:cubicBezTo>
                  <a:pt x="15492" y="11329"/>
                  <a:pt x="15475" y="11345"/>
                  <a:pt x="15453" y="11361"/>
                </a:cubicBezTo>
                <a:cubicBezTo>
                  <a:pt x="15445" y="11369"/>
                  <a:pt x="15437" y="11377"/>
                  <a:pt x="15429" y="11385"/>
                </a:cubicBezTo>
                <a:cubicBezTo>
                  <a:pt x="15478" y="11385"/>
                  <a:pt x="15488" y="11374"/>
                  <a:pt x="15528" y="11361"/>
                </a:cubicBezTo>
                <a:cubicBezTo>
                  <a:pt x="15554" y="11353"/>
                  <a:pt x="15612" y="11341"/>
                  <a:pt x="15627" y="11311"/>
                </a:cubicBezTo>
                <a:cubicBezTo>
                  <a:pt x="15644" y="11277"/>
                  <a:pt x="15622" y="11234"/>
                  <a:pt x="15602" y="11212"/>
                </a:cubicBezTo>
                <a:cubicBezTo>
                  <a:pt x="15579" y="11186"/>
                  <a:pt x="15553" y="11162"/>
                  <a:pt x="15528" y="11137"/>
                </a:cubicBezTo>
              </a:path>
              <a:path w="1614" h="646">
                <a:moveTo>
                  <a:pt x="16272" y="11708"/>
                </a:moveTo>
                <a:cubicBezTo>
                  <a:pt x="16280" y="11700"/>
                  <a:pt x="16289" y="11691"/>
                  <a:pt x="16297" y="11683"/>
                </a:cubicBezTo>
                <a:cubicBezTo>
                  <a:pt x="16255" y="11651"/>
                  <a:pt x="16229" y="11658"/>
                  <a:pt x="16173" y="11658"/>
                </a:cubicBezTo>
                <a:cubicBezTo>
                  <a:pt x="16107" y="11658"/>
                  <a:pt x="16085" y="11642"/>
                  <a:pt x="16024" y="11633"/>
                </a:cubicBezTo>
                <a:cubicBezTo>
                  <a:pt x="16024" y="11609"/>
                  <a:pt x="16024" y="11601"/>
                  <a:pt x="15999" y="11609"/>
                </a:cubicBezTo>
              </a:path>
              <a:path w="1614" h="646">
                <a:moveTo>
                  <a:pt x="16123" y="11509"/>
                </a:moveTo>
                <a:cubicBezTo>
                  <a:pt x="16123" y="11445"/>
                  <a:pt x="16101" y="11575"/>
                  <a:pt x="16098" y="11584"/>
                </a:cubicBezTo>
                <a:cubicBezTo>
                  <a:pt x="16070" y="11662"/>
                  <a:pt x="16049" y="11696"/>
                  <a:pt x="16049" y="117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180120" y="3990960"/>
            <a:ext cx="338040" cy="295200"/>
          </a:xfrm>
          <a:custGeom>
            <a:avLst/>
            <a:gdLst/>
            <a:ahLst/>
            <a:rect l="l" t="t" r="r" b="b"/>
            <a:pathLst>
              <a:path w="943" h="819">
                <a:moveTo>
                  <a:pt x="17363" y="11559"/>
                </a:moveTo>
                <a:cubicBezTo>
                  <a:pt x="17363" y="11534"/>
                  <a:pt x="17363" y="11526"/>
                  <a:pt x="17363" y="11509"/>
                </a:cubicBezTo>
                <a:cubicBezTo>
                  <a:pt x="17299" y="11509"/>
                  <a:pt x="17266" y="11519"/>
                  <a:pt x="17214" y="11559"/>
                </a:cubicBezTo>
                <a:cubicBezTo>
                  <a:pt x="17162" y="11598"/>
                  <a:pt x="17165" y="11650"/>
                  <a:pt x="17165" y="11708"/>
                </a:cubicBezTo>
                <a:cubicBezTo>
                  <a:pt x="17165" y="11763"/>
                  <a:pt x="17176" y="11827"/>
                  <a:pt x="17239" y="11832"/>
                </a:cubicBezTo>
                <a:cubicBezTo>
                  <a:pt x="17305" y="11837"/>
                  <a:pt x="17358" y="11820"/>
                  <a:pt x="17413" y="11782"/>
                </a:cubicBezTo>
                <a:cubicBezTo>
                  <a:pt x="17435" y="11760"/>
                  <a:pt x="17440" y="11751"/>
                  <a:pt x="17462" y="11757"/>
                </a:cubicBezTo>
              </a:path>
              <a:path w="943" h="819">
                <a:moveTo>
                  <a:pt x="17711" y="11534"/>
                </a:moveTo>
                <a:cubicBezTo>
                  <a:pt x="17711" y="11526"/>
                  <a:pt x="17711" y="11517"/>
                  <a:pt x="17711" y="11509"/>
                </a:cubicBezTo>
                <a:cubicBezTo>
                  <a:pt x="17711" y="11558"/>
                  <a:pt x="17716" y="11588"/>
                  <a:pt x="17686" y="11633"/>
                </a:cubicBezTo>
                <a:cubicBezTo>
                  <a:pt x="17660" y="11672"/>
                  <a:pt x="17639" y="11731"/>
                  <a:pt x="17636" y="11782"/>
                </a:cubicBezTo>
                <a:cubicBezTo>
                  <a:pt x="17636" y="11799"/>
                  <a:pt x="17636" y="11815"/>
                  <a:pt x="17636" y="11832"/>
                </a:cubicBezTo>
              </a:path>
              <a:path w="943" h="819">
                <a:moveTo>
                  <a:pt x="17711" y="11683"/>
                </a:moveTo>
                <a:cubicBezTo>
                  <a:pt x="17711" y="11633"/>
                  <a:pt x="17711" y="11584"/>
                  <a:pt x="17711" y="11534"/>
                </a:cubicBezTo>
                <a:cubicBezTo>
                  <a:pt x="17762" y="11534"/>
                  <a:pt x="17795" y="11526"/>
                  <a:pt x="17835" y="11559"/>
                </a:cubicBezTo>
                <a:cubicBezTo>
                  <a:pt x="17896" y="11609"/>
                  <a:pt x="17906" y="11686"/>
                  <a:pt x="17909" y="11757"/>
                </a:cubicBezTo>
                <a:cubicBezTo>
                  <a:pt x="17913" y="11834"/>
                  <a:pt x="17918" y="11878"/>
                  <a:pt x="17835" y="11906"/>
                </a:cubicBezTo>
                <a:cubicBezTo>
                  <a:pt x="17800" y="11906"/>
                  <a:pt x="17782" y="11901"/>
                  <a:pt x="17760" y="11881"/>
                </a:cubicBezTo>
              </a:path>
              <a:path w="943" h="819">
                <a:moveTo>
                  <a:pt x="17363" y="11261"/>
                </a:moveTo>
                <a:cubicBezTo>
                  <a:pt x="17401" y="11274"/>
                  <a:pt x="17384" y="11286"/>
                  <a:pt x="17438" y="11286"/>
                </a:cubicBezTo>
                <a:cubicBezTo>
                  <a:pt x="17620" y="11286"/>
                  <a:pt x="17844" y="11316"/>
                  <a:pt x="18008" y="11261"/>
                </a:cubicBezTo>
                <a:cubicBezTo>
                  <a:pt x="18034" y="11252"/>
                  <a:pt x="18079" y="11261"/>
                  <a:pt x="18107" y="11261"/>
                </a:cubicBezTo>
                <a:cubicBezTo>
                  <a:pt x="18099" y="11294"/>
                  <a:pt x="18070" y="11345"/>
                  <a:pt x="18033" y="11361"/>
                </a:cubicBezTo>
                <a:cubicBezTo>
                  <a:pt x="18016" y="11369"/>
                  <a:pt x="17942" y="11398"/>
                  <a:pt x="17934" y="11410"/>
                </a:cubicBezTo>
                <a:cubicBezTo>
                  <a:pt x="17934" y="11435"/>
                  <a:pt x="17934" y="11443"/>
                  <a:pt x="17909" y="11435"/>
                </a:cubicBezTo>
                <a:cubicBezTo>
                  <a:pt x="17919" y="11406"/>
                  <a:pt x="17964" y="11375"/>
                  <a:pt x="18008" y="11361"/>
                </a:cubicBezTo>
                <a:cubicBezTo>
                  <a:pt x="18011" y="11360"/>
                  <a:pt x="18080" y="11339"/>
                  <a:pt x="18083" y="11336"/>
                </a:cubicBezTo>
                <a:cubicBezTo>
                  <a:pt x="18099" y="11317"/>
                  <a:pt x="18099" y="11312"/>
                  <a:pt x="18107" y="11286"/>
                </a:cubicBezTo>
                <a:cubicBezTo>
                  <a:pt x="18096" y="11252"/>
                  <a:pt x="18073" y="11256"/>
                  <a:pt x="18058" y="11212"/>
                </a:cubicBezTo>
                <a:cubicBezTo>
                  <a:pt x="18043" y="11169"/>
                  <a:pt x="18002" y="11153"/>
                  <a:pt x="17983" y="11112"/>
                </a:cubicBezTo>
                <a:cubicBezTo>
                  <a:pt x="17983" y="11104"/>
                  <a:pt x="17983" y="11096"/>
                  <a:pt x="17983" y="110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929120" y="4429080"/>
            <a:ext cx="71640" cy="54000"/>
          </a:xfrm>
          <a:custGeom>
            <a:avLst/>
            <a:gdLst/>
            <a:ahLst/>
            <a:rect l="l" t="t" r="r" b="b"/>
            <a:pathLst>
              <a:path w="200" h="150">
                <a:moveTo>
                  <a:pt x="13891" y="12303"/>
                </a:moveTo>
                <a:cubicBezTo>
                  <a:pt x="13853" y="12332"/>
                  <a:pt x="13840" y="12328"/>
                  <a:pt x="13791" y="12328"/>
                </a:cubicBezTo>
                <a:cubicBezTo>
                  <a:pt x="13783" y="12328"/>
                  <a:pt x="13775" y="12328"/>
                  <a:pt x="13767" y="12328"/>
                </a:cubicBezTo>
              </a:path>
              <a:path w="200" h="150">
                <a:moveTo>
                  <a:pt x="13841" y="12427"/>
                </a:moveTo>
                <a:cubicBezTo>
                  <a:pt x="13858" y="12427"/>
                  <a:pt x="13874" y="12427"/>
                  <a:pt x="13891" y="12427"/>
                </a:cubicBezTo>
                <a:cubicBezTo>
                  <a:pt x="13830" y="12453"/>
                  <a:pt x="13808" y="12452"/>
                  <a:pt x="13742" y="12452"/>
                </a:cubicBezTo>
                <a:cubicBezTo>
                  <a:pt x="13717" y="12452"/>
                  <a:pt x="13709" y="12452"/>
                  <a:pt x="13692" y="124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160960" y="4483080"/>
            <a:ext cx="108000" cy="9720"/>
          </a:xfrm>
          <a:custGeom>
            <a:avLst/>
            <a:gdLst/>
            <a:ahLst/>
            <a:rect l="l" t="t" r="r" b="b"/>
            <a:pathLst>
              <a:path w="299" h="26">
                <a:moveTo>
                  <a:pt x="14337" y="12452"/>
                </a:moveTo>
                <a:cubicBezTo>
                  <a:pt x="14435" y="12452"/>
                  <a:pt x="14526" y="12452"/>
                  <a:pt x="14610" y="12477"/>
                </a:cubicBezTo>
                <a:cubicBezTo>
                  <a:pt x="14618" y="12477"/>
                  <a:pt x="14627" y="12477"/>
                  <a:pt x="14635" y="124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411880" y="4429080"/>
            <a:ext cx="106200" cy="142920"/>
          </a:xfrm>
          <a:custGeom>
            <a:avLst/>
            <a:gdLst/>
            <a:ahLst/>
            <a:rect l="l" t="t" r="r" b="b"/>
            <a:pathLst>
              <a:path w="298" h="398">
                <a:moveTo>
                  <a:pt x="15156" y="12378"/>
                </a:moveTo>
                <a:cubicBezTo>
                  <a:pt x="15204" y="12378"/>
                  <a:pt x="15217" y="12381"/>
                  <a:pt x="15255" y="12353"/>
                </a:cubicBezTo>
                <a:cubicBezTo>
                  <a:pt x="15246" y="12325"/>
                  <a:pt x="15221" y="12306"/>
                  <a:pt x="15180" y="12303"/>
                </a:cubicBezTo>
                <a:cubicBezTo>
                  <a:pt x="15135" y="12300"/>
                  <a:pt x="15056" y="12334"/>
                  <a:pt x="15032" y="12378"/>
                </a:cubicBezTo>
                <a:cubicBezTo>
                  <a:pt x="15002" y="12432"/>
                  <a:pt x="15033" y="12509"/>
                  <a:pt x="15081" y="12526"/>
                </a:cubicBezTo>
                <a:cubicBezTo>
                  <a:pt x="15143" y="12548"/>
                  <a:pt x="15153" y="12489"/>
                  <a:pt x="15180" y="12452"/>
                </a:cubicBezTo>
                <a:cubicBezTo>
                  <a:pt x="15206" y="12417"/>
                  <a:pt x="15221" y="12396"/>
                  <a:pt x="15230" y="12353"/>
                </a:cubicBezTo>
                <a:cubicBezTo>
                  <a:pt x="15196" y="12408"/>
                  <a:pt x="15192" y="12464"/>
                  <a:pt x="15230" y="12526"/>
                </a:cubicBezTo>
                <a:cubicBezTo>
                  <a:pt x="15254" y="12564"/>
                  <a:pt x="15293" y="12587"/>
                  <a:pt x="15329" y="12601"/>
                </a:cubicBezTo>
              </a:path>
              <a:path w="298" h="398">
                <a:moveTo>
                  <a:pt x="15280" y="12700"/>
                </a:moveTo>
                <a:cubicBezTo>
                  <a:pt x="15288" y="12700"/>
                  <a:pt x="15296" y="12700"/>
                  <a:pt x="15304" y="12700"/>
                </a:cubicBezTo>
                <a:cubicBezTo>
                  <a:pt x="15255" y="12700"/>
                  <a:pt x="15205" y="12700"/>
                  <a:pt x="15156" y="127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5875200" y="4483080"/>
            <a:ext cx="98640" cy="88920"/>
          </a:xfrm>
          <a:custGeom>
            <a:avLst/>
            <a:gdLst/>
            <a:ahLst/>
            <a:rect l="l" t="t" r="r" b="b"/>
            <a:pathLst>
              <a:path w="274" h="249">
                <a:moveTo>
                  <a:pt x="16594" y="12576"/>
                </a:moveTo>
                <a:cubicBezTo>
                  <a:pt x="16586" y="12576"/>
                  <a:pt x="16578" y="12576"/>
                  <a:pt x="16570" y="12576"/>
                </a:cubicBezTo>
                <a:cubicBezTo>
                  <a:pt x="16557" y="12538"/>
                  <a:pt x="16540" y="12551"/>
                  <a:pt x="16495" y="12551"/>
                </a:cubicBezTo>
                <a:cubicBezTo>
                  <a:pt x="16437" y="12551"/>
                  <a:pt x="16379" y="12551"/>
                  <a:pt x="16321" y="12551"/>
                </a:cubicBezTo>
              </a:path>
              <a:path w="274" h="249">
                <a:moveTo>
                  <a:pt x="16446" y="12452"/>
                </a:moveTo>
                <a:cubicBezTo>
                  <a:pt x="16446" y="12535"/>
                  <a:pt x="16446" y="12617"/>
                  <a:pt x="16446" y="127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6161040" y="4394160"/>
            <a:ext cx="125640" cy="249120"/>
          </a:xfrm>
          <a:custGeom>
            <a:avLst/>
            <a:gdLst/>
            <a:ahLst/>
            <a:rect l="l" t="t" r="r" b="b"/>
            <a:pathLst>
              <a:path w="348" h="695">
                <a:moveTo>
                  <a:pt x="17140" y="12204"/>
                </a:moveTo>
                <a:cubicBezTo>
                  <a:pt x="17200" y="12224"/>
                  <a:pt x="17149" y="12277"/>
                  <a:pt x="17140" y="12328"/>
                </a:cubicBezTo>
                <a:cubicBezTo>
                  <a:pt x="17127" y="12404"/>
                  <a:pt x="17115" y="12470"/>
                  <a:pt x="17115" y="12551"/>
                </a:cubicBezTo>
                <a:cubicBezTo>
                  <a:pt x="17115" y="12579"/>
                  <a:pt x="17117" y="12590"/>
                  <a:pt x="17140" y="12601"/>
                </a:cubicBezTo>
                <a:cubicBezTo>
                  <a:pt x="17188" y="12589"/>
                  <a:pt x="17196" y="12545"/>
                  <a:pt x="17239" y="12526"/>
                </a:cubicBezTo>
                <a:cubicBezTo>
                  <a:pt x="17274" y="12511"/>
                  <a:pt x="17341" y="12523"/>
                  <a:pt x="17363" y="12551"/>
                </a:cubicBezTo>
                <a:cubicBezTo>
                  <a:pt x="17410" y="12612"/>
                  <a:pt x="17413" y="12650"/>
                  <a:pt x="17413" y="12725"/>
                </a:cubicBezTo>
                <a:cubicBezTo>
                  <a:pt x="17345" y="12725"/>
                  <a:pt x="17301" y="12728"/>
                  <a:pt x="17239" y="12700"/>
                </a:cubicBezTo>
                <a:cubicBezTo>
                  <a:pt x="17223" y="12692"/>
                  <a:pt x="17206" y="12683"/>
                  <a:pt x="17190" y="12675"/>
                </a:cubicBezTo>
              </a:path>
              <a:path w="348" h="695">
                <a:moveTo>
                  <a:pt x="17462" y="12849"/>
                </a:moveTo>
                <a:cubicBezTo>
                  <a:pt x="17449" y="12889"/>
                  <a:pt x="17415" y="12895"/>
                  <a:pt x="17363" y="12898"/>
                </a:cubicBezTo>
                <a:cubicBezTo>
                  <a:pt x="17314" y="12901"/>
                  <a:pt x="17263" y="12898"/>
                  <a:pt x="17214" y="128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6670800" y="4518000"/>
            <a:ext cx="63360" cy="73080"/>
          </a:xfrm>
          <a:custGeom>
            <a:avLst/>
            <a:gdLst/>
            <a:ahLst/>
            <a:rect l="l" t="t" r="r" b="b"/>
            <a:pathLst>
              <a:path w="175" h="200">
                <a:moveTo>
                  <a:pt x="18653" y="12551"/>
                </a:moveTo>
                <a:cubicBezTo>
                  <a:pt x="18661" y="12551"/>
                  <a:pt x="18670" y="12551"/>
                  <a:pt x="18678" y="12551"/>
                </a:cubicBezTo>
                <a:cubicBezTo>
                  <a:pt x="18631" y="12551"/>
                  <a:pt x="18599" y="12571"/>
                  <a:pt x="18554" y="12576"/>
                </a:cubicBezTo>
                <a:cubicBezTo>
                  <a:pt x="18546" y="12576"/>
                  <a:pt x="18537" y="12576"/>
                  <a:pt x="18529" y="12576"/>
                </a:cubicBezTo>
              </a:path>
              <a:path w="175" h="200">
                <a:moveTo>
                  <a:pt x="18703" y="12675"/>
                </a:moveTo>
                <a:cubicBezTo>
                  <a:pt x="18703" y="12700"/>
                  <a:pt x="18703" y="12708"/>
                  <a:pt x="18703" y="12725"/>
                </a:cubicBezTo>
                <a:cubicBezTo>
                  <a:pt x="18658" y="12725"/>
                  <a:pt x="18643" y="12740"/>
                  <a:pt x="18604" y="127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919920" y="4438800"/>
            <a:ext cx="125280" cy="231480"/>
          </a:xfrm>
          <a:custGeom>
            <a:avLst/>
            <a:gdLst/>
            <a:ahLst/>
            <a:rect l="l" t="t" r="r" b="b"/>
            <a:pathLst>
              <a:path w="348" h="646">
                <a:moveTo>
                  <a:pt x="19348" y="12402"/>
                </a:moveTo>
                <a:cubicBezTo>
                  <a:pt x="19348" y="12361"/>
                  <a:pt x="19348" y="12353"/>
                  <a:pt x="19348" y="12328"/>
                </a:cubicBezTo>
                <a:cubicBezTo>
                  <a:pt x="19309" y="12341"/>
                  <a:pt x="19301" y="12375"/>
                  <a:pt x="19298" y="12427"/>
                </a:cubicBezTo>
                <a:cubicBezTo>
                  <a:pt x="19292" y="12526"/>
                  <a:pt x="19298" y="12626"/>
                  <a:pt x="19298" y="12725"/>
                </a:cubicBezTo>
                <a:cubicBezTo>
                  <a:pt x="19309" y="12681"/>
                  <a:pt x="19339" y="12638"/>
                  <a:pt x="19372" y="12601"/>
                </a:cubicBezTo>
                <a:cubicBezTo>
                  <a:pt x="19406" y="12563"/>
                  <a:pt x="19488" y="12558"/>
                  <a:pt x="19521" y="12601"/>
                </a:cubicBezTo>
                <a:cubicBezTo>
                  <a:pt x="19583" y="12681"/>
                  <a:pt x="19583" y="12718"/>
                  <a:pt x="19521" y="12774"/>
                </a:cubicBezTo>
                <a:cubicBezTo>
                  <a:pt x="19460" y="12829"/>
                  <a:pt x="19389" y="12781"/>
                  <a:pt x="19323" y="12750"/>
                </a:cubicBezTo>
                <a:cubicBezTo>
                  <a:pt x="19275" y="12728"/>
                  <a:pt x="19261" y="12728"/>
                  <a:pt x="19224" y="12700"/>
                </a:cubicBezTo>
              </a:path>
              <a:path w="348" h="646">
                <a:moveTo>
                  <a:pt x="19521" y="12948"/>
                </a:moveTo>
                <a:cubicBezTo>
                  <a:pt x="19529" y="12940"/>
                  <a:pt x="19538" y="12931"/>
                  <a:pt x="19546" y="12923"/>
                </a:cubicBezTo>
                <a:cubicBezTo>
                  <a:pt x="19478" y="12923"/>
                  <a:pt x="19430" y="12930"/>
                  <a:pt x="19372" y="12948"/>
                </a:cubicBezTo>
                <a:cubicBezTo>
                  <a:pt x="19344" y="12957"/>
                  <a:pt x="19327" y="12966"/>
                  <a:pt x="19298" y="129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161120" y="4545000"/>
            <a:ext cx="98640" cy="19080"/>
          </a:xfrm>
          <a:custGeom>
            <a:avLst/>
            <a:gdLst/>
            <a:ahLst/>
            <a:rect l="l" t="t" r="r" b="b"/>
            <a:pathLst>
              <a:path w="274" h="50">
                <a:moveTo>
                  <a:pt x="19918" y="12675"/>
                </a:moveTo>
                <a:cubicBezTo>
                  <a:pt x="19910" y="12675"/>
                  <a:pt x="19901" y="12675"/>
                  <a:pt x="19893" y="12675"/>
                </a:cubicBezTo>
                <a:cubicBezTo>
                  <a:pt x="19931" y="12662"/>
                  <a:pt x="19914" y="12650"/>
                  <a:pt x="19968" y="12650"/>
                </a:cubicBezTo>
                <a:cubicBezTo>
                  <a:pt x="20032" y="12650"/>
                  <a:pt x="20058" y="12640"/>
                  <a:pt x="20117" y="12626"/>
                </a:cubicBezTo>
                <a:cubicBezTo>
                  <a:pt x="20141" y="12626"/>
                  <a:pt x="20150" y="12626"/>
                  <a:pt x="20166" y="126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7412040" y="4527720"/>
            <a:ext cx="169920" cy="142560"/>
          </a:xfrm>
          <a:custGeom>
            <a:avLst/>
            <a:gdLst/>
            <a:ahLst/>
            <a:rect l="l" t="t" r="r" b="b"/>
            <a:pathLst>
              <a:path w="472" h="398">
                <a:moveTo>
                  <a:pt x="20762" y="12626"/>
                </a:moveTo>
                <a:cubicBezTo>
                  <a:pt x="20784" y="12648"/>
                  <a:pt x="20792" y="12659"/>
                  <a:pt x="20786" y="12626"/>
                </a:cubicBezTo>
                <a:cubicBezTo>
                  <a:pt x="20773" y="12584"/>
                  <a:pt x="20738" y="12601"/>
                  <a:pt x="20687" y="12601"/>
                </a:cubicBezTo>
                <a:cubicBezTo>
                  <a:pt x="20621" y="12601"/>
                  <a:pt x="20593" y="12630"/>
                  <a:pt x="20588" y="12700"/>
                </a:cubicBezTo>
                <a:cubicBezTo>
                  <a:pt x="20588" y="12745"/>
                  <a:pt x="20584" y="12758"/>
                  <a:pt x="20613" y="12774"/>
                </a:cubicBezTo>
                <a:cubicBezTo>
                  <a:pt x="20673" y="12774"/>
                  <a:pt x="20687" y="12761"/>
                  <a:pt x="20712" y="12700"/>
                </a:cubicBezTo>
                <a:cubicBezTo>
                  <a:pt x="20734" y="12647"/>
                  <a:pt x="20744" y="12591"/>
                  <a:pt x="20786" y="12576"/>
                </a:cubicBezTo>
                <a:cubicBezTo>
                  <a:pt x="20834" y="12624"/>
                  <a:pt x="20870" y="12673"/>
                  <a:pt x="20910" y="12725"/>
                </a:cubicBezTo>
                <a:cubicBezTo>
                  <a:pt x="20918" y="12733"/>
                  <a:pt x="20927" y="12742"/>
                  <a:pt x="20935" y="12750"/>
                </a:cubicBezTo>
              </a:path>
              <a:path w="472" h="398">
                <a:moveTo>
                  <a:pt x="21034" y="12948"/>
                </a:moveTo>
                <a:cubicBezTo>
                  <a:pt x="21042" y="12948"/>
                  <a:pt x="21051" y="12948"/>
                  <a:pt x="21059" y="12948"/>
                </a:cubicBezTo>
                <a:cubicBezTo>
                  <a:pt x="20991" y="12948"/>
                  <a:pt x="20942" y="12954"/>
                  <a:pt x="20886" y="12973"/>
                </a:cubicBezTo>
                <a:cubicBezTo>
                  <a:pt x="20861" y="12973"/>
                  <a:pt x="20853" y="12973"/>
                  <a:pt x="20836" y="129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.O. Revise for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nd the magnitude of ve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152360" y="2955960"/>
            <a:ext cx="411480" cy="330120"/>
          </a:xfrm>
          <a:custGeom>
            <a:avLst/>
            <a:gdLst/>
            <a:ahLst/>
            <a:rect l="l" t="t" r="r" b="b"/>
            <a:pathLst>
              <a:path w="1142" h="919">
                <a:moveTo>
                  <a:pt x="3249" y="8508"/>
                </a:moveTo>
                <a:cubicBezTo>
                  <a:pt x="3227" y="8531"/>
                  <a:pt x="3219" y="8536"/>
                  <a:pt x="3225" y="8558"/>
                </a:cubicBezTo>
                <a:cubicBezTo>
                  <a:pt x="3269" y="8547"/>
                  <a:pt x="3321" y="8498"/>
                  <a:pt x="3349" y="8458"/>
                </a:cubicBezTo>
                <a:cubicBezTo>
                  <a:pt x="3385" y="8407"/>
                  <a:pt x="3432" y="8270"/>
                  <a:pt x="3398" y="8210"/>
                </a:cubicBezTo>
                <a:cubicBezTo>
                  <a:pt x="3390" y="8210"/>
                  <a:pt x="3381" y="8210"/>
                  <a:pt x="3373" y="8210"/>
                </a:cubicBezTo>
                <a:cubicBezTo>
                  <a:pt x="3286" y="8243"/>
                  <a:pt x="3224" y="8352"/>
                  <a:pt x="3200" y="8458"/>
                </a:cubicBezTo>
                <a:cubicBezTo>
                  <a:pt x="3170" y="8587"/>
                  <a:pt x="3216" y="8666"/>
                  <a:pt x="3299" y="8756"/>
                </a:cubicBezTo>
                <a:cubicBezTo>
                  <a:pt x="3344" y="8804"/>
                  <a:pt x="3371" y="8776"/>
                  <a:pt x="3423" y="8756"/>
                </a:cubicBezTo>
              </a:path>
              <a:path w="1142" h="919">
                <a:moveTo>
                  <a:pt x="3597" y="8682"/>
                </a:moveTo>
                <a:cubicBezTo>
                  <a:pt x="3605" y="8682"/>
                  <a:pt x="3613" y="8682"/>
                  <a:pt x="3621" y="8682"/>
                </a:cubicBezTo>
              </a:path>
              <a:path w="1142" h="919">
                <a:moveTo>
                  <a:pt x="3845" y="8483"/>
                </a:moveTo>
                <a:cubicBezTo>
                  <a:pt x="3845" y="8441"/>
                  <a:pt x="3855" y="8445"/>
                  <a:pt x="3820" y="8434"/>
                </a:cubicBezTo>
                <a:cubicBezTo>
                  <a:pt x="3789" y="8472"/>
                  <a:pt x="3747" y="8526"/>
                  <a:pt x="3770" y="8582"/>
                </a:cubicBezTo>
                <a:cubicBezTo>
                  <a:pt x="3778" y="8590"/>
                  <a:pt x="3787" y="8599"/>
                  <a:pt x="3795" y="8607"/>
                </a:cubicBezTo>
                <a:cubicBezTo>
                  <a:pt x="3838" y="8596"/>
                  <a:pt x="3856" y="8544"/>
                  <a:pt x="3894" y="8533"/>
                </a:cubicBezTo>
                <a:cubicBezTo>
                  <a:pt x="3911" y="8533"/>
                  <a:pt x="3927" y="8533"/>
                  <a:pt x="3944" y="8533"/>
                </a:cubicBezTo>
                <a:cubicBezTo>
                  <a:pt x="4006" y="8641"/>
                  <a:pt x="4035" y="8729"/>
                  <a:pt x="4043" y="8855"/>
                </a:cubicBezTo>
                <a:cubicBezTo>
                  <a:pt x="4051" y="8988"/>
                  <a:pt x="3986" y="9047"/>
                  <a:pt x="3870" y="9103"/>
                </a:cubicBezTo>
                <a:cubicBezTo>
                  <a:pt x="3800" y="9136"/>
                  <a:pt x="3698" y="9152"/>
                  <a:pt x="3646" y="9079"/>
                </a:cubicBezTo>
                <a:cubicBezTo>
                  <a:pt x="3638" y="9062"/>
                  <a:pt x="3629" y="9046"/>
                  <a:pt x="3621" y="9029"/>
                </a:cubicBezTo>
              </a:path>
              <a:path w="1142" h="919">
                <a:moveTo>
                  <a:pt x="4242" y="8682"/>
                </a:moveTo>
                <a:cubicBezTo>
                  <a:pt x="4299" y="8663"/>
                  <a:pt x="4306" y="8654"/>
                  <a:pt x="4341" y="86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919160" y="2625840"/>
            <a:ext cx="546120" cy="598320"/>
          </a:xfrm>
          <a:custGeom>
            <a:avLst/>
            <a:gdLst/>
            <a:ahLst/>
            <a:rect l="l" t="t" r="r" b="b"/>
            <a:pathLst>
              <a:path w="1514" h="1662">
                <a:moveTo>
                  <a:pt x="5829" y="8012"/>
                </a:moveTo>
                <a:cubicBezTo>
                  <a:pt x="5881" y="7990"/>
                  <a:pt x="5892" y="7998"/>
                  <a:pt x="5904" y="7962"/>
                </a:cubicBezTo>
                <a:cubicBezTo>
                  <a:pt x="5831" y="7962"/>
                  <a:pt x="5773" y="7976"/>
                  <a:pt x="5705" y="7987"/>
                </a:cubicBezTo>
                <a:cubicBezTo>
                  <a:pt x="5655" y="7987"/>
                  <a:pt x="5639" y="7987"/>
                  <a:pt x="5606" y="7987"/>
                </a:cubicBezTo>
              </a:path>
              <a:path w="1514" h="1662">
                <a:moveTo>
                  <a:pt x="6251" y="7665"/>
                </a:moveTo>
                <a:cubicBezTo>
                  <a:pt x="6220" y="7624"/>
                  <a:pt x="6213" y="7606"/>
                  <a:pt x="6251" y="7565"/>
                </a:cubicBezTo>
                <a:cubicBezTo>
                  <a:pt x="6283" y="7530"/>
                  <a:pt x="6350" y="7495"/>
                  <a:pt x="6400" y="7516"/>
                </a:cubicBezTo>
                <a:cubicBezTo>
                  <a:pt x="6466" y="7544"/>
                  <a:pt x="6446" y="7592"/>
                  <a:pt x="6424" y="7640"/>
                </a:cubicBezTo>
                <a:cubicBezTo>
                  <a:pt x="6395" y="7702"/>
                  <a:pt x="6329" y="7732"/>
                  <a:pt x="6300" y="7789"/>
                </a:cubicBezTo>
                <a:cubicBezTo>
                  <a:pt x="6300" y="7797"/>
                  <a:pt x="6300" y="7805"/>
                  <a:pt x="6300" y="7813"/>
                </a:cubicBezTo>
                <a:cubicBezTo>
                  <a:pt x="6321" y="7844"/>
                  <a:pt x="6371" y="7859"/>
                  <a:pt x="6424" y="7863"/>
                </a:cubicBezTo>
                <a:cubicBezTo>
                  <a:pt x="6472" y="7867"/>
                  <a:pt x="6482" y="7878"/>
                  <a:pt x="6499" y="7913"/>
                </a:cubicBezTo>
                <a:cubicBezTo>
                  <a:pt x="6472" y="7966"/>
                  <a:pt x="6416" y="7984"/>
                  <a:pt x="6350" y="7987"/>
                </a:cubicBezTo>
                <a:cubicBezTo>
                  <a:pt x="6274" y="7987"/>
                  <a:pt x="6248" y="7988"/>
                  <a:pt x="6201" y="8012"/>
                </a:cubicBezTo>
              </a:path>
              <a:path w="1514" h="1662">
                <a:moveTo>
                  <a:pt x="5904" y="8558"/>
                </a:moveTo>
                <a:cubicBezTo>
                  <a:pt x="5918" y="8500"/>
                  <a:pt x="5948" y="8509"/>
                  <a:pt x="6003" y="8483"/>
                </a:cubicBezTo>
                <a:cubicBezTo>
                  <a:pt x="6065" y="8454"/>
                  <a:pt x="6100" y="8444"/>
                  <a:pt x="6152" y="8483"/>
                </a:cubicBezTo>
                <a:cubicBezTo>
                  <a:pt x="6141" y="8537"/>
                  <a:pt x="6112" y="8612"/>
                  <a:pt x="6077" y="8657"/>
                </a:cubicBezTo>
                <a:cubicBezTo>
                  <a:pt x="6023" y="8726"/>
                  <a:pt x="6003" y="8740"/>
                  <a:pt x="6003" y="8830"/>
                </a:cubicBezTo>
                <a:cubicBezTo>
                  <a:pt x="6003" y="8838"/>
                  <a:pt x="6003" y="8847"/>
                  <a:pt x="6003" y="8855"/>
                </a:cubicBezTo>
                <a:cubicBezTo>
                  <a:pt x="6064" y="8855"/>
                  <a:pt x="6120" y="8830"/>
                  <a:pt x="6176" y="8806"/>
                </a:cubicBezTo>
                <a:cubicBezTo>
                  <a:pt x="6248" y="8775"/>
                  <a:pt x="6297" y="8737"/>
                  <a:pt x="6375" y="8731"/>
                </a:cubicBezTo>
                <a:cubicBezTo>
                  <a:pt x="6400" y="8731"/>
                  <a:pt x="6408" y="8731"/>
                  <a:pt x="6424" y="8731"/>
                </a:cubicBezTo>
              </a:path>
              <a:path w="1514" h="1662">
                <a:moveTo>
                  <a:pt x="6524" y="7665"/>
                </a:moveTo>
                <a:cubicBezTo>
                  <a:pt x="6540" y="7615"/>
                  <a:pt x="6608" y="7658"/>
                  <a:pt x="6648" y="7689"/>
                </a:cubicBezTo>
                <a:cubicBezTo>
                  <a:pt x="6759" y="7776"/>
                  <a:pt x="6797" y="7956"/>
                  <a:pt x="6821" y="8086"/>
                </a:cubicBezTo>
                <a:cubicBezTo>
                  <a:pt x="6860" y="8299"/>
                  <a:pt x="6834" y="8497"/>
                  <a:pt x="6722" y="8682"/>
                </a:cubicBezTo>
                <a:cubicBezTo>
                  <a:pt x="6658" y="8787"/>
                  <a:pt x="6601" y="8829"/>
                  <a:pt x="6499" y="8880"/>
                </a:cubicBezTo>
              </a:path>
              <a:path w="1514" h="1662">
                <a:moveTo>
                  <a:pt x="5507" y="7516"/>
                </a:moveTo>
                <a:cubicBezTo>
                  <a:pt x="5530" y="7469"/>
                  <a:pt x="5566" y="7411"/>
                  <a:pt x="5581" y="7367"/>
                </a:cubicBezTo>
                <a:cubicBezTo>
                  <a:pt x="5581" y="7342"/>
                  <a:pt x="5581" y="7334"/>
                  <a:pt x="5581" y="7317"/>
                </a:cubicBezTo>
                <a:cubicBezTo>
                  <a:pt x="5523" y="7304"/>
                  <a:pt x="5463" y="7438"/>
                  <a:pt x="5432" y="7516"/>
                </a:cubicBezTo>
                <a:cubicBezTo>
                  <a:pt x="5351" y="7721"/>
                  <a:pt x="5331" y="7921"/>
                  <a:pt x="5358" y="8136"/>
                </a:cubicBezTo>
                <a:cubicBezTo>
                  <a:pt x="5379" y="8309"/>
                  <a:pt x="5441" y="8472"/>
                  <a:pt x="5507" y="8632"/>
                </a:cubicBezTo>
                <a:cubicBezTo>
                  <a:pt x="5515" y="8649"/>
                  <a:pt x="5523" y="8665"/>
                  <a:pt x="5531" y="8682"/>
                </a:cubicBezTo>
              </a:path>
              <a:path w="1514" h="1662">
                <a:moveTo>
                  <a:pt x="5928" y="8731"/>
                </a:moveTo>
                <a:cubicBezTo>
                  <a:pt x="5928" y="8739"/>
                  <a:pt x="5928" y="8748"/>
                  <a:pt x="5928" y="8756"/>
                </a:cubicBezTo>
                <a:cubicBezTo>
                  <a:pt x="5928" y="8713"/>
                  <a:pt x="5918" y="8718"/>
                  <a:pt x="5953" y="8706"/>
                </a:cubicBezTo>
                <a:cubicBezTo>
                  <a:pt x="5963" y="8669"/>
                  <a:pt x="5976" y="8637"/>
                  <a:pt x="6003" y="8607"/>
                </a:cubicBezTo>
                <a:cubicBezTo>
                  <a:pt x="6037" y="8569"/>
                  <a:pt x="6048" y="8507"/>
                  <a:pt x="6077" y="8458"/>
                </a:cubicBezTo>
                <a:cubicBezTo>
                  <a:pt x="6104" y="8413"/>
                  <a:pt x="6120" y="8370"/>
                  <a:pt x="6152" y="8334"/>
                </a:cubicBezTo>
                <a:cubicBezTo>
                  <a:pt x="6160" y="8326"/>
                  <a:pt x="6168" y="8318"/>
                  <a:pt x="6176" y="8310"/>
                </a:cubicBezTo>
              </a:path>
              <a:path w="1514" h="1662">
                <a:moveTo>
                  <a:pt x="6201" y="8607"/>
                </a:moveTo>
                <a:cubicBezTo>
                  <a:pt x="6201" y="8565"/>
                  <a:pt x="6210" y="8641"/>
                  <a:pt x="6201" y="8682"/>
                </a:cubicBezTo>
                <a:cubicBezTo>
                  <a:pt x="6177" y="8789"/>
                  <a:pt x="6189" y="8848"/>
                  <a:pt x="6201" y="8954"/>
                </a:cubicBezTo>
              </a:path>
              <a:path w="1514" h="1662">
                <a:moveTo>
                  <a:pt x="6325" y="8806"/>
                </a:moveTo>
                <a:cubicBezTo>
                  <a:pt x="6229" y="8806"/>
                  <a:pt x="6145" y="8818"/>
                  <a:pt x="6052" y="8830"/>
                </a:cubicBezTo>
                <a:cubicBezTo>
                  <a:pt x="6036" y="8830"/>
                  <a:pt x="6019" y="8830"/>
                  <a:pt x="6003" y="88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3197160" y="2455920"/>
            <a:ext cx="1231920" cy="1428840"/>
          </a:xfrm>
          <a:custGeom>
            <a:avLst/>
            <a:gdLst/>
            <a:ahLst/>
            <a:rect l="l" t="t" r="r" b="b"/>
            <a:pathLst>
              <a:path w="3424" h="3970">
                <a:moveTo>
                  <a:pt x="12303" y="7590"/>
                </a:moveTo>
                <a:cubicBezTo>
                  <a:pt x="12167" y="7590"/>
                  <a:pt x="12035" y="7598"/>
                  <a:pt x="11906" y="7615"/>
                </a:cubicBezTo>
                <a:cubicBezTo>
                  <a:pt x="11825" y="7626"/>
                  <a:pt x="11735" y="7630"/>
                  <a:pt x="11658" y="7640"/>
                </a:cubicBezTo>
                <a:cubicBezTo>
                  <a:pt x="11412" y="7671"/>
                  <a:pt x="11158" y="7630"/>
                  <a:pt x="10914" y="7665"/>
                </a:cubicBezTo>
                <a:cubicBezTo>
                  <a:pt x="10829" y="7677"/>
                  <a:pt x="10754" y="7689"/>
                  <a:pt x="10666" y="7689"/>
                </a:cubicBezTo>
                <a:cubicBezTo>
                  <a:pt x="10546" y="7689"/>
                  <a:pt x="10425" y="7679"/>
                  <a:pt x="10319" y="7665"/>
                </a:cubicBezTo>
                <a:cubicBezTo>
                  <a:pt x="10236" y="7654"/>
                  <a:pt x="10118" y="7662"/>
                  <a:pt x="10071" y="7689"/>
                </a:cubicBezTo>
              </a:path>
              <a:path w="3424" h="3970">
                <a:moveTo>
                  <a:pt x="10071" y="7714"/>
                </a:moveTo>
                <a:cubicBezTo>
                  <a:pt x="10071" y="7756"/>
                  <a:pt x="10071" y="7747"/>
                  <a:pt x="10071" y="7789"/>
                </a:cubicBezTo>
                <a:cubicBezTo>
                  <a:pt x="10071" y="8331"/>
                  <a:pt x="10104" y="8891"/>
                  <a:pt x="10046" y="9426"/>
                </a:cubicBezTo>
                <a:cubicBezTo>
                  <a:pt x="10036" y="9517"/>
                  <a:pt x="10032" y="9613"/>
                  <a:pt x="10021" y="9699"/>
                </a:cubicBezTo>
                <a:cubicBezTo>
                  <a:pt x="10008" y="9800"/>
                  <a:pt x="9996" y="9893"/>
                  <a:pt x="9996" y="9996"/>
                </a:cubicBezTo>
                <a:cubicBezTo>
                  <a:pt x="9996" y="10133"/>
                  <a:pt x="9984" y="10259"/>
                  <a:pt x="9971" y="10393"/>
                </a:cubicBezTo>
                <a:cubicBezTo>
                  <a:pt x="9959" y="10510"/>
                  <a:pt x="9965" y="10635"/>
                  <a:pt x="9947" y="10740"/>
                </a:cubicBezTo>
                <a:cubicBezTo>
                  <a:pt x="9947" y="10748"/>
                  <a:pt x="9947" y="10757"/>
                  <a:pt x="9947" y="10765"/>
                </a:cubicBezTo>
              </a:path>
              <a:path w="3424" h="3970">
                <a:moveTo>
                  <a:pt x="10815" y="6896"/>
                </a:moveTo>
                <a:cubicBezTo>
                  <a:pt x="10872" y="6846"/>
                  <a:pt x="10890" y="6827"/>
                  <a:pt x="10964" y="6821"/>
                </a:cubicBezTo>
                <a:cubicBezTo>
                  <a:pt x="10988" y="6821"/>
                  <a:pt x="10997" y="6821"/>
                  <a:pt x="11013" y="6821"/>
                </a:cubicBezTo>
                <a:cubicBezTo>
                  <a:pt x="11013" y="6874"/>
                  <a:pt x="11011" y="6901"/>
                  <a:pt x="10988" y="6945"/>
                </a:cubicBezTo>
                <a:cubicBezTo>
                  <a:pt x="10954" y="7009"/>
                  <a:pt x="10907" y="7048"/>
                  <a:pt x="10889" y="7119"/>
                </a:cubicBezTo>
                <a:cubicBezTo>
                  <a:pt x="10889" y="7127"/>
                  <a:pt x="10889" y="7136"/>
                  <a:pt x="10889" y="7144"/>
                </a:cubicBezTo>
                <a:cubicBezTo>
                  <a:pt x="10945" y="7155"/>
                  <a:pt x="10979" y="7169"/>
                  <a:pt x="11038" y="7169"/>
                </a:cubicBezTo>
                <a:cubicBezTo>
                  <a:pt x="11063" y="7169"/>
                  <a:pt x="11071" y="7169"/>
                  <a:pt x="11088" y="7169"/>
                </a:cubicBezTo>
                <a:cubicBezTo>
                  <a:pt x="11088" y="7245"/>
                  <a:pt x="11093" y="7244"/>
                  <a:pt x="11038" y="7293"/>
                </a:cubicBezTo>
                <a:cubicBezTo>
                  <a:pt x="10985" y="7340"/>
                  <a:pt x="10933" y="7362"/>
                  <a:pt x="10864" y="7367"/>
                </a:cubicBezTo>
                <a:cubicBezTo>
                  <a:pt x="10856" y="7367"/>
                  <a:pt x="10848" y="7367"/>
                  <a:pt x="10840" y="7367"/>
                </a:cubicBezTo>
              </a:path>
              <a:path w="3424" h="3970">
                <a:moveTo>
                  <a:pt x="9500" y="8458"/>
                </a:moveTo>
                <a:cubicBezTo>
                  <a:pt x="9508" y="8442"/>
                  <a:pt x="9517" y="8425"/>
                  <a:pt x="9525" y="8409"/>
                </a:cubicBezTo>
                <a:cubicBezTo>
                  <a:pt x="9576" y="8477"/>
                  <a:pt x="9514" y="8457"/>
                  <a:pt x="9500" y="8533"/>
                </a:cubicBezTo>
                <a:cubicBezTo>
                  <a:pt x="9486" y="8607"/>
                  <a:pt x="9463" y="8683"/>
                  <a:pt x="9451" y="8756"/>
                </a:cubicBezTo>
                <a:cubicBezTo>
                  <a:pt x="9446" y="8785"/>
                  <a:pt x="9451" y="8824"/>
                  <a:pt x="9451" y="8855"/>
                </a:cubicBezTo>
                <a:cubicBezTo>
                  <a:pt x="9525" y="8855"/>
                  <a:pt x="9589" y="8843"/>
                  <a:pt x="9649" y="8830"/>
                </a:cubicBezTo>
                <a:cubicBezTo>
                  <a:pt x="9695" y="8820"/>
                  <a:pt x="9762" y="8821"/>
                  <a:pt x="9773" y="8855"/>
                </a:cubicBezTo>
              </a:path>
              <a:path w="3424" h="3970">
                <a:moveTo>
                  <a:pt x="9599" y="8706"/>
                </a:moveTo>
                <a:cubicBezTo>
                  <a:pt x="9599" y="8682"/>
                  <a:pt x="9599" y="8674"/>
                  <a:pt x="9575" y="8682"/>
                </a:cubicBezTo>
                <a:cubicBezTo>
                  <a:pt x="9575" y="8771"/>
                  <a:pt x="9572" y="8847"/>
                  <a:pt x="9599" y="8930"/>
                </a:cubicBezTo>
              </a:path>
              <a:path w="3424" h="3970">
                <a:moveTo>
                  <a:pt x="10542" y="7144"/>
                </a:moveTo>
                <a:cubicBezTo>
                  <a:pt x="10453" y="7144"/>
                  <a:pt x="10380" y="7145"/>
                  <a:pt x="10294" y="7169"/>
                </a:cubicBezTo>
              </a:path>
              <a:path w="3424" h="3970">
                <a:moveTo>
                  <a:pt x="9971" y="10790"/>
                </a:moveTo>
                <a:cubicBezTo>
                  <a:pt x="9971" y="10782"/>
                  <a:pt x="9971" y="10773"/>
                  <a:pt x="9971" y="10765"/>
                </a:cubicBezTo>
                <a:cubicBezTo>
                  <a:pt x="9989" y="10749"/>
                  <a:pt x="10027" y="10750"/>
                  <a:pt x="10046" y="10716"/>
                </a:cubicBezTo>
                <a:cubicBezTo>
                  <a:pt x="10081" y="10655"/>
                  <a:pt x="10090" y="10644"/>
                  <a:pt x="10145" y="10592"/>
                </a:cubicBezTo>
                <a:cubicBezTo>
                  <a:pt x="10174" y="10565"/>
                  <a:pt x="10209" y="10508"/>
                  <a:pt x="10244" y="10468"/>
                </a:cubicBezTo>
                <a:cubicBezTo>
                  <a:pt x="10290" y="10416"/>
                  <a:pt x="10344" y="10376"/>
                  <a:pt x="10393" y="10319"/>
                </a:cubicBezTo>
                <a:cubicBezTo>
                  <a:pt x="10447" y="10256"/>
                  <a:pt x="10494" y="10206"/>
                  <a:pt x="10542" y="10145"/>
                </a:cubicBezTo>
                <a:cubicBezTo>
                  <a:pt x="10581" y="10095"/>
                  <a:pt x="10627" y="10046"/>
                  <a:pt x="10666" y="9996"/>
                </a:cubicBezTo>
                <a:cubicBezTo>
                  <a:pt x="10711" y="9939"/>
                  <a:pt x="10742" y="9880"/>
                  <a:pt x="10790" y="9823"/>
                </a:cubicBezTo>
                <a:cubicBezTo>
                  <a:pt x="10814" y="9795"/>
                  <a:pt x="10836" y="9759"/>
                  <a:pt x="10864" y="9723"/>
                </a:cubicBezTo>
                <a:cubicBezTo>
                  <a:pt x="10900" y="9677"/>
                  <a:pt x="10927" y="9619"/>
                  <a:pt x="10964" y="9575"/>
                </a:cubicBezTo>
                <a:cubicBezTo>
                  <a:pt x="11044" y="9481"/>
                  <a:pt x="11119" y="9404"/>
                  <a:pt x="11187" y="9302"/>
                </a:cubicBezTo>
                <a:cubicBezTo>
                  <a:pt x="11225" y="9245"/>
                  <a:pt x="11268" y="9206"/>
                  <a:pt x="11311" y="9153"/>
                </a:cubicBezTo>
                <a:cubicBezTo>
                  <a:pt x="11363" y="9089"/>
                  <a:pt x="11419" y="9027"/>
                  <a:pt x="11460" y="8954"/>
                </a:cubicBezTo>
                <a:cubicBezTo>
                  <a:pt x="11517" y="8852"/>
                  <a:pt x="11575" y="8756"/>
                  <a:pt x="11633" y="8657"/>
                </a:cubicBezTo>
                <a:cubicBezTo>
                  <a:pt x="11673" y="8588"/>
                  <a:pt x="11710" y="8546"/>
                  <a:pt x="11757" y="8483"/>
                </a:cubicBezTo>
                <a:cubicBezTo>
                  <a:pt x="11792" y="8437"/>
                  <a:pt x="11820" y="8378"/>
                  <a:pt x="11857" y="8334"/>
                </a:cubicBezTo>
                <a:cubicBezTo>
                  <a:pt x="11878" y="8309"/>
                  <a:pt x="11915" y="8250"/>
                  <a:pt x="11931" y="8235"/>
                </a:cubicBezTo>
                <a:cubicBezTo>
                  <a:pt x="11954" y="8212"/>
                  <a:pt x="11958" y="8204"/>
                  <a:pt x="11981" y="8210"/>
                </a:cubicBezTo>
                <a:cubicBezTo>
                  <a:pt x="11995" y="8168"/>
                  <a:pt x="12014" y="8133"/>
                  <a:pt x="12030" y="8086"/>
                </a:cubicBezTo>
                <a:cubicBezTo>
                  <a:pt x="12039" y="8059"/>
                  <a:pt x="12042" y="8012"/>
                  <a:pt x="12055" y="7987"/>
                </a:cubicBezTo>
                <a:cubicBezTo>
                  <a:pt x="12073" y="7953"/>
                  <a:pt x="12089" y="7920"/>
                  <a:pt x="12105" y="7888"/>
                </a:cubicBezTo>
                <a:cubicBezTo>
                  <a:pt x="12117" y="7864"/>
                  <a:pt x="12142" y="7833"/>
                  <a:pt x="12154" y="7813"/>
                </a:cubicBezTo>
                <a:cubicBezTo>
                  <a:pt x="12171" y="7796"/>
                  <a:pt x="12187" y="7780"/>
                  <a:pt x="12204" y="7764"/>
                </a:cubicBezTo>
                <a:cubicBezTo>
                  <a:pt x="12227" y="7741"/>
                  <a:pt x="12235" y="7730"/>
                  <a:pt x="12229" y="7764"/>
                </a:cubicBezTo>
              </a:path>
              <a:path w="3424" h="3970">
                <a:moveTo>
                  <a:pt x="11261" y="9079"/>
                </a:moveTo>
                <a:cubicBezTo>
                  <a:pt x="11234" y="9041"/>
                  <a:pt x="11237" y="9027"/>
                  <a:pt x="11237" y="8979"/>
                </a:cubicBezTo>
                <a:cubicBezTo>
                  <a:pt x="11237" y="8903"/>
                  <a:pt x="11212" y="8837"/>
                  <a:pt x="11212" y="8756"/>
                </a:cubicBezTo>
                <a:cubicBezTo>
                  <a:pt x="11212" y="8739"/>
                  <a:pt x="11212" y="8723"/>
                  <a:pt x="11212" y="8706"/>
                </a:cubicBezTo>
                <a:cubicBezTo>
                  <a:pt x="11242" y="8787"/>
                  <a:pt x="11257" y="8866"/>
                  <a:pt x="11261" y="8954"/>
                </a:cubicBezTo>
                <a:cubicBezTo>
                  <a:pt x="11265" y="9043"/>
                  <a:pt x="11280" y="9116"/>
                  <a:pt x="11286" y="9203"/>
                </a:cubicBezTo>
                <a:cubicBezTo>
                  <a:pt x="11289" y="9247"/>
                  <a:pt x="11283" y="9240"/>
                  <a:pt x="11311" y="9277"/>
                </a:cubicBezTo>
                <a:cubicBezTo>
                  <a:pt x="11361" y="9264"/>
                  <a:pt x="11407" y="9224"/>
                  <a:pt x="11460" y="9203"/>
                </a:cubicBezTo>
                <a:cubicBezTo>
                  <a:pt x="11551" y="9167"/>
                  <a:pt x="11610" y="9153"/>
                  <a:pt x="11708" y="9153"/>
                </a:cubicBezTo>
                <a:cubicBezTo>
                  <a:pt x="11741" y="9153"/>
                  <a:pt x="11774" y="9153"/>
                  <a:pt x="11807" y="9153"/>
                </a:cubicBezTo>
              </a:path>
              <a:path w="3424" h="3970">
                <a:moveTo>
                  <a:pt x="11757" y="7020"/>
                </a:moveTo>
                <a:cubicBezTo>
                  <a:pt x="11786" y="6991"/>
                  <a:pt x="11798" y="6982"/>
                  <a:pt x="11807" y="6945"/>
                </a:cubicBezTo>
                <a:cubicBezTo>
                  <a:pt x="11756" y="6945"/>
                  <a:pt x="11749" y="6946"/>
                  <a:pt x="11708" y="6970"/>
                </a:cubicBezTo>
                <a:cubicBezTo>
                  <a:pt x="11626" y="7017"/>
                  <a:pt x="11633" y="7055"/>
                  <a:pt x="11633" y="7144"/>
                </a:cubicBezTo>
                <a:cubicBezTo>
                  <a:pt x="11633" y="7179"/>
                  <a:pt x="11638" y="7196"/>
                  <a:pt x="11658" y="7218"/>
                </a:cubicBezTo>
                <a:cubicBezTo>
                  <a:pt x="11716" y="7218"/>
                  <a:pt x="11745" y="7197"/>
                  <a:pt x="11782" y="7144"/>
                </a:cubicBezTo>
                <a:cubicBezTo>
                  <a:pt x="11812" y="7101"/>
                  <a:pt x="11814" y="7044"/>
                  <a:pt x="11832" y="6995"/>
                </a:cubicBezTo>
                <a:cubicBezTo>
                  <a:pt x="11857" y="7045"/>
                  <a:pt x="11881" y="7094"/>
                  <a:pt x="11906" y="7144"/>
                </a:cubicBezTo>
              </a:path>
              <a:path w="3424" h="3970">
                <a:moveTo>
                  <a:pt x="8930" y="9054"/>
                </a:moveTo>
                <a:cubicBezTo>
                  <a:pt x="8930" y="9021"/>
                  <a:pt x="8930" y="8987"/>
                  <a:pt x="8930" y="8954"/>
                </a:cubicBezTo>
                <a:cubicBezTo>
                  <a:pt x="8887" y="9026"/>
                  <a:pt x="8883" y="9114"/>
                  <a:pt x="8880" y="9203"/>
                </a:cubicBezTo>
                <a:cubicBezTo>
                  <a:pt x="8877" y="9282"/>
                  <a:pt x="8867" y="9362"/>
                  <a:pt x="8905" y="9426"/>
                </a:cubicBezTo>
                <a:cubicBezTo>
                  <a:pt x="8959" y="9371"/>
                  <a:pt x="8995" y="9319"/>
                  <a:pt x="9054" y="9277"/>
                </a:cubicBezTo>
                <a:cubicBezTo>
                  <a:pt x="9121" y="9326"/>
                  <a:pt x="9148" y="9364"/>
                  <a:pt x="9153" y="9451"/>
                </a:cubicBezTo>
                <a:cubicBezTo>
                  <a:pt x="9157" y="9523"/>
                  <a:pt x="9093" y="9540"/>
                  <a:pt x="9029" y="9525"/>
                </a:cubicBezTo>
                <a:cubicBezTo>
                  <a:pt x="9004" y="9517"/>
                  <a:pt x="8979" y="9508"/>
                  <a:pt x="8954" y="9500"/>
                </a:cubicBezTo>
              </a:path>
              <a:path w="3424" h="3970">
                <a:moveTo>
                  <a:pt x="11881" y="9674"/>
                </a:moveTo>
                <a:cubicBezTo>
                  <a:pt x="11922" y="9664"/>
                  <a:pt x="11921" y="9665"/>
                  <a:pt x="11931" y="9624"/>
                </a:cubicBezTo>
                <a:cubicBezTo>
                  <a:pt x="11884" y="9624"/>
                  <a:pt x="11848" y="9617"/>
                  <a:pt x="11807" y="9649"/>
                </a:cubicBezTo>
                <a:cubicBezTo>
                  <a:pt x="11734" y="9705"/>
                  <a:pt x="11664" y="9798"/>
                  <a:pt x="11708" y="9897"/>
                </a:cubicBezTo>
                <a:cubicBezTo>
                  <a:pt x="11741" y="9971"/>
                  <a:pt x="11889" y="10001"/>
                  <a:pt x="11956" y="9971"/>
                </a:cubicBezTo>
                <a:cubicBezTo>
                  <a:pt x="11972" y="9955"/>
                  <a:pt x="11989" y="9938"/>
                  <a:pt x="12005" y="99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411880" y="2705040"/>
            <a:ext cx="1554120" cy="590760"/>
          </a:xfrm>
          <a:custGeom>
            <a:avLst/>
            <a:gdLst/>
            <a:ahLst/>
            <a:rect l="l" t="t" r="r" b="b"/>
            <a:pathLst>
              <a:path w="4317" h="1638">
                <a:moveTo>
                  <a:pt x="15329" y="7962"/>
                </a:moveTo>
                <a:cubicBezTo>
                  <a:pt x="15387" y="7925"/>
                  <a:pt x="15379" y="7948"/>
                  <a:pt x="15379" y="7888"/>
                </a:cubicBezTo>
                <a:cubicBezTo>
                  <a:pt x="15325" y="7888"/>
                  <a:pt x="15247" y="7871"/>
                  <a:pt x="15205" y="7913"/>
                </a:cubicBezTo>
                <a:cubicBezTo>
                  <a:pt x="15166" y="7951"/>
                  <a:pt x="15129" y="8047"/>
                  <a:pt x="15180" y="8086"/>
                </a:cubicBezTo>
                <a:cubicBezTo>
                  <a:pt x="15247" y="8138"/>
                  <a:pt x="15315" y="8070"/>
                  <a:pt x="15354" y="8012"/>
                </a:cubicBezTo>
                <a:cubicBezTo>
                  <a:pt x="15379" y="7962"/>
                  <a:pt x="15387" y="7946"/>
                  <a:pt x="15404" y="7913"/>
                </a:cubicBezTo>
                <a:cubicBezTo>
                  <a:pt x="15459" y="7981"/>
                  <a:pt x="15484" y="8063"/>
                  <a:pt x="15528" y="8136"/>
                </a:cubicBezTo>
                <a:cubicBezTo>
                  <a:pt x="15536" y="8144"/>
                  <a:pt x="15545" y="8153"/>
                  <a:pt x="15553" y="8161"/>
                </a:cubicBezTo>
              </a:path>
              <a:path w="4317" h="1638">
                <a:moveTo>
                  <a:pt x="15801" y="7739"/>
                </a:moveTo>
                <a:cubicBezTo>
                  <a:pt x="15780" y="7689"/>
                  <a:pt x="15753" y="7648"/>
                  <a:pt x="15825" y="7640"/>
                </a:cubicBezTo>
                <a:cubicBezTo>
                  <a:pt x="15853" y="7640"/>
                  <a:pt x="15864" y="7642"/>
                  <a:pt x="15875" y="7665"/>
                </a:cubicBezTo>
                <a:cubicBezTo>
                  <a:pt x="15864" y="7719"/>
                  <a:pt x="15813" y="7766"/>
                  <a:pt x="15801" y="7813"/>
                </a:cubicBezTo>
                <a:cubicBezTo>
                  <a:pt x="15792" y="7849"/>
                  <a:pt x="15790" y="7935"/>
                  <a:pt x="15825" y="7938"/>
                </a:cubicBezTo>
                <a:cubicBezTo>
                  <a:pt x="15870" y="7938"/>
                  <a:pt x="15883" y="7941"/>
                  <a:pt x="15900" y="7913"/>
                </a:cubicBezTo>
              </a:path>
              <a:path w="4317" h="1638">
                <a:moveTo>
                  <a:pt x="16545" y="7962"/>
                </a:moveTo>
                <a:cubicBezTo>
                  <a:pt x="16590" y="7929"/>
                  <a:pt x="16605" y="7938"/>
                  <a:pt x="16545" y="7938"/>
                </a:cubicBezTo>
                <a:cubicBezTo>
                  <a:pt x="16472" y="7938"/>
                  <a:pt x="16329" y="7915"/>
                  <a:pt x="16297" y="7962"/>
                </a:cubicBezTo>
              </a:path>
              <a:path w="4317" h="1638">
                <a:moveTo>
                  <a:pt x="16396" y="7838"/>
                </a:moveTo>
                <a:cubicBezTo>
                  <a:pt x="16404" y="7830"/>
                  <a:pt x="16413" y="7821"/>
                  <a:pt x="16421" y="7813"/>
                </a:cubicBezTo>
                <a:cubicBezTo>
                  <a:pt x="16421" y="7912"/>
                  <a:pt x="16421" y="8012"/>
                  <a:pt x="16421" y="8111"/>
                </a:cubicBezTo>
              </a:path>
              <a:path w="4317" h="1638">
                <a:moveTo>
                  <a:pt x="16892" y="7640"/>
                </a:moveTo>
                <a:cubicBezTo>
                  <a:pt x="16912" y="7579"/>
                  <a:pt x="16910" y="7564"/>
                  <a:pt x="16942" y="7541"/>
                </a:cubicBezTo>
                <a:cubicBezTo>
                  <a:pt x="16893" y="7638"/>
                  <a:pt x="16872" y="7733"/>
                  <a:pt x="16842" y="7838"/>
                </a:cubicBezTo>
                <a:cubicBezTo>
                  <a:pt x="16821" y="7910"/>
                  <a:pt x="16818" y="7962"/>
                  <a:pt x="16818" y="8037"/>
                </a:cubicBezTo>
                <a:cubicBezTo>
                  <a:pt x="16865" y="8025"/>
                  <a:pt x="16913" y="7996"/>
                  <a:pt x="16966" y="7987"/>
                </a:cubicBezTo>
                <a:cubicBezTo>
                  <a:pt x="17007" y="7980"/>
                  <a:pt x="17076" y="7986"/>
                  <a:pt x="17090" y="8037"/>
                </a:cubicBezTo>
                <a:cubicBezTo>
                  <a:pt x="17113" y="8120"/>
                  <a:pt x="17023" y="8133"/>
                  <a:pt x="16966" y="8136"/>
                </a:cubicBezTo>
                <a:cubicBezTo>
                  <a:pt x="16917" y="8136"/>
                  <a:pt x="16900" y="8136"/>
                  <a:pt x="16867" y="8136"/>
                </a:cubicBezTo>
              </a:path>
              <a:path w="4317" h="1638">
                <a:moveTo>
                  <a:pt x="17314" y="7739"/>
                </a:moveTo>
                <a:cubicBezTo>
                  <a:pt x="17310" y="7729"/>
                  <a:pt x="17265" y="7634"/>
                  <a:pt x="17289" y="7615"/>
                </a:cubicBezTo>
                <a:cubicBezTo>
                  <a:pt x="17302" y="7604"/>
                  <a:pt x="17364" y="7576"/>
                  <a:pt x="17388" y="7590"/>
                </a:cubicBezTo>
                <a:cubicBezTo>
                  <a:pt x="17456" y="7628"/>
                  <a:pt x="17385" y="7698"/>
                  <a:pt x="17363" y="7739"/>
                </a:cubicBezTo>
                <a:cubicBezTo>
                  <a:pt x="17339" y="7784"/>
                  <a:pt x="17294" y="7842"/>
                  <a:pt x="17289" y="7888"/>
                </a:cubicBezTo>
                <a:cubicBezTo>
                  <a:pt x="17289" y="7896"/>
                  <a:pt x="17289" y="7905"/>
                  <a:pt x="17289" y="7913"/>
                </a:cubicBezTo>
                <a:cubicBezTo>
                  <a:pt x="17347" y="7901"/>
                  <a:pt x="17386" y="7868"/>
                  <a:pt x="17438" y="7838"/>
                </a:cubicBezTo>
              </a:path>
              <a:path w="4317" h="1638">
                <a:moveTo>
                  <a:pt x="18083" y="7888"/>
                </a:moveTo>
                <a:cubicBezTo>
                  <a:pt x="18103" y="7847"/>
                  <a:pt x="18100" y="7830"/>
                  <a:pt x="18132" y="7838"/>
                </a:cubicBezTo>
                <a:cubicBezTo>
                  <a:pt x="18110" y="7804"/>
                  <a:pt x="18084" y="7813"/>
                  <a:pt x="18033" y="7813"/>
                </a:cubicBezTo>
                <a:cubicBezTo>
                  <a:pt x="18025" y="7813"/>
                  <a:pt x="18016" y="7813"/>
                  <a:pt x="18008" y="7813"/>
                </a:cubicBezTo>
              </a:path>
              <a:path w="4317" h="1638">
                <a:moveTo>
                  <a:pt x="18083" y="7962"/>
                </a:moveTo>
                <a:cubicBezTo>
                  <a:pt x="18083" y="7970"/>
                  <a:pt x="18083" y="7979"/>
                  <a:pt x="18083" y="7987"/>
                </a:cubicBezTo>
                <a:cubicBezTo>
                  <a:pt x="18033" y="7987"/>
                  <a:pt x="17984" y="7987"/>
                  <a:pt x="17934" y="7987"/>
                </a:cubicBezTo>
              </a:path>
              <a:path w="4317" h="1638">
                <a:moveTo>
                  <a:pt x="18604" y="7838"/>
                </a:moveTo>
                <a:cubicBezTo>
                  <a:pt x="18604" y="7794"/>
                  <a:pt x="18607" y="7780"/>
                  <a:pt x="18579" y="7764"/>
                </a:cubicBezTo>
                <a:cubicBezTo>
                  <a:pt x="18521" y="7779"/>
                  <a:pt x="18487" y="7809"/>
                  <a:pt x="18455" y="7863"/>
                </a:cubicBezTo>
                <a:cubicBezTo>
                  <a:pt x="18420" y="7923"/>
                  <a:pt x="18382" y="7952"/>
                  <a:pt x="18430" y="8012"/>
                </a:cubicBezTo>
                <a:cubicBezTo>
                  <a:pt x="18474" y="8067"/>
                  <a:pt x="18551" y="8032"/>
                  <a:pt x="18604" y="8012"/>
                </a:cubicBezTo>
              </a:path>
              <a:path w="4317" h="1638">
                <a:moveTo>
                  <a:pt x="18951" y="7590"/>
                </a:moveTo>
                <a:cubicBezTo>
                  <a:pt x="18934" y="7574"/>
                  <a:pt x="18918" y="7557"/>
                  <a:pt x="18901" y="7541"/>
                </a:cubicBezTo>
                <a:cubicBezTo>
                  <a:pt x="18913" y="7532"/>
                  <a:pt x="18980" y="7490"/>
                  <a:pt x="19000" y="7516"/>
                </a:cubicBezTo>
                <a:cubicBezTo>
                  <a:pt x="19023" y="7546"/>
                  <a:pt x="18980" y="7619"/>
                  <a:pt x="18976" y="7640"/>
                </a:cubicBezTo>
                <a:cubicBezTo>
                  <a:pt x="18966" y="7697"/>
                  <a:pt x="18938" y="7731"/>
                  <a:pt x="18926" y="7789"/>
                </a:cubicBezTo>
                <a:cubicBezTo>
                  <a:pt x="18965" y="7817"/>
                  <a:pt x="19023" y="7827"/>
                  <a:pt x="19075" y="7813"/>
                </a:cubicBezTo>
                <a:cubicBezTo>
                  <a:pt x="19124" y="7789"/>
                  <a:pt x="19141" y="7781"/>
                  <a:pt x="19174" y="7764"/>
                </a:cubicBezTo>
              </a:path>
              <a:path w="4317" h="1638">
                <a:moveTo>
                  <a:pt x="15205" y="8781"/>
                </a:moveTo>
                <a:cubicBezTo>
                  <a:pt x="15241" y="8754"/>
                  <a:pt x="15274" y="8756"/>
                  <a:pt x="15280" y="8706"/>
                </a:cubicBezTo>
                <a:cubicBezTo>
                  <a:pt x="15280" y="8698"/>
                  <a:pt x="15280" y="8690"/>
                  <a:pt x="15280" y="8682"/>
                </a:cubicBezTo>
                <a:cubicBezTo>
                  <a:pt x="15268" y="8646"/>
                  <a:pt x="15204" y="8644"/>
                  <a:pt x="15156" y="8657"/>
                </a:cubicBezTo>
                <a:cubicBezTo>
                  <a:pt x="15069" y="8681"/>
                  <a:pt x="15016" y="8768"/>
                  <a:pt x="15032" y="8855"/>
                </a:cubicBezTo>
                <a:cubicBezTo>
                  <a:pt x="15046" y="8933"/>
                  <a:pt x="15124" y="8948"/>
                  <a:pt x="15180" y="8905"/>
                </a:cubicBezTo>
                <a:cubicBezTo>
                  <a:pt x="15245" y="8855"/>
                  <a:pt x="15234" y="8746"/>
                  <a:pt x="15280" y="8706"/>
                </a:cubicBezTo>
                <a:cubicBezTo>
                  <a:pt x="15288" y="8706"/>
                  <a:pt x="15296" y="8706"/>
                  <a:pt x="15304" y="8706"/>
                </a:cubicBezTo>
                <a:cubicBezTo>
                  <a:pt x="15304" y="8818"/>
                  <a:pt x="15325" y="8919"/>
                  <a:pt x="15329" y="9029"/>
                </a:cubicBezTo>
                <a:cubicBezTo>
                  <a:pt x="15329" y="9054"/>
                  <a:pt x="15329" y="9078"/>
                  <a:pt x="15329" y="9103"/>
                </a:cubicBezTo>
              </a:path>
              <a:path w="4317" h="1638">
                <a:moveTo>
                  <a:pt x="16024" y="8930"/>
                </a:moveTo>
                <a:cubicBezTo>
                  <a:pt x="16049" y="8930"/>
                  <a:pt x="16073" y="8930"/>
                  <a:pt x="16098" y="8930"/>
                </a:cubicBezTo>
                <a:cubicBezTo>
                  <a:pt x="16035" y="8902"/>
                  <a:pt x="15996" y="8905"/>
                  <a:pt x="15925" y="8905"/>
                </a:cubicBezTo>
                <a:cubicBezTo>
                  <a:pt x="15884" y="8905"/>
                  <a:pt x="15842" y="8905"/>
                  <a:pt x="15801" y="8905"/>
                </a:cubicBezTo>
              </a:path>
              <a:path w="4317" h="1638">
                <a:moveTo>
                  <a:pt x="15925" y="8781"/>
                </a:moveTo>
                <a:cubicBezTo>
                  <a:pt x="15933" y="8773"/>
                  <a:pt x="15941" y="8764"/>
                  <a:pt x="15949" y="8756"/>
                </a:cubicBezTo>
                <a:cubicBezTo>
                  <a:pt x="15949" y="8834"/>
                  <a:pt x="15971" y="8901"/>
                  <a:pt x="15974" y="8979"/>
                </a:cubicBezTo>
                <a:cubicBezTo>
                  <a:pt x="15977" y="9047"/>
                  <a:pt x="15957" y="9089"/>
                  <a:pt x="15949" y="9153"/>
                </a:cubicBezTo>
              </a:path>
              <a:path w="4317" h="1638">
                <a:moveTo>
                  <a:pt x="16470" y="8706"/>
                </a:moveTo>
                <a:cubicBezTo>
                  <a:pt x="16470" y="8682"/>
                  <a:pt x="16470" y="8673"/>
                  <a:pt x="16470" y="8657"/>
                </a:cubicBezTo>
                <a:cubicBezTo>
                  <a:pt x="16511" y="8671"/>
                  <a:pt x="16505" y="8756"/>
                  <a:pt x="16495" y="8806"/>
                </a:cubicBezTo>
                <a:cubicBezTo>
                  <a:pt x="16479" y="8891"/>
                  <a:pt x="16452" y="8969"/>
                  <a:pt x="16446" y="9054"/>
                </a:cubicBezTo>
                <a:cubicBezTo>
                  <a:pt x="16446" y="9062"/>
                  <a:pt x="16446" y="9071"/>
                  <a:pt x="16446" y="9079"/>
                </a:cubicBezTo>
              </a:path>
              <a:path w="4317" h="1638">
                <a:moveTo>
                  <a:pt x="17090" y="8582"/>
                </a:moveTo>
                <a:cubicBezTo>
                  <a:pt x="17110" y="8542"/>
                  <a:pt x="17119" y="8536"/>
                  <a:pt x="17115" y="8508"/>
                </a:cubicBezTo>
                <a:cubicBezTo>
                  <a:pt x="17058" y="8566"/>
                  <a:pt x="17023" y="8629"/>
                  <a:pt x="16991" y="8706"/>
                </a:cubicBezTo>
                <a:cubicBezTo>
                  <a:pt x="16954" y="8794"/>
                  <a:pt x="16872" y="8954"/>
                  <a:pt x="16917" y="9054"/>
                </a:cubicBezTo>
                <a:cubicBezTo>
                  <a:pt x="16946" y="9119"/>
                  <a:pt x="17033" y="9159"/>
                  <a:pt x="17090" y="9103"/>
                </a:cubicBezTo>
                <a:cubicBezTo>
                  <a:pt x="17134" y="9060"/>
                  <a:pt x="17140" y="9011"/>
                  <a:pt x="17140" y="8954"/>
                </a:cubicBezTo>
                <a:cubicBezTo>
                  <a:pt x="17140" y="8907"/>
                  <a:pt x="17102" y="8912"/>
                  <a:pt x="17066" y="8905"/>
                </a:cubicBezTo>
              </a:path>
              <a:path w="4317" h="1638">
                <a:moveTo>
                  <a:pt x="18207" y="8930"/>
                </a:moveTo>
                <a:cubicBezTo>
                  <a:pt x="18166" y="8930"/>
                  <a:pt x="18124" y="8930"/>
                  <a:pt x="18083" y="8930"/>
                </a:cubicBezTo>
              </a:path>
              <a:path w="4317" h="1638">
                <a:moveTo>
                  <a:pt x="18157" y="9029"/>
                </a:moveTo>
                <a:cubicBezTo>
                  <a:pt x="18174" y="9029"/>
                  <a:pt x="18190" y="9029"/>
                  <a:pt x="18207" y="9029"/>
                </a:cubicBezTo>
                <a:cubicBezTo>
                  <a:pt x="18190" y="9095"/>
                  <a:pt x="18176" y="9056"/>
                  <a:pt x="18132" y="9079"/>
                </a:cubicBezTo>
                <a:cubicBezTo>
                  <a:pt x="18124" y="9087"/>
                  <a:pt x="18115" y="9095"/>
                  <a:pt x="18107" y="9103"/>
                </a:cubicBezTo>
              </a:path>
              <a:path w="4317" h="1638">
                <a:moveTo>
                  <a:pt x="18703" y="8880"/>
                </a:moveTo>
                <a:cubicBezTo>
                  <a:pt x="18711" y="8872"/>
                  <a:pt x="18720" y="8863"/>
                  <a:pt x="18728" y="8855"/>
                </a:cubicBezTo>
                <a:cubicBezTo>
                  <a:pt x="18662" y="8855"/>
                  <a:pt x="18622" y="8874"/>
                  <a:pt x="18579" y="8930"/>
                </a:cubicBezTo>
                <a:cubicBezTo>
                  <a:pt x="18537" y="8985"/>
                  <a:pt x="18544" y="9072"/>
                  <a:pt x="18579" y="9128"/>
                </a:cubicBezTo>
                <a:cubicBezTo>
                  <a:pt x="18628" y="9207"/>
                  <a:pt x="18714" y="9112"/>
                  <a:pt x="18752" y="9079"/>
                </a:cubicBezTo>
              </a:path>
              <a:path w="4317" h="1638">
                <a:moveTo>
                  <a:pt x="19075" y="8558"/>
                </a:moveTo>
                <a:cubicBezTo>
                  <a:pt x="19108" y="8531"/>
                  <a:pt x="19150" y="8490"/>
                  <a:pt x="19199" y="8508"/>
                </a:cubicBezTo>
                <a:cubicBezTo>
                  <a:pt x="19253" y="8527"/>
                  <a:pt x="19264" y="8575"/>
                  <a:pt x="19248" y="8632"/>
                </a:cubicBezTo>
                <a:cubicBezTo>
                  <a:pt x="19229" y="8700"/>
                  <a:pt x="19144" y="8722"/>
                  <a:pt x="19124" y="8781"/>
                </a:cubicBezTo>
                <a:cubicBezTo>
                  <a:pt x="19124" y="8822"/>
                  <a:pt x="19124" y="8830"/>
                  <a:pt x="19124" y="8855"/>
                </a:cubicBezTo>
                <a:cubicBezTo>
                  <a:pt x="19181" y="8855"/>
                  <a:pt x="19221" y="8839"/>
                  <a:pt x="19273" y="8830"/>
                </a:cubicBezTo>
                <a:cubicBezTo>
                  <a:pt x="19318" y="8830"/>
                  <a:pt x="19331" y="8834"/>
                  <a:pt x="19348" y="8806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572160" y="3456000"/>
            <a:ext cx="108000" cy="88920"/>
          </a:xfrm>
          <a:custGeom>
            <a:avLst/>
            <a:gdLst/>
            <a:ahLst/>
            <a:rect l="l" t="t" r="r" b="b"/>
            <a:pathLst>
              <a:path w="299" h="249">
                <a:moveTo>
                  <a:pt x="18281" y="9624"/>
                </a:moveTo>
                <a:cubicBezTo>
                  <a:pt x="18345" y="9597"/>
                  <a:pt x="18360" y="9569"/>
                  <a:pt x="18306" y="9599"/>
                </a:cubicBezTo>
                <a:cubicBezTo>
                  <a:pt x="18239" y="9637"/>
                  <a:pt x="18256" y="9696"/>
                  <a:pt x="18281" y="9748"/>
                </a:cubicBezTo>
                <a:cubicBezTo>
                  <a:pt x="18327" y="9846"/>
                  <a:pt x="18393" y="9832"/>
                  <a:pt x="18479" y="9823"/>
                </a:cubicBezTo>
                <a:cubicBezTo>
                  <a:pt x="18531" y="9823"/>
                  <a:pt x="18549" y="9821"/>
                  <a:pt x="18554" y="9773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6367320" y="3463920"/>
            <a:ext cx="34920" cy="9360"/>
          </a:xfrm>
          <a:custGeom>
            <a:avLst/>
            <a:gdLst/>
            <a:ahLst/>
            <a:rect l="l" t="t" r="r" b="b"/>
            <a:pathLst>
              <a:path w="100" h="26">
                <a:moveTo>
                  <a:pt x="17760" y="9624"/>
                </a:moveTo>
                <a:cubicBezTo>
                  <a:pt x="17768" y="9624"/>
                  <a:pt x="17777" y="9624"/>
                  <a:pt x="17785" y="9624"/>
                </a:cubicBezTo>
                <a:cubicBezTo>
                  <a:pt x="17737" y="9624"/>
                  <a:pt x="17724" y="9620"/>
                  <a:pt x="17686" y="9649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357960" y="3500280"/>
            <a:ext cx="27000" cy="9720"/>
          </a:xfrm>
          <a:custGeom>
            <a:avLst/>
            <a:gdLst/>
            <a:ahLst/>
            <a:rect l="l" t="t" r="r" b="b"/>
            <a:pathLst>
              <a:path w="75" h="26">
                <a:moveTo>
                  <a:pt x="17711" y="9723"/>
                </a:moveTo>
                <a:cubicBezTo>
                  <a:pt x="17777" y="9723"/>
                  <a:pt x="17681" y="9748"/>
                  <a:pt x="17661" y="9748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946840" y="3446640"/>
            <a:ext cx="117360" cy="117360"/>
          </a:xfrm>
          <a:custGeom>
            <a:avLst/>
            <a:gdLst/>
            <a:ahLst/>
            <a:rect l="l" t="t" r="r" b="b"/>
            <a:pathLst>
              <a:path w="323" h="323">
                <a:moveTo>
                  <a:pt x="16545" y="9649"/>
                </a:moveTo>
                <a:cubicBezTo>
                  <a:pt x="16519" y="9614"/>
                  <a:pt x="16520" y="9618"/>
                  <a:pt x="16520" y="9575"/>
                </a:cubicBezTo>
                <a:cubicBezTo>
                  <a:pt x="16581" y="9575"/>
                  <a:pt x="16647" y="9561"/>
                  <a:pt x="16694" y="9599"/>
                </a:cubicBezTo>
                <a:cubicBezTo>
                  <a:pt x="16736" y="9633"/>
                  <a:pt x="16725" y="9687"/>
                  <a:pt x="16694" y="9723"/>
                </a:cubicBezTo>
                <a:cubicBezTo>
                  <a:pt x="16660" y="9762"/>
                  <a:pt x="16591" y="9824"/>
                  <a:pt x="16570" y="9872"/>
                </a:cubicBezTo>
                <a:cubicBezTo>
                  <a:pt x="16570" y="9880"/>
                  <a:pt x="16570" y="9889"/>
                  <a:pt x="16570" y="9897"/>
                </a:cubicBezTo>
                <a:cubicBezTo>
                  <a:pt x="16646" y="9897"/>
                  <a:pt x="16697" y="9889"/>
                  <a:pt x="16768" y="9872"/>
                </a:cubicBezTo>
                <a:cubicBezTo>
                  <a:pt x="16790" y="9867"/>
                  <a:pt x="16820" y="9872"/>
                  <a:pt x="16842" y="9872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116760" y="3456000"/>
            <a:ext cx="81000" cy="125280"/>
          </a:xfrm>
          <a:custGeom>
            <a:avLst/>
            <a:gdLst/>
            <a:ahLst/>
            <a:rect l="l" t="t" r="r" b="b"/>
            <a:pathLst>
              <a:path w="224" h="349">
                <a:moveTo>
                  <a:pt x="17066" y="9674"/>
                </a:moveTo>
                <a:cubicBezTo>
                  <a:pt x="17111" y="9635"/>
                  <a:pt x="17128" y="9634"/>
                  <a:pt x="17140" y="9599"/>
                </a:cubicBezTo>
                <a:cubicBezTo>
                  <a:pt x="17082" y="9599"/>
                  <a:pt x="17050" y="9595"/>
                  <a:pt x="17016" y="9649"/>
                </a:cubicBezTo>
                <a:cubicBezTo>
                  <a:pt x="16968" y="9724"/>
                  <a:pt x="16988" y="9729"/>
                  <a:pt x="17041" y="9773"/>
                </a:cubicBezTo>
                <a:cubicBezTo>
                  <a:pt x="17079" y="9804"/>
                  <a:pt x="17124" y="9811"/>
                  <a:pt x="17165" y="9847"/>
                </a:cubicBezTo>
                <a:cubicBezTo>
                  <a:pt x="17195" y="9874"/>
                  <a:pt x="17205" y="9886"/>
                  <a:pt x="17214" y="9922"/>
                </a:cubicBezTo>
                <a:cubicBezTo>
                  <a:pt x="17166" y="9959"/>
                  <a:pt x="17142" y="9953"/>
                  <a:pt x="17090" y="9922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215040" y="3463920"/>
            <a:ext cx="36360" cy="28440"/>
          </a:xfrm>
          <a:custGeom>
            <a:avLst/>
            <a:gdLst/>
            <a:ahLst/>
            <a:rect l="l" t="t" r="r" b="b"/>
            <a:pathLst>
              <a:path w="100" h="76">
                <a:moveTo>
                  <a:pt x="17264" y="9699"/>
                </a:moveTo>
                <a:cubicBezTo>
                  <a:pt x="17373" y="9599"/>
                  <a:pt x="17375" y="9607"/>
                  <a:pt x="17264" y="9649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527880" y="3803760"/>
            <a:ext cx="88920" cy="108000"/>
          </a:xfrm>
          <a:custGeom>
            <a:avLst/>
            <a:gdLst/>
            <a:ahLst/>
            <a:rect l="l" t="t" r="r" b="b"/>
            <a:pathLst>
              <a:path w="249" h="298">
                <a:moveTo>
                  <a:pt x="18331" y="10616"/>
                </a:moveTo>
                <a:cubicBezTo>
                  <a:pt x="18367" y="10589"/>
                  <a:pt x="18369" y="10601"/>
                  <a:pt x="18380" y="10567"/>
                </a:cubicBezTo>
                <a:cubicBezTo>
                  <a:pt x="18319" y="10567"/>
                  <a:pt x="18263" y="10592"/>
                  <a:pt x="18207" y="10616"/>
                </a:cubicBezTo>
                <a:cubicBezTo>
                  <a:pt x="18148" y="10641"/>
                  <a:pt x="18109" y="10697"/>
                  <a:pt x="18132" y="10765"/>
                </a:cubicBezTo>
                <a:cubicBezTo>
                  <a:pt x="18159" y="10844"/>
                  <a:pt x="18235" y="10855"/>
                  <a:pt x="18306" y="10864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303960" y="3786120"/>
            <a:ext cx="63360" cy="9720"/>
          </a:xfrm>
          <a:custGeom>
            <a:avLst/>
            <a:gdLst/>
            <a:ahLst/>
            <a:rect l="l" t="t" r="r" b="b"/>
            <a:pathLst>
              <a:path w="175" h="26">
                <a:moveTo>
                  <a:pt x="17661" y="10542"/>
                </a:moveTo>
                <a:cubicBezTo>
                  <a:pt x="17669" y="10534"/>
                  <a:pt x="17678" y="10525"/>
                  <a:pt x="17686" y="10517"/>
                </a:cubicBezTo>
                <a:cubicBezTo>
                  <a:pt x="17633" y="10530"/>
                  <a:pt x="17601" y="10542"/>
                  <a:pt x="17537" y="10542"/>
                </a:cubicBezTo>
                <a:cubicBezTo>
                  <a:pt x="17529" y="10542"/>
                  <a:pt x="17520" y="10542"/>
                  <a:pt x="17512" y="10542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6330960" y="3830760"/>
            <a:ext cx="19080" cy="19080"/>
          </a:xfrm>
          <a:custGeom>
            <a:avLst/>
            <a:gdLst/>
            <a:ahLst/>
            <a:rect l="l" t="t" r="r" b="b"/>
            <a:pathLst>
              <a:path w="50" h="51">
                <a:moveTo>
                  <a:pt x="17611" y="10641"/>
                </a:moveTo>
                <a:cubicBezTo>
                  <a:pt x="17666" y="10641"/>
                  <a:pt x="17605" y="10673"/>
                  <a:pt x="17587" y="10691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018120" y="3705120"/>
            <a:ext cx="98640" cy="169920"/>
          </a:xfrm>
          <a:custGeom>
            <a:avLst/>
            <a:gdLst/>
            <a:ahLst/>
            <a:rect l="l" t="t" r="r" b="b"/>
            <a:pathLst>
              <a:path w="274" h="472">
                <a:moveTo>
                  <a:pt x="16768" y="10294"/>
                </a:moveTo>
                <a:cubicBezTo>
                  <a:pt x="16738" y="10346"/>
                  <a:pt x="16692" y="10402"/>
                  <a:pt x="16718" y="10468"/>
                </a:cubicBezTo>
                <a:cubicBezTo>
                  <a:pt x="16748" y="10546"/>
                  <a:pt x="16832" y="10547"/>
                  <a:pt x="16892" y="10567"/>
                </a:cubicBezTo>
                <a:cubicBezTo>
                  <a:pt x="16961" y="10590"/>
                  <a:pt x="16986" y="10626"/>
                  <a:pt x="16991" y="10691"/>
                </a:cubicBezTo>
                <a:cubicBezTo>
                  <a:pt x="16996" y="10757"/>
                  <a:pt x="16914" y="10762"/>
                  <a:pt x="16867" y="10765"/>
                </a:cubicBezTo>
                <a:cubicBezTo>
                  <a:pt x="16810" y="10768"/>
                  <a:pt x="16787" y="10767"/>
                  <a:pt x="16743" y="10740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6054840" y="3705120"/>
            <a:ext cx="98280" cy="46080"/>
          </a:xfrm>
          <a:custGeom>
            <a:avLst/>
            <a:gdLst/>
            <a:ahLst/>
            <a:rect l="l" t="t" r="r" b="b"/>
            <a:pathLst>
              <a:path w="273" h="125">
                <a:moveTo>
                  <a:pt x="17016" y="10418"/>
                </a:moveTo>
                <a:cubicBezTo>
                  <a:pt x="17071" y="10363"/>
                  <a:pt x="17096" y="10365"/>
                  <a:pt x="17090" y="10319"/>
                </a:cubicBezTo>
                <a:cubicBezTo>
                  <a:pt x="17019" y="10310"/>
                  <a:pt x="16942" y="10274"/>
                  <a:pt x="16867" y="10294"/>
                </a:cubicBezTo>
                <a:cubicBezTo>
                  <a:pt x="16851" y="10302"/>
                  <a:pt x="16834" y="10311"/>
                  <a:pt x="16818" y="10319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6107040" y="4010040"/>
            <a:ext cx="411120" cy="44280"/>
          </a:xfrm>
          <a:custGeom>
            <a:avLst/>
            <a:gdLst/>
            <a:ahLst/>
            <a:rect l="l" t="t" r="r" b="b"/>
            <a:pathLst>
              <a:path w="1142" h="125">
                <a:moveTo>
                  <a:pt x="18107" y="11261"/>
                </a:moveTo>
                <a:cubicBezTo>
                  <a:pt x="18021" y="11210"/>
                  <a:pt x="17912" y="11225"/>
                  <a:pt x="17810" y="11212"/>
                </a:cubicBezTo>
                <a:cubicBezTo>
                  <a:pt x="17595" y="11185"/>
                  <a:pt x="17381" y="11150"/>
                  <a:pt x="17165" y="11137"/>
                </a:cubicBezTo>
                <a:cubicBezTo>
                  <a:pt x="17057" y="11137"/>
                  <a:pt x="17032" y="11137"/>
                  <a:pt x="16966" y="11137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10:26:16Z</dcterms:created>
  <dc:creator>N Holden</dc:creator>
  <dc:description/>
  <dc:language>en-US</dc:language>
  <cp:lastModifiedBy>N Holden</cp:lastModifiedBy>
  <dcterms:modified xsi:type="dcterms:W3CDTF">2009-03-03T13:02:33Z</dcterms:modified>
  <cp:revision>4</cp:revision>
  <dc:subject/>
  <dc:title>L.O. Revise for test on Thursday</dc:title>
</cp:coreProperties>
</file>